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9DC-1C1C-4165-9DA3-498532CB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74DC-08E3-436D-AAC6-B4AB039D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A2D8-99C0-4DD9-8285-4F38A0F1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B760-7662-4E7D-A5B8-90ABDEE6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9AA5-782C-43B1-B6E4-96CBBB74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7B9B-02B3-449A-92CC-736061AA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A85B-7014-47AB-B5F0-F41DD5D5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6981-0DC1-41C4-B1AF-E04F7FF2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184B-02B8-444D-8FCE-8A99AF36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8E74-731A-4C6A-8483-470F279C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EA09-3028-40B2-BB71-E4C7DB0C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C5E-18C3-464A-8FE0-70547AC7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645A-E58B-4BC0-A0DC-8425D0B3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9639-55D1-4D92-9C8A-B700AE3F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D1E9-3B14-4441-9284-314DC732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C552-5D77-4660-A8C2-23D5B6CC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9AAF-100F-413C-A489-1090F7D4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0D0-AFF5-42E2-9C22-CB39CD3A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C372-4075-4A83-B2AC-BE60D79C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6047-28C5-444D-9584-6BB304FE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FA14-1D18-423D-81C0-F25D6799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E11-F55B-4A9A-9A7A-C77BBAD8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3201-860F-4272-9DE5-1458928A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AFFE-FAC1-42CE-9423-3E1C4FC4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A01F-B16C-4BA3-A186-159FA3F98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2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492C-0FA6-4240-8E85-9E53F5E03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270000" y="-4680"/>
            <a:ext cx="10171080" cy="6883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0440" y="966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Materials Science and Engineering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21400" y="361800"/>
            <a:ext cx="2343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rsten Staed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10640" y="2733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18320" y="2533680"/>
            <a:ext cx="3047400" cy="3385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ter term 2006/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ctu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0-10.0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 PB H/010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rc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30-12.0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 PB H/01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3680" y="2158920"/>
            <a:ext cx="8432640" cy="39877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Atomic Model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375080" y="2165400"/>
            <a:ext cx="6996240" cy="39751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521560" y="2006640"/>
            <a:ext cx="2908440" cy="4470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040" y="162864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els Boh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99560" y="165420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ve-mechanical mode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14000" y="51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34200" y="5121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53240" y="5121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81800" y="432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89400" y="4448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7040" y="46641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435560" y="1281240"/>
            <a:ext cx="3954240" cy="5091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49640" y="6156360"/>
            <a:ext cx="76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uli princi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electron state can hold no more than two electrons of opposite spi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Wave mechanical model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8436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electron is characterized by 4 parameters, so called quantum numb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ciple quantum number n (1, 2, 3, 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quantum number l (subshell) (s, p, d, or 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quantum number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energy states in a given subshel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=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1 state, =p → 3 states, =d → 5 states, =f → 7 st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in moment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each state may have two spin orien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9760" y="4795920"/>
            <a:ext cx="76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ample of an electron configuration: Sodium (ground sta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43400" y="547704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s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s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p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s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8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96920" y="1603440"/>
            <a:ext cx="8744040" cy="4618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79560" y="5232240"/>
            <a:ext cx="6654960" cy="9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32640" y="1778040"/>
            <a:ext cx="495360" cy="290844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62840" y="2273400"/>
            <a:ext cx="495360" cy="242568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85080" y="2273400"/>
            <a:ext cx="977760" cy="96516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02320" y="2273400"/>
            <a:ext cx="482760" cy="1447560"/>
          </a:xfrm>
          <a:prstGeom prst="rect">
            <a:avLst/>
          </a:prstGeom>
          <a:solidFill>
            <a:srgbClr val="ffca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9920" y="2273400"/>
            <a:ext cx="482400" cy="469800"/>
          </a:xfrm>
          <a:prstGeom prst="rect">
            <a:avLst/>
          </a:prstGeom>
          <a:solidFill>
            <a:srgbClr val="ffca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72480" y="3238560"/>
            <a:ext cx="977760" cy="469800"/>
          </a:xfrm>
          <a:prstGeom prst="rect">
            <a:avLst/>
          </a:prstGeom>
          <a:solidFill>
            <a:srgbClr val="ffca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54880" y="3733920"/>
            <a:ext cx="482760" cy="469800"/>
          </a:xfrm>
          <a:prstGeom prst="rect">
            <a:avLst/>
          </a:prstGeom>
          <a:solidFill>
            <a:srgbClr val="ffca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000" y="551484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6800" y="543888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NME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05080" y="4930920"/>
            <a:ext cx="24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870600" y="3683160"/>
            <a:ext cx="355680" cy="1282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8343720" y="4660920"/>
            <a:ext cx="228600" cy="853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676520" y="1333080"/>
            <a:ext cx="0" cy="1244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01720" y="2590920"/>
            <a:ext cx="16002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94240" y="181620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creasing electronega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96920" y="1273320"/>
            <a:ext cx="8744040" cy="4617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17440" y="4876920"/>
            <a:ext cx="8666280" cy="13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926360" y="2916360"/>
            <a:ext cx="2232000" cy="2166120"/>
            <a:chOff x="1926360" y="2916360"/>
            <a:chExt cx="2232000" cy="2166120"/>
          </a:xfrm>
        </p:grpSpPr>
        <p:sp>
          <p:nvSpPr>
            <p:cNvPr id="203" name=""/>
            <p:cNvSpPr/>
            <p:nvPr/>
          </p:nvSpPr>
          <p:spPr>
            <a:xfrm>
              <a:off x="1926360" y="462276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1 Ferrous Alloy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84520" y="2916360"/>
              <a:ext cx="493560" cy="495360"/>
            </a:xfrm>
            <a:prstGeom prst="rect">
              <a:avLst/>
            </a:prstGeom>
            <a:noFill/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294160" y="4579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95160" y="2401920"/>
            <a:ext cx="5833080" cy="3031560"/>
            <a:chOff x="695160" y="2401920"/>
            <a:chExt cx="5833080" cy="3031560"/>
          </a:xfrm>
        </p:grpSpPr>
        <p:sp>
          <p:nvSpPr>
            <p:cNvPr id="207" name=""/>
            <p:cNvSpPr/>
            <p:nvPr/>
          </p:nvSpPr>
          <p:spPr>
            <a:xfrm>
              <a:off x="6014880" y="2416320"/>
              <a:ext cx="493920" cy="495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21680" y="4973760"/>
              <a:ext cx="46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2 Non-Ferrous Alloys (light-weight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95160" y="2401920"/>
              <a:ext cx="465120" cy="495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52400" y="2917800"/>
              <a:ext cx="493920" cy="495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633760" y="2908440"/>
            <a:ext cx="4798080" cy="2521800"/>
            <a:chOff x="2633760" y="2908440"/>
            <a:chExt cx="4798080" cy="2521800"/>
          </a:xfrm>
        </p:grpSpPr>
        <p:sp>
          <p:nvSpPr>
            <p:cNvPr id="212" name=""/>
            <p:cNvSpPr/>
            <p:nvPr/>
          </p:nvSpPr>
          <p:spPr>
            <a:xfrm>
              <a:off x="6402240" y="4970520"/>
              <a:ext cx="10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66"/>
                  </a:solidFill>
                  <a:latin typeface="Times New Roman"/>
                </a:rPr>
                <a:t>others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51160" y="3381480"/>
              <a:ext cx="479160" cy="493560"/>
            </a:xfrm>
            <a:prstGeom prst="rect">
              <a:avLst/>
            </a:prstGeom>
            <a:noFill/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57640" y="2908440"/>
              <a:ext cx="479160" cy="493560"/>
            </a:xfrm>
            <a:prstGeom prst="rect">
              <a:avLst/>
            </a:prstGeom>
            <a:noFill/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45080" y="2909880"/>
              <a:ext cx="479160" cy="484200"/>
            </a:xfrm>
            <a:prstGeom prst="rect">
              <a:avLst/>
            </a:prstGeom>
            <a:noFill/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51120" y="3879720"/>
              <a:ext cx="479160" cy="493920"/>
            </a:xfrm>
            <a:prstGeom prst="rect">
              <a:avLst/>
            </a:prstGeom>
            <a:noFill/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52960" y="3887640"/>
              <a:ext cx="479160" cy="493920"/>
            </a:xfrm>
            <a:prstGeom prst="rect">
              <a:avLst/>
            </a:prstGeom>
            <a:noFill/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66960" y="2913120"/>
              <a:ext cx="479160" cy="493560"/>
            </a:xfrm>
            <a:prstGeom prst="rect">
              <a:avLst/>
            </a:prstGeom>
            <a:noFill/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09760" y="2914560"/>
              <a:ext cx="479160" cy="493920"/>
            </a:xfrm>
            <a:prstGeom prst="rect">
              <a:avLst/>
            </a:prstGeom>
            <a:noFill/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33760" y="3876840"/>
              <a:ext cx="479160" cy="493560"/>
            </a:xfrm>
            <a:prstGeom prst="rect">
              <a:avLst/>
            </a:prstGeom>
            <a:noFill/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00880" y="3887640"/>
              <a:ext cx="478800" cy="493920"/>
            </a:xfrm>
            <a:prstGeom prst="rect">
              <a:avLst/>
            </a:prstGeom>
            <a:noFill/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00880" y="3392640"/>
              <a:ext cx="478800" cy="493560"/>
            </a:xfrm>
            <a:prstGeom prst="rect">
              <a:avLst/>
            </a:prstGeom>
            <a:noFill/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668600" y="1949400"/>
            <a:ext cx="6284880" cy="3871440"/>
            <a:chOff x="1668600" y="1949400"/>
            <a:chExt cx="6284880" cy="3871440"/>
          </a:xfrm>
        </p:grpSpPr>
        <p:sp>
          <p:nvSpPr>
            <p:cNvPr id="224" name=""/>
            <p:cNvSpPr/>
            <p:nvPr/>
          </p:nvSpPr>
          <p:spPr>
            <a:xfrm>
              <a:off x="1924200" y="5361120"/>
              <a:ext cx="460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Times New Roman"/>
                </a:rPr>
                <a:t>3 Ceramics and Carbon Compound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02360" y="1949400"/>
              <a:ext cx="479520" cy="463680"/>
            </a:xfrm>
            <a:prstGeom prst="rect">
              <a:avLst/>
            </a:prstGeom>
            <a:noFill/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73960" y="1954080"/>
              <a:ext cx="479520" cy="463680"/>
            </a:xfrm>
            <a:prstGeom prst="rect">
              <a:avLst/>
            </a:prstGeom>
            <a:noFill/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6031080" y="1969920"/>
              <a:ext cx="965160" cy="942840"/>
              <a:chOff x="6031080" y="1969920"/>
              <a:chExt cx="965160" cy="942840"/>
            </a:xfrm>
          </p:grpSpPr>
          <p:sp>
            <p:nvSpPr>
              <p:cNvPr id="228" name=""/>
              <p:cNvSpPr/>
              <p:nvPr/>
            </p:nvSpPr>
            <p:spPr>
              <a:xfrm>
                <a:off x="6502680" y="1969920"/>
                <a:ext cx="479520" cy="463680"/>
              </a:xfrm>
              <a:prstGeom prst="rect">
                <a:avLst/>
              </a:prstGeom>
              <a:noFill/>
              <a:ln w="381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517080" y="2449440"/>
                <a:ext cx="479160" cy="463320"/>
              </a:xfrm>
              <a:prstGeom prst="rect">
                <a:avLst/>
              </a:prstGeom>
              <a:noFill/>
              <a:ln w="381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031080" y="2441520"/>
                <a:ext cx="479520" cy="463320"/>
              </a:xfrm>
              <a:prstGeom prst="rect">
                <a:avLst/>
              </a:prstGeom>
              <a:noFill/>
              <a:ln w="381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1668600" y="3411360"/>
              <a:ext cx="479160" cy="463680"/>
            </a:xfrm>
            <a:prstGeom prst="rect">
              <a:avLst/>
            </a:prstGeom>
            <a:noFill/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33760" y="3402000"/>
              <a:ext cx="479160" cy="463680"/>
            </a:xfrm>
            <a:prstGeom prst="rect">
              <a:avLst/>
            </a:prstGeom>
            <a:noFill/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17440" y="1450800"/>
            <a:ext cx="6772320" cy="4706280"/>
            <a:chOff x="217440" y="1450800"/>
            <a:chExt cx="6772320" cy="4706280"/>
          </a:xfrm>
        </p:grpSpPr>
        <p:sp>
          <p:nvSpPr>
            <p:cNvPr id="234" name=""/>
            <p:cNvSpPr/>
            <p:nvPr/>
          </p:nvSpPr>
          <p:spPr>
            <a:xfrm>
              <a:off x="1924200" y="5697360"/>
              <a:ext cx="15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4 Polym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7440" y="1450800"/>
              <a:ext cx="479520" cy="4939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10240" y="1938240"/>
              <a:ext cx="479520" cy="4939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72600" y="6276960"/>
            <a:ext cx="83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ups I,II (s) III,IV,V,VI,VII,0 (p) (number of valence electr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000" y="787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1520" y="723960"/>
            <a:ext cx="0" cy="825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6440" y="6350040"/>
            <a:ext cx="7239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Break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 lecture will cov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nding in sol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e of crystal sol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Organization of the Cours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6920" y="1204920"/>
            <a:ext cx="4563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Lectur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 hours per week – ppt slides + blackbo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91000" y="2087640"/>
            <a:ext cx="459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Exercise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 hours per week – questions and probl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be solved in the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70480" y="3473280"/>
            <a:ext cx="727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Examination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ject work + presentation (small groups) approx. 3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ritten exam (2 hours) at the end of the term (February) approx. 7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01440" y="4548240"/>
            <a:ext cx="548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xtbook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.D. Callister, Materials Science and Engineeri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 Introduction, Wiley 2003 (library: 85 ZLI 205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2160" y="5676840"/>
            <a:ext cx="689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Questions &amp; Problems/project work (Studienarbeit)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r. T. Staedler, PB H002/e-mail: thorsten.staedler@uni-siegen.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esentation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7320" y="1517760"/>
            <a:ext cx="736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groups (3 peop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ject has to be subdivi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liminary discussion (Novemb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rox. 6 pages paper (template will be availab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 minutes presentations (+10min discussion, end of 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4800" y="3819600"/>
            <a:ext cx="4074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jec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iomateri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icro-electro-mechanical systems M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nostructures/Nanocomposite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ar protection of cutting too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Objective of the Cours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85720" y="1603440"/>
            <a:ext cx="8029440" cy="825480"/>
            <a:chOff x="585720" y="1603440"/>
            <a:chExt cx="8029440" cy="825480"/>
          </a:xfrm>
        </p:grpSpPr>
        <p:sp>
          <p:nvSpPr>
            <p:cNvPr id="100" name=""/>
            <p:cNvSpPr/>
            <p:nvPr/>
          </p:nvSpPr>
          <p:spPr>
            <a:xfrm>
              <a:off x="916560" y="1603440"/>
              <a:ext cx="7698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ovide basics in materials physics to understand the materi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ehavior, i.e. microstructural changes, during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5720" y="1770120"/>
              <a:ext cx="231840" cy="21888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85720" y="2800440"/>
            <a:ext cx="7038000" cy="825480"/>
            <a:chOff x="585720" y="2800440"/>
            <a:chExt cx="7038000" cy="825480"/>
          </a:xfrm>
        </p:grpSpPr>
        <p:sp>
          <p:nvSpPr>
            <p:cNvPr id="103" name=""/>
            <p:cNvSpPr/>
            <p:nvPr/>
          </p:nvSpPr>
          <p:spPr>
            <a:xfrm>
              <a:off x="917280" y="2800440"/>
              <a:ext cx="6706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nable students to select appropriated materials from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fferent classes for given application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5720" y="2967120"/>
              <a:ext cx="231840" cy="21888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85720" y="4108320"/>
            <a:ext cx="7231680" cy="1191240"/>
            <a:chOff x="585720" y="4108320"/>
            <a:chExt cx="7231680" cy="1191240"/>
          </a:xfrm>
        </p:grpSpPr>
        <p:sp>
          <p:nvSpPr>
            <p:cNvPr id="106" name=""/>
            <p:cNvSpPr/>
            <p:nvPr/>
          </p:nvSpPr>
          <p:spPr>
            <a:xfrm>
              <a:off x="918720" y="4108320"/>
              <a:ext cx="689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nable students to apply suitable material testing and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haracterization procedures to support the engineering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esign proces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5720" y="4202280"/>
              <a:ext cx="231840" cy="21888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ent 1st lectur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21600" y="1522440"/>
            <a:ext cx="448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Introduction to materials scien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materials 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23760" y="2844720"/>
            <a:ext cx="40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Atomic Structure of Mate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60920" y="1282680"/>
            <a:ext cx="2133720" cy="529596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Historic Developmen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28800" y="163656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ne age (100000 B.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28800" y="2475000"/>
            <a:ext cx="30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onze age (3000 B.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41000" y="200988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ols, weap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28800" y="1422360"/>
            <a:ext cx="0" cy="505476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2120" y="1362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08440" y="171756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96560" y="23526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96560" y="28479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28800" y="350352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on age (1500 B.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960" y="36734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28440" y="416412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ddle ages (1500 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57320" y="42069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t i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00400" y="3787920"/>
            <a:ext cx="216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ortation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ustria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07720" y="20098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3960" y="324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924480" y="4867200"/>
            <a:ext cx="7476840" cy="1727280"/>
            <a:chOff x="924480" y="4867200"/>
            <a:chExt cx="7476840" cy="1727280"/>
          </a:xfrm>
        </p:grpSpPr>
        <p:sp>
          <p:nvSpPr>
            <p:cNvPr id="129" name=""/>
            <p:cNvSpPr/>
            <p:nvPr/>
          </p:nvSpPr>
          <p:spPr>
            <a:xfrm>
              <a:off x="6777360" y="5718240"/>
              <a:ext cx="162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form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chnolog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4480" y="4976640"/>
              <a:ext cx="36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odern times (20th century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4480" y="5700600"/>
              <a:ext cx="36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odern times (21th century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95840" y="4981680"/>
              <a:ext cx="21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 alloys (1930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95480" y="5337000"/>
              <a:ext cx="220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lymers (1940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69200" y="5769000"/>
              <a:ext cx="209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miconducto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955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16600" y="4867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erospac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135080" y="1996920"/>
            <a:ext cx="3323880" cy="4549320"/>
            <a:chOff x="1135080" y="1996920"/>
            <a:chExt cx="3323880" cy="4549320"/>
          </a:xfrm>
        </p:grpSpPr>
        <p:sp>
          <p:nvSpPr>
            <p:cNvPr id="137" name=""/>
            <p:cNvSpPr/>
            <p:nvPr/>
          </p:nvSpPr>
          <p:spPr>
            <a:xfrm>
              <a:off x="1148400" y="1996920"/>
              <a:ext cx="222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natural materia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35080" y="2949480"/>
              <a:ext cx="29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empirical develop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7320" y="5362560"/>
              <a:ext cx="327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quantitative develop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8040" y="6086520"/>
              <a:ext cx="331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imes New Roman"/>
                </a:rPr>
                <a:t>nanoengineered materia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aterials science and engineering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04880" y="2720880"/>
            <a:ext cx="7432200" cy="459720"/>
            <a:chOff x="704880" y="2720880"/>
            <a:chExt cx="7432200" cy="459720"/>
          </a:xfrm>
        </p:grpSpPr>
        <p:sp>
          <p:nvSpPr>
            <p:cNvPr id="143" name=""/>
            <p:cNvSpPr/>
            <p:nvPr/>
          </p:nvSpPr>
          <p:spPr>
            <a:xfrm>
              <a:off x="704880" y="2720880"/>
              <a:ext cx="1509480" cy="45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cess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66800" y="2720880"/>
              <a:ext cx="1509120" cy="45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ructu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25840" y="2720880"/>
              <a:ext cx="1509120" cy="45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pert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76600" y="2720880"/>
              <a:ext cx="1860480" cy="459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rforman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730520" y="3763800"/>
            <a:ext cx="537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68040" y="421632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ear interrelation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aterials classific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24160" y="2271600"/>
            <a:ext cx="3330360" cy="29656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86160" y="1736640"/>
            <a:ext cx="13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r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1760" y="491184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9360" y="491184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06160" y="38386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mpos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30680" y="301788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micondu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4280" y="601200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biomate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17400" y="1736640"/>
            <a:ext cx="2614680" cy="1922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term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d mate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rt mate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n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2 Atomic Structure of Material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715000" cy="4532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892120" y="5367240"/>
            <a:ext cx="951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0" y="578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36440" y="6211800"/>
            <a:ext cx="37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-Resolution TEM micrograp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0:40:19Z</dcterms:created>
  <dc:creator>Student</dc:creator>
  <dc:description/>
  <dc:language>en-US</dc:language>
  <cp:lastModifiedBy>gk481</cp:lastModifiedBy>
  <dcterms:modified xsi:type="dcterms:W3CDTF">2006-10-23T05:26:47Z</dcterms:modified>
  <cp:revision>70</cp:revision>
  <dc:subject/>
  <dc:title>Rasterelektronenmikroskopie</dc:title>
</cp:coreProperties>
</file>