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D2E-5CB9-4009-B889-BD87161C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BB1-A273-41B0-BEEE-D4DA7985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BE3-D25C-43B5-853F-D821EDAA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9C9-3D48-48D9-B118-BAC464C1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689-F514-453A-B319-7ADEE3FC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16C2-73AA-4E0D-B428-0045384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EE17-4E84-4328-B9E2-9B0D17B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81C2-F6E9-42C3-9A0F-3E80E69F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9698-E13C-4AE1-8677-4C9A2EFE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BA55-CCBE-487E-9E64-4BAB760A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835-678A-4DDB-9E76-1A15D164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CA4-79AE-43D9-9D68-7F3CE37E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DB9-7D83-44D9-ACF7-A5BABDE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638C-ADA5-4AE3-8346-09E53401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22A0-AF19-430A-8CC2-201A0DEF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BE62-E934-4688-A0C8-0B8BD279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9E18-E80B-46E3-873B-222DFFFD7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4F8-446F-4825-9D55-72D5967C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CB5-C160-44E4-8720-2E2893D3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E37-5C2D-4B5F-A70B-4741DB51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84E-1166-42FE-AA7A-BFA2C45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3B5-118E-465F-98DF-D188CB6D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94F-AB1B-492F-BEB9-0A9417AC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12B-FA92-4E1E-A796-E05DBF86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08F-40DA-43C0-A5BB-A2C525807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9E06-3ECA-40D3-8A3E-D9B9B2CE2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mposi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lectrochemical Corro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60480" y="1022400"/>
            <a:ext cx="56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rox. 5% of a nations income is spent on corro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st, HT corrosion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7720" y="1211400"/>
            <a:ext cx="1068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16080" y="2127240"/>
            <a:ext cx="4829040" cy="1313640"/>
            <a:chOff x="316080" y="2127240"/>
            <a:chExt cx="4829040" cy="1313640"/>
          </a:xfrm>
        </p:grpSpPr>
        <p:sp>
          <p:nvSpPr>
            <p:cNvPr id="133" name=""/>
            <p:cNvSpPr/>
            <p:nvPr/>
          </p:nvSpPr>
          <p:spPr>
            <a:xfrm>
              <a:off x="316080" y="2127240"/>
              <a:ext cx="4829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xidation reactions – metal gives up electron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n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nodic rea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400" y="2633760"/>
              <a:ext cx="534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16080" y="3537000"/>
            <a:ext cx="5362560" cy="1355400"/>
            <a:chOff x="316080" y="3537000"/>
            <a:chExt cx="5362560" cy="1355400"/>
          </a:xfrm>
        </p:grpSpPr>
        <p:sp>
          <p:nvSpPr>
            <p:cNvPr id="136" name=""/>
            <p:cNvSpPr/>
            <p:nvPr/>
          </p:nvSpPr>
          <p:spPr>
            <a:xfrm>
              <a:off x="316080" y="3537000"/>
              <a:ext cx="53625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duction reactions –  species accepts electron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n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H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2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 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thodic rea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08240" y="4043520"/>
              <a:ext cx="534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8240" y="4335480"/>
              <a:ext cx="534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234040" y="1525680"/>
            <a:ext cx="3738600" cy="45655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03040" y="2798640"/>
            <a:ext cx="4902480" cy="3067200"/>
            <a:chOff x="203040" y="2798640"/>
            <a:chExt cx="4902480" cy="3067200"/>
          </a:xfrm>
        </p:grpSpPr>
        <p:sp>
          <p:nvSpPr>
            <p:cNvPr id="141" name=""/>
            <p:cNvSpPr/>
            <p:nvPr/>
          </p:nvSpPr>
          <p:spPr>
            <a:xfrm flipH="1">
              <a:off x="1155600" y="2798640"/>
              <a:ext cx="812880" cy="1143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3040" y="4665240"/>
              <a:ext cx="254160" cy="33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9800" y="4995720"/>
              <a:ext cx="4368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838760" y="4678200"/>
              <a:ext cx="2667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63840" y="499572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3040" y="5466960"/>
              <a:ext cx="46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lectrochemical reaction: two half re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76200" y="1312920"/>
            <a:ext cx="8767800" cy="4984200"/>
            <a:chOff x="376200" y="1312920"/>
            <a:chExt cx="8767800" cy="4984200"/>
          </a:xfrm>
        </p:grpSpPr>
        <p:sp>
          <p:nvSpPr>
            <p:cNvPr id="148" name=""/>
            <p:cNvSpPr/>
            <p:nvPr/>
          </p:nvSpPr>
          <p:spPr>
            <a:xfrm>
              <a:off x="376200" y="5856480"/>
              <a:ext cx="4586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.g. Zn=&gt;Zn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2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-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2H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 2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&gt;H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ga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32240" y="1503360"/>
              <a:ext cx="2044800" cy="4749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21360" y="1312920"/>
              <a:ext cx="2222640" cy="1536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560" y="5378400"/>
            <a:ext cx="8565480" cy="1684800"/>
            <a:chOff x="7560" y="5378400"/>
            <a:chExt cx="8565480" cy="1684800"/>
          </a:xfrm>
        </p:grpSpPr>
        <p:sp>
          <p:nvSpPr>
            <p:cNvPr id="152" name=""/>
            <p:cNvSpPr/>
            <p:nvPr/>
          </p:nvSpPr>
          <p:spPr>
            <a:xfrm>
              <a:off x="7560" y="6054480"/>
              <a:ext cx="5805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alvanic couple: F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Zn=&gt;Fe+Zn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: potential: 0.323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ut:             Cu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+Fe=&gt;Cu+Fe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+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: potential: 0.780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8720" y="5378400"/>
              <a:ext cx="117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corrod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an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22840" y="55051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cath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47720" y="1501920"/>
          <a:ext cx="2903400" cy="42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501920"/>
                    <a:ext cx="2903400" cy="42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Arial"/>
              </a:rPr>
              <a:t>Standard Hydrogen Reference Half-Cell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11800" y="4815000"/>
            <a:ext cx="1550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g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680" y="5899320"/>
            <a:ext cx="62265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M solution of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ons saturated with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as at 25°C/1atm 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ole/1000cm³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133720" y="2869920"/>
            <a:ext cx="1726920" cy="533160"/>
          </a:xfrm>
          <a:prstGeom prst="line">
            <a:avLst/>
          </a:prstGeom>
          <a:ln w="93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83400" y="2617920"/>
            <a:ext cx="3512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t surfac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“oxidation“ anodic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“reduction“ cathodic re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365640" y="1117440"/>
            <a:ext cx="5778360" cy="4613040"/>
            <a:chOff x="3365640" y="1117440"/>
            <a:chExt cx="5778360" cy="4613040"/>
          </a:xfrm>
        </p:grpSpPr>
        <p:grpSp>
          <p:nvGrpSpPr>
            <p:cNvPr id="163" name=""/>
            <p:cNvGrpSpPr/>
            <p:nvPr/>
          </p:nvGrpSpPr>
          <p:grpSpPr>
            <a:xfrm>
              <a:off x="3365640" y="1476000"/>
              <a:ext cx="5778360" cy="4254480"/>
              <a:chOff x="3365640" y="1476000"/>
              <a:chExt cx="5778360" cy="425448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3365640" y="1476000"/>
              <a:ext cx="5778360" cy="425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65640" y="1476000"/>
                        <a:ext cx="5778360" cy="425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5448240" y="3198240"/>
                <a:ext cx="3225960" cy="228600"/>
              </a:xfrm>
              <a:prstGeom prst="rect">
                <a:avLst/>
              </a:prstGeom>
              <a:noFill/>
              <a:ln w="936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458520" y="1117440"/>
              <a:ext cx="28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lectromotive force s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0720" y="1106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080" y="1131840"/>
            <a:ext cx="28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sceptibility to corro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ron Corrosion - Rust 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46240" y="1373040"/>
            <a:ext cx="6815160" cy="299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6280" y="3201840"/>
            <a:ext cx="56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0680" y="3176640"/>
            <a:ext cx="56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7040" y="5159520"/>
            <a:ext cx="649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 Fe+1/2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=&gt;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2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&gt;Fe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93840" y="5769000"/>
            <a:ext cx="5746680" cy="989280"/>
            <a:chOff x="1293840" y="5769000"/>
            <a:chExt cx="5746680" cy="989280"/>
          </a:xfrm>
        </p:grpSpPr>
        <p:sp>
          <p:nvSpPr>
            <p:cNvPr id="176" name=""/>
            <p:cNvSpPr/>
            <p:nvPr/>
          </p:nvSpPr>
          <p:spPr>
            <a:xfrm>
              <a:off x="1293840" y="5769000"/>
              <a:ext cx="574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(2) 2Fe(OH)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+1/2O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+H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O=&gt;</a:t>
              </a:r>
              <a:r>
                <a:rPr b="1" lang="en-US" sz="2800" spc="-1" strike="noStrike">
                  <a:solidFill>
                    <a:srgbClr val="ff9900"/>
                  </a:solidFill>
                  <a:latin typeface="Times New Roman"/>
                </a:rPr>
                <a:t>2Fe(OH)</a:t>
              </a:r>
              <a:r>
                <a:rPr b="1" lang="en-US" sz="2800" spc="-1" strike="noStrike" baseline="-25000">
                  <a:solidFill>
                    <a:srgbClr val="ff99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0560" y="6176880"/>
              <a:ext cx="126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Times New Roman"/>
                </a:rPr>
                <a:t>RU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438280" y="4713120"/>
            <a:ext cx="3759480" cy="1052640"/>
            <a:chOff x="2438280" y="4713120"/>
            <a:chExt cx="3759480" cy="1052640"/>
          </a:xfrm>
        </p:grpSpPr>
        <p:sp>
          <p:nvSpPr>
            <p:cNvPr id="179" name=""/>
            <p:cNvSpPr/>
            <p:nvPr/>
          </p:nvSpPr>
          <p:spPr>
            <a:xfrm>
              <a:off x="2438280" y="5118120"/>
              <a:ext cx="1765440" cy="6476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54360" y="4713120"/>
              <a:ext cx="15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cathodic(+e</a:t>
              </a:r>
              <a:r>
                <a:rPr b="0" lang="en-US" sz="2000" spc="-1" strike="noStrike" baseline="30000">
                  <a:solidFill>
                    <a:srgbClr val="ffff00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72280" y="5105520"/>
              <a:ext cx="825480" cy="6476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90640" y="4726080"/>
            <a:ext cx="4057920" cy="1039680"/>
            <a:chOff x="1790640" y="4726080"/>
            <a:chExt cx="4057920" cy="1039680"/>
          </a:xfrm>
        </p:grpSpPr>
        <p:sp>
          <p:nvSpPr>
            <p:cNvPr id="183" name=""/>
            <p:cNvSpPr/>
            <p:nvPr/>
          </p:nvSpPr>
          <p:spPr>
            <a:xfrm>
              <a:off x="1790640" y="5118120"/>
              <a:ext cx="469800" cy="647640"/>
            </a:xfrm>
            <a:prstGeom prst="rect">
              <a:avLst/>
            </a:prstGeom>
            <a:noFill/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06840" y="4726080"/>
              <a:ext cx="134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anodic (-e</a:t>
              </a:r>
              <a:r>
                <a:rPr b="0" lang="en-US" sz="2000" spc="-1" strike="noStrike" baseline="30000">
                  <a:solidFill>
                    <a:srgbClr val="ff0033"/>
                  </a:solidFill>
                  <a:latin typeface="Times New Roman"/>
                </a:rPr>
                <a:t>-</a:t>
              </a: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6440" y="5118120"/>
              <a:ext cx="648000" cy="647640"/>
            </a:xfrm>
            <a:prstGeom prst="rect">
              <a:avLst/>
            </a:prstGeom>
            <a:noFill/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9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orms of Corro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6560" y="1565280"/>
            <a:ext cx="4534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form at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the entire surface (steel componen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predic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2975040"/>
            <a:ext cx="8532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l corrosion /intercrystalline corrosion – pitting/crecive corro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ttle material lo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initiated by localized surface de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stainless steels are prone to pit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oncentration differences in electrol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" y="5006880"/>
            <a:ext cx="5495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ss corrosion / erosion corro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ack growth enhanced by corros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wear + corrosion -&gt; protection becomes ineff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838760" y="3149640"/>
            <a:ext cx="4305240" cy="1511280"/>
            <a:chOff x="4838760" y="3149640"/>
            <a:chExt cx="4305240" cy="1511280"/>
          </a:xfrm>
        </p:grpSpPr>
        <p:graphicFrame>
          <p:nvGraphicFramePr>
            <p:cNvPr id="191" name=""/>
            <p:cNvGraphicFramePr/>
            <p:nvPr/>
          </p:nvGraphicFramePr>
          <p:xfrm>
            <a:off x="4838760" y="3505320"/>
            <a:ext cx="4305240" cy="1155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38760" y="3505320"/>
                      <a:ext cx="430524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8940960" y="314964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12920" y="922320"/>
            <a:ext cx="8731080" cy="5935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rrosion Protec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4080" y="1378080"/>
            <a:ext cx="8247600" cy="3433680"/>
            <a:chOff x="244080" y="1378080"/>
            <a:chExt cx="8247600" cy="34336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4672080" y="1378080"/>
              <a:ext cx="3819600" cy="34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44080" y="1868400"/>
              <a:ext cx="34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galvanic protection – Zn coa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54520" y="2363760"/>
            <a:ext cx="6033240" cy="3948120"/>
            <a:chOff x="254520" y="2363760"/>
            <a:chExt cx="6033240" cy="3948120"/>
          </a:xfrm>
        </p:grpSpPr>
        <p:sp>
          <p:nvSpPr>
            <p:cNvPr id="200" name=""/>
            <p:cNvSpPr/>
            <p:nvPr/>
          </p:nvSpPr>
          <p:spPr>
            <a:xfrm>
              <a:off x="254520" y="2363760"/>
              <a:ext cx="405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athodic protection (sacrificial anod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2471400" y="3763800"/>
              <a:ext cx="3816360" cy="254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241920" y="2820960"/>
            <a:ext cx="38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atings/inhibitors (paint, enamel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3080" y="3227400"/>
            <a:ext cx="38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rrosion.protection-oriented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igh Temperature Corro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97160" y="3854520"/>
            <a:ext cx="1440" cy="1404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00280" y="3510000"/>
            <a:ext cx="7920" cy="126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34960" y="3510000"/>
            <a:ext cx="5040" cy="12600"/>
          </a:xfrm>
          <a:prstGeom prst="rect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360" y="1563840"/>
            <a:ext cx="183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+1/2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&gt;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8280" y="2046240"/>
            <a:ext cx="331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gt;50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te is determined by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ough s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419720" y="1600200"/>
            <a:ext cx="4178160" cy="3530520"/>
            <a:chOff x="4419720" y="1600200"/>
            <a:chExt cx="4178160" cy="3530520"/>
          </a:xfrm>
        </p:grpSpPr>
        <p:sp>
          <p:nvSpPr>
            <p:cNvPr id="211" name=""/>
            <p:cNvSpPr/>
            <p:nvPr/>
          </p:nvSpPr>
          <p:spPr>
            <a:xfrm>
              <a:off x="4419720" y="1600200"/>
              <a:ext cx="4178160" cy="353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4795920" y="3641760"/>
              <a:ext cx="2851200" cy="1165320"/>
              <a:chOff x="4795920" y="3641760"/>
              <a:chExt cx="2851200" cy="1165320"/>
            </a:xfrm>
          </p:grpSpPr>
          <p:sp>
            <p:nvSpPr>
              <p:cNvPr id="213" name=""/>
              <p:cNvSpPr/>
              <p:nvPr/>
            </p:nvSpPr>
            <p:spPr>
              <a:xfrm>
                <a:off x="4795920" y="4799160"/>
                <a:ext cx="2851200" cy="7920"/>
              </a:xfrm>
              <a:prstGeom prst="rect">
                <a:avLst/>
              </a:pr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95920" y="4794120"/>
                <a:ext cx="2851200" cy="12960"/>
              </a:xfrm>
              <a:prstGeom prst="rect">
                <a:avLst/>
              </a:pr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95920" y="4789440"/>
                <a:ext cx="2851200" cy="9720"/>
              </a:xfrm>
              <a:prstGeom prst="rect">
                <a:avLst/>
              </a:pr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95920" y="4781520"/>
                <a:ext cx="2851200" cy="12600"/>
              </a:xfrm>
              <a:prstGeom prst="rect">
                <a:avLst/>
              </a:pr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95920" y="4776840"/>
                <a:ext cx="2851200" cy="12600"/>
              </a:xfrm>
              <a:prstGeom prst="rect">
                <a:avLst/>
              </a:prstGeom>
              <a:solidFill>
                <a:srgbClr val="96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95920" y="4772160"/>
                <a:ext cx="2851200" cy="9360"/>
              </a:xfrm>
              <a:prstGeom prst="rect">
                <a:avLst/>
              </a:prstGeom>
              <a:solidFill>
                <a:srgbClr val="97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95920" y="4764240"/>
                <a:ext cx="2851200" cy="12600"/>
              </a:xfrm>
              <a:prstGeom prst="rect">
                <a:avLst/>
              </a:prstGeom>
              <a:solidFill>
                <a:srgbClr val="97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5920" y="4759200"/>
                <a:ext cx="2851200" cy="12960"/>
              </a:xfrm>
              <a:prstGeom prst="rect">
                <a:avLst/>
              </a:prstGeom>
              <a:solidFill>
                <a:srgbClr val="97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95920" y="4755960"/>
                <a:ext cx="2851200" cy="8280"/>
              </a:xfrm>
              <a:prstGeom prst="rect">
                <a:avLst/>
              </a:prstGeom>
              <a:solidFill>
                <a:srgbClr val="989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95920" y="4746600"/>
                <a:ext cx="2851200" cy="12600"/>
              </a:xfrm>
              <a:prstGeom prst="rect">
                <a:avLst/>
              </a:prstGeom>
              <a:solidFill>
                <a:srgbClr val="989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795920" y="4741920"/>
                <a:ext cx="2851200" cy="14040"/>
              </a:xfrm>
              <a:prstGeom prst="rect">
                <a:avLst/>
              </a:prstGeom>
              <a:solidFill>
                <a:srgbClr val="989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95920" y="4734000"/>
                <a:ext cx="2851200" cy="12600"/>
              </a:xfrm>
              <a:prstGeom prst="rect">
                <a:avLst/>
              </a:prstGeom>
              <a:solidFill>
                <a:srgbClr val="9897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95920" y="4729320"/>
                <a:ext cx="2851200" cy="12600"/>
              </a:xfrm>
              <a:prstGeom prst="rect">
                <a:avLst/>
              </a:prstGeom>
              <a:solidFill>
                <a:srgbClr val="999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95920" y="4726080"/>
                <a:ext cx="2851200" cy="7920"/>
              </a:xfrm>
              <a:prstGeom prst="rect">
                <a:avLst/>
              </a:prstGeom>
              <a:solidFill>
                <a:srgbClr val="999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95920" y="4716360"/>
                <a:ext cx="2851200" cy="12960"/>
              </a:xfrm>
              <a:prstGeom prst="rect">
                <a:avLst/>
              </a:prstGeom>
              <a:solidFill>
                <a:srgbClr val="999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95920" y="4711680"/>
                <a:ext cx="2851200" cy="14400"/>
              </a:xfrm>
              <a:prstGeom prst="rect">
                <a:avLst/>
              </a:pr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95920" y="4708440"/>
                <a:ext cx="2851200" cy="7920"/>
              </a:xfrm>
              <a:prstGeom prst="rect">
                <a:avLst/>
              </a:pr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95920" y="4699080"/>
                <a:ext cx="2851200" cy="12600"/>
              </a:xfrm>
              <a:prstGeom prst="rect">
                <a:avLst/>
              </a:prstGeom>
              <a:solidFill>
                <a:srgbClr val="9a99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95920" y="4694040"/>
                <a:ext cx="2851200" cy="14400"/>
              </a:xfrm>
              <a:prstGeom prst="rect">
                <a:avLst/>
              </a:prstGeom>
              <a:solidFill>
                <a:srgbClr val="9a9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95920" y="4691160"/>
                <a:ext cx="2851200" cy="7920"/>
              </a:xfrm>
              <a:prstGeom prst="rect">
                <a:avLst/>
              </a:prstGeom>
              <a:solidFill>
                <a:srgbClr val="9a9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95920" y="4681440"/>
                <a:ext cx="2851200" cy="12600"/>
              </a:xfrm>
              <a:prstGeom prst="rect">
                <a:avLst/>
              </a:prstGeom>
              <a:solidFill>
                <a:srgbClr val="9a9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95920" y="4678200"/>
                <a:ext cx="2851200" cy="12960"/>
              </a:xfrm>
              <a:prstGeom prst="rect">
                <a:avLst/>
              </a:prstGeom>
              <a:solidFill>
                <a:srgbClr val="9a9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795920" y="4673520"/>
                <a:ext cx="2851200" cy="7920"/>
              </a:xfrm>
              <a:prstGeom prst="rect">
                <a:avLst/>
              </a:prstGeom>
              <a:solidFill>
                <a:srgbClr val="9b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95920" y="4664160"/>
                <a:ext cx="2851200" cy="14040"/>
              </a:xfrm>
              <a:prstGeom prst="rect">
                <a:avLst/>
              </a:prstGeom>
              <a:solidFill>
                <a:srgbClr val="9b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95920" y="4660920"/>
                <a:ext cx="2851200" cy="12600"/>
              </a:xfrm>
              <a:prstGeom prst="rect">
                <a:avLst/>
              </a:prstGeom>
              <a:solidFill>
                <a:srgbClr val="9b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95920" y="4656240"/>
                <a:ext cx="2851200" cy="7920"/>
              </a:xfrm>
              <a:prstGeom prst="rect">
                <a:avLst/>
              </a:pr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95920" y="4648320"/>
                <a:ext cx="2851200" cy="12600"/>
              </a:xfrm>
              <a:prstGeom prst="rect">
                <a:avLst/>
              </a:pr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95920" y="4643280"/>
                <a:ext cx="2851200" cy="12960"/>
              </a:xfrm>
              <a:prstGeom prst="rect">
                <a:avLst/>
              </a:prstGeom>
              <a:solidFill>
                <a:srgbClr val="9c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95920" y="4638600"/>
                <a:ext cx="2851200" cy="9720"/>
              </a:xfrm>
              <a:prstGeom prst="rect">
                <a:avLst/>
              </a:prstGeom>
              <a:solidFill>
                <a:srgbClr val="9d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95920" y="4630680"/>
                <a:ext cx="2851200" cy="12600"/>
              </a:xfrm>
              <a:prstGeom prst="rect">
                <a:avLst/>
              </a:prstGeom>
              <a:solidFill>
                <a:srgbClr val="9d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95920" y="4626000"/>
                <a:ext cx="2851200" cy="12600"/>
              </a:xfrm>
              <a:prstGeom prst="rect">
                <a:avLst/>
              </a:prstGeom>
              <a:solidFill>
                <a:srgbClr val="9d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95920" y="4621320"/>
                <a:ext cx="2851200" cy="9360"/>
              </a:xfrm>
              <a:prstGeom prst="rect">
                <a:avLst/>
              </a:prstGeom>
              <a:solidFill>
                <a:srgbClr val="9d9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95920" y="4613400"/>
                <a:ext cx="2851200" cy="12600"/>
              </a:xfrm>
              <a:prstGeom prst="rect">
                <a:avLst/>
              </a:pr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95920" y="4608360"/>
                <a:ext cx="2851200" cy="12960"/>
              </a:xfrm>
              <a:prstGeom prst="rect">
                <a:avLst/>
              </a:pr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95920" y="4603680"/>
                <a:ext cx="2851200" cy="9720"/>
              </a:xfrm>
              <a:prstGeom prst="rect">
                <a:avLst/>
              </a:prstGeom>
              <a:solidFill>
                <a:srgbClr val="9e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95920" y="4595760"/>
                <a:ext cx="2851200" cy="12600"/>
              </a:xfrm>
              <a:prstGeom prst="rect">
                <a:avLst/>
              </a:pr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95920" y="4591080"/>
                <a:ext cx="2851200" cy="12600"/>
              </a:xfrm>
              <a:prstGeom prst="rect">
                <a:avLst/>
              </a:pr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95920" y="4583160"/>
                <a:ext cx="2851200" cy="12600"/>
              </a:xfrm>
              <a:prstGeom prst="rect">
                <a:avLst/>
              </a:prstGeom>
              <a:solidFill>
                <a:srgbClr val="9f9e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95920" y="4578480"/>
                <a:ext cx="2851200" cy="12600"/>
              </a:xfrm>
              <a:prstGeom prst="rect">
                <a:avLst/>
              </a:prstGeom>
              <a:solidFill>
                <a:srgbClr val="9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95920" y="4573440"/>
                <a:ext cx="2851200" cy="9720"/>
              </a:xfrm>
              <a:prstGeom prst="rect">
                <a:avLst/>
              </a:prstGeom>
              <a:solidFill>
                <a:srgbClr val="9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95920" y="4565520"/>
                <a:ext cx="2851200" cy="12960"/>
              </a:xfrm>
              <a:prstGeom prst="rect">
                <a:avLst/>
              </a:prstGeom>
              <a:solidFill>
                <a:srgbClr val="9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95920" y="4560840"/>
                <a:ext cx="2851200" cy="12600"/>
              </a:xfrm>
              <a:prstGeom prst="rect">
                <a:avLst/>
              </a:prstGeom>
              <a:solidFill>
                <a:srgbClr val="9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95920" y="4556160"/>
                <a:ext cx="2851200" cy="936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795920" y="4548240"/>
                <a:ext cx="2851200" cy="1260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795920" y="4543560"/>
                <a:ext cx="2851200" cy="12600"/>
              </a:xfrm>
              <a:prstGeom prst="rect">
                <a:avLst/>
              </a:prstGeom>
              <a:solidFill>
                <a:srgbClr val="a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95920" y="4540320"/>
                <a:ext cx="2851200" cy="7920"/>
              </a:xfrm>
              <a:prstGeom prst="rect">
                <a:avLst/>
              </a:prstGeom>
              <a:solidFill>
                <a:srgbClr val="a1a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795920" y="4530600"/>
                <a:ext cx="2851200" cy="12960"/>
              </a:xfrm>
              <a:prstGeom prst="rect">
                <a:avLst/>
              </a:prstGeom>
              <a:solidFill>
                <a:srgbClr val="a1a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95920" y="4525920"/>
                <a:ext cx="2851200" cy="14400"/>
              </a:xfrm>
              <a:prstGeom prst="rect">
                <a:avLst/>
              </a:prstGeom>
              <a:solidFill>
                <a:srgbClr val="a1a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95920" y="4522680"/>
                <a:ext cx="2851200" cy="7920"/>
              </a:xfrm>
              <a:prstGeom prst="rect">
                <a:avLst/>
              </a:pr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95920" y="4513320"/>
                <a:ext cx="2851200" cy="12600"/>
              </a:xfrm>
              <a:prstGeom prst="rect">
                <a:avLst/>
              </a:pr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95920" y="4510080"/>
                <a:ext cx="2851200" cy="12600"/>
              </a:xfrm>
              <a:prstGeom prst="rect">
                <a:avLst/>
              </a:pr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95920" y="4505400"/>
                <a:ext cx="2851200" cy="7920"/>
              </a:xfrm>
              <a:prstGeom prst="rect">
                <a:avLst/>
              </a:prstGeom>
              <a:solidFill>
                <a:srgbClr val="a2a1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795920" y="4495680"/>
                <a:ext cx="2851200" cy="14400"/>
              </a:xfrm>
              <a:prstGeom prst="rect">
                <a:avLst/>
              </a:prstGeom>
              <a:solidFill>
                <a:srgbClr val="a2a2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95920" y="4492440"/>
                <a:ext cx="2851200" cy="12960"/>
              </a:xfrm>
              <a:prstGeom prst="rect">
                <a:avLst/>
              </a:prstGeom>
              <a:solidFill>
                <a:srgbClr val="a2a2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95920" y="4487760"/>
                <a:ext cx="2851200" cy="7920"/>
              </a:xfrm>
              <a:prstGeom prst="rect">
                <a:avLst/>
              </a:prstGeom>
              <a:solidFill>
                <a:srgbClr val="a2a2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95920" y="4478400"/>
                <a:ext cx="2851200" cy="14040"/>
              </a:xfrm>
              <a:prstGeom prst="rect">
                <a:avLst/>
              </a:prstGeom>
              <a:solidFill>
                <a:srgbClr val="a3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95920" y="4475160"/>
                <a:ext cx="2851200" cy="12600"/>
              </a:xfrm>
              <a:prstGeom prst="rect">
                <a:avLst/>
              </a:prstGeom>
              <a:solidFill>
                <a:srgbClr val="a3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795920" y="4470480"/>
                <a:ext cx="2851200" cy="7920"/>
              </a:xfrm>
              <a:prstGeom prst="rect">
                <a:avLst/>
              </a:prstGeom>
              <a:solidFill>
                <a:srgbClr val="a3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95920" y="4462560"/>
                <a:ext cx="2851200" cy="12600"/>
              </a:xfrm>
              <a:prstGeom prst="rect">
                <a:avLst/>
              </a:prstGeom>
              <a:solidFill>
                <a:srgbClr val="a3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795920" y="4457520"/>
                <a:ext cx="2851200" cy="12960"/>
              </a:xfrm>
              <a:prstGeom prst="rect">
                <a:avLst/>
              </a:pr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95920" y="4452840"/>
                <a:ext cx="2851200" cy="9720"/>
              </a:xfrm>
              <a:prstGeom prst="rect">
                <a:avLst/>
              </a:pr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95920" y="4444920"/>
                <a:ext cx="2851200" cy="12600"/>
              </a:xfrm>
              <a:prstGeom prst="rect">
                <a:avLst/>
              </a:prstGeom>
              <a:solidFill>
                <a:srgbClr val="a4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95920" y="4440240"/>
                <a:ext cx="2851200" cy="12600"/>
              </a:xfrm>
              <a:prstGeom prst="rect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95920" y="4432320"/>
                <a:ext cx="2851200" cy="12600"/>
              </a:xfrm>
              <a:prstGeom prst="rect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95920" y="4427640"/>
                <a:ext cx="2851200" cy="12600"/>
              </a:xfrm>
              <a:prstGeom prst="rect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95920" y="4422600"/>
                <a:ext cx="2851200" cy="9720"/>
              </a:xfrm>
              <a:prstGeom prst="rect">
                <a:avLst/>
              </a:prstGeom>
              <a:solidFill>
                <a:srgbClr val="a6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95920" y="4414680"/>
                <a:ext cx="2851200" cy="12960"/>
              </a:xfrm>
              <a:prstGeom prst="rect">
                <a:avLst/>
              </a:prstGeom>
              <a:solidFill>
                <a:srgbClr val="a6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95920" y="4410000"/>
                <a:ext cx="2851200" cy="12600"/>
              </a:xfrm>
              <a:prstGeom prst="rect">
                <a:avLst/>
              </a:prstGeom>
              <a:solidFill>
                <a:srgbClr val="a6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795920" y="4405320"/>
                <a:ext cx="2851200" cy="9360"/>
              </a:xfrm>
              <a:prstGeom prst="rect">
                <a:avLst/>
              </a:prstGeom>
              <a:solidFill>
                <a:srgbClr val="a6a5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5920" y="4397400"/>
                <a:ext cx="2851200" cy="12600"/>
              </a:xfrm>
              <a:prstGeom prst="rect">
                <a:avLst/>
              </a:prstGeom>
              <a:solidFill>
                <a:srgbClr val="a6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95920" y="4392720"/>
                <a:ext cx="2851200" cy="12600"/>
              </a:xfrm>
              <a:prstGeom prst="rect">
                <a:avLst/>
              </a:prstGeom>
              <a:solidFill>
                <a:srgbClr val="a6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795920" y="4387680"/>
                <a:ext cx="2851200" cy="9720"/>
              </a:xfrm>
              <a:prstGeom prst="rect">
                <a:avLst/>
              </a:prstGeom>
              <a:solidFill>
                <a:srgbClr val="a6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95920" y="4379760"/>
                <a:ext cx="2851200" cy="12960"/>
              </a:xfrm>
              <a:prstGeom prst="rect">
                <a:avLst/>
              </a:prstGeom>
              <a:solidFill>
                <a:srgbClr val="a7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795920" y="4375080"/>
                <a:ext cx="2851200" cy="12600"/>
              </a:xfrm>
              <a:prstGeom prst="rect">
                <a:avLst/>
              </a:prstGeom>
              <a:solidFill>
                <a:srgbClr val="a7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95920" y="4370400"/>
                <a:ext cx="2851200" cy="9360"/>
              </a:xfrm>
              <a:prstGeom prst="rect">
                <a:avLst/>
              </a:prstGeom>
              <a:solidFill>
                <a:srgbClr val="a7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95920" y="4362480"/>
                <a:ext cx="2851200" cy="12600"/>
              </a:xfrm>
              <a:prstGeom prst="rect">
                <a:avLst/>
              </a:prstGeom>
              <a:solidFill>
                <a:srgbClr val="a8a7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95920" y="4357800"/>
                <a:ext cx="2851200" cy="12600"/>
              </a:xfrm>
              <a:prstGeom prst="rect">
                <a:avLst/>
              </a:prstGeom>
              <a:solidFill>
                <a:srgbClr val="a8a7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95920" y="4354560"/>
                <a:ext cx="2851200" cy="7920"/>
              </a:xfrm>
              <a:prstGeom prst="rect">
                <a:avLst/>
              </a:prstGeom>
              <a:solidFill>
                <a:srgbClr val="a8a7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95920" y="4344840"/>
                <a:ext cx="2851200" cy="12960"/>
              </a:xfrm>
              <a:prstGeom prst="rect">
                <a:avLst/>
              </a:prstGeom>
              <a:solidFill>
                <a:srgbClr val="a8a7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95920" y="4340160"/>
                <a:ext cx="2851200" cy="14400"/>
              </a:xfrm>
              <a:prstGeom prst="rect">
                <a:avLst/>
              </a:prstGeom>
              <a:solidFill>
                <a:srgbClr val="a8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95920" y="4336920"/>
                <a:ext cx="2851200" cy="7920"/>
              </a:xfrm>
              <a:prstGeom prst="rect">
                <a:avLst/>
              </a:prstGeom>
              <a:solidFill>
                <a:srgbClr val="a8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5920" y="4327560"/>
                <a:ext cx="2851200" cy="12600"/>
              </a:xfrm>
              <a:prstGeom prst="rect">
                <a:avLst/>
              </a:prstGeom>
              <a:solidFill>
                <a:srgbClr val="a8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95920" y="4324320"/>
                <a:ext cx="2851200" cy="12600"/>
              </a:xfrm>
              <a:prstGeom prst="rect">
                <a:avLst/>
              </a:prstGeom>
              <a:solidFill>
                <a:srgbClr val="a9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795920" y="4319640"/>
                <a:ext cx="2851200" cy="7920"/>
              </a:xfrm>
              <a:prstGeom prst="rect">
                <a:avLst/>
              </a:prstGeom>
              <a:solidFill>
                <a:srgbClr val="a9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95920" y="4309920"/>
                <a:ext cx="2851200" cy="14400"/>
              </a:xfrm>
              <a:prstGeom prst="rect">
                <a:avLst/>
              </a:prstGeom>
              <a:solidFill>
                <a:srgbClr val="a9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95920" y="4307040"/>
                <a:ext cx="2851200" cy="1260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795920" y="4302000"/>
                <a:ext cx="2851200" cy="79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95920" y="4294080"/>
                <a:ext cx="2851200" cy="1296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95920" y="4289400"/>
                <a:ext cx="2851200" cy="1260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95920" y="4284720"/>
                <a:ext cx="2851200" cy="9360"/>
              </a:xfrm>
              <a:prstGeom prst="rect">
                <a:avLst/>
              </a:prstGeom>
              <a:solidFill>
                <a:srgbClr val="aba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95920" y="4276800"/>
                <a:ext cx="2851200" cy="12600"/>
              </a:xfrm>
              <a:prstGeom prst="rect">
                <a:avLst/>
              </a:prstGeom>
              <a:solidFill>
                <a:srgbClr val="aba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95920" y="4272120"/>
                <a:ext cx="2851200" cy="12600"/>
              </a:xfrm>
              <a:prstGeom prst="rect">
                <a:avLst/>
              </a:prstGeom>
              <a:solidFill>
                <a:srgbClr val="aba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95920" y="4262400"/>
                <a:ext cx="2851200" cy="14400"/>
              </a:xfrm>
              <a:prstGeom prst="rect">
                <a:avLst/>
              </a:prstGeom>
              <a:solidFill>
                <a:srgbClr val="aba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95920" y="4259160"/>
                <a:ext cx="2851200" cy="12960"/>
              </a:xfrm>
              <a:prstGeom prst="rect">
                <a:avLst/>
              </a:prstGeom>
              <a:solidFill>
                <a:srgbClr val="aba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95920" y="4254480"/>
                <a:ext cx="2851200" cy="7920"/>
              </a:xfrm>
              <a:prstGeom prst="rect">
                <a:avLst/>
              </a:prstGeom>
              <a:solidFill>
                <a:srgbClr val="aba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95920" y="4246560"/>
                <a:ext cx="2851200" cy="12600"/>
              </a:xfrm>
              <a:prstGeom prst="rect">
                <a:avLst/>
              </a:pr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795920" y="4241880"/>
                <a:ext cx="2851200" cy="12600"/>
              </a:xfrm>
              <a:prstGeom prst="rect">
                <a:avLst/>
              </a:pr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795920" y="4236840"/>
                <a:ext cx="2851200" cy="9720"/>
              </a:xfrm>
              <a:prstGeom prst="rect">
                <a:avLst/>
              </a:pr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95920" y="4228920"/>
                <a:ext cx="2851200" cy="12960"/>
              </a:xfrm>
              <a:prstGeom prst="rect">
                <a:avLst/>
              </a:prstGeom>
              <a:solidFill>
                <a:srgbClr val="ac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95920" y="4224240"/>
                <a:ext cx="2851200" cy="12600"/>
              </a:xfrm>
              <a:prstGeom prst="rect">
                <a:avLst/>
              </a:prstGeom>
              <a:solidFill>
                <a:srgbClr val="adac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5920" y="4219560"/>
                <a:ext cx="2851200" cy="9360"/>
              </a:xfrm>
              <a:prstGeom prst="rect">
                <a:avLst/>
              </a:prstGeom>
              <a:solidFill>
                <a:srgbClr val="adac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95920" y="4211640"/>
                <a:ext cx="2851200" cy="12600"/>
              </a:xfrm>
              <a:prstGeom prst="rect">
                <a:avLst/>
              </a:prstGeom>
              <a:solidFill>
                <a:srgbClr val="adac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95920" y="4206960"/>
                <a:ext cx="2851200" cy="12600"/>
              </a:xfrm>
              <a:prstGeom prst="rect">
                <a:avLst/>
              </a:prstGeom>
              <a:solidFill>
                <a:srgbClr val="ae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795920" y="4201920"/>
                <a:ext cx="2851200" cy="9720"/>
              </a:xfrm>
              <a:prstGeom prst="rect">
                <a:avLst/>
              </a:prstGeom>
              <a:solidFill>
                <a:srgbClr val="ae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95920" y="4194000"/>
                <a:ext cx="2851200" cy="12960"/>
              </a:xfrm>
              <a:prstGeom prst="rect">
                <a:avLst/>
              </a:prstGeom>
              <a:solidFill>
                <a:srgbClr val="ae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95920" y="4189320"/>
                <a:ext cx="2851200" cy="12600"/>
              </a:xfrm>
              <a:prstGeom prst="rect">
                <a:avLst/>
              </a:prstGeom>
              <a:solidFill>
                <a:srgbClr val="ae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795920" y="4186080"/>
                <a:ext cx="2851200" cy="7920"/>
              </a:xfrm>
              <a:prstGeom prst="rect">
                <a:avLst/>
              </a:prstGeom>
              <a:solidFill>
                <a:srgbClr val="af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95920" y="4176720"/>
                <a:ext cx="2851200" cy="12600"/>
              </a:xfrm>
              <a:prstGeom prst="rect">
                <a:avLst/>
              </a:prstGeom>
              <a:solidFill>
                <a:srgbClr val="af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95920" y="4172040"/>
                <a:ext cx="2851200" cy="14040"/>
              </a:xfrm>
              <a:prstGeom prst="rect">
                <a:avLst/>
              </a:prstGeom>
              <a:solidFill>
                <a:srgbClr val="af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95920" y="4168800"/>
                <a:ext cx="2851200" cy="7920"/>
              </a:xfrm>
              <a:prstGeom prst="rect">
                <a:avLst/>
              </a:prstGeom>
              <a:solidFill>
                <a:srgbClr val="b0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95920" y="4159080"/>
                <a:ext cx="2851200" cy="12960"/>
              </a:xfrm>
              <a:prstGeom prst="rect">
                <a:avLst/>
              </a:prstGeom>
              <a:solidFill>
                <a:srgbClr val="b0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5920" y="4154400"/>
                <a:ext cx="2851200" cy="14400"/>
              </a:xfrm>
              <a:prstGeom prst="rect">
                <a:avLst/>
              </a:prstGeom>
              <a:solidFill>
                <a:srgbClr val="b0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5920" y="4151160"/>
                <a:ext cx="2851200" cy="7920"/>
              </a:xfrm>
              <a:prstGeom prst="rect">
                <a:avLst/>
              </a:prstGeom>
              <a:solidFill>
                <a:srgbClr val="b1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95920" y="4141800"/>
                <a:ext cx="2851200" cy="12600"/>
              </a:xfrm>
              <a:prstGeom prst="rect">
                <a:avLst/>
              </a:prstGeom>
              <a:solidFill>
                <a:srgbClr val="b1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95920" y="4138560"/>
                <a:ext cx="2851200" cy="12600"/>
              </a:xfrm>
              <a:prstGeom prst="rect">
                <a:avLst/>
              </a:prstGeom>
              <a:solidFill>
                <a:srgbClr val="b1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95920" y="4133880"/>
                <a:ext cx="2851200" cy="7920"/>
              </a:xfrm>
              <a:prstGeom prst="rect">
                <a:avLst/>
              </a:prstGeom>
              <a:solidFill>
                <a:srgbClr val="b1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95920" y="4124160"/>
                <a:ext cx="2851200" cy="14400"/>
              </a:xfrm>
              <a:prstGeom prst="rect">
                <a:avLst/>
              </a:pr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5920" y="4121280"/>
                <a:ext cx="2851200" cy="12600"/>
              </a:xfrm>
              <a:prstGeom prst="rect">
                <a:avLst/>
              </a:pr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95920" y="4111560"/>
                <a:ext cx="2851200" cy="12600"/>
              </a:xfrm>
              <a:prstGeom prst="rect">
                <a:avLst/>
              </a:prstGeom>
              <a:solidFill>
                <a:srgbClr val="b2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95920" y="4108320"/>
                <a:ext cx="2851200" cy="12960"/>
              </a:xfrm>
              <a:prstGeom prst="rect">
                <a:avLst/>
              </a:prstGeom>
              <a:solidFill>
                <a:srgbClr val="b3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95920" y="4103640"/>
                <a:ext cx="2851200" cy="7920"/>
              </a:xfrm>
              <a:prstGeom prst="rect">
                <a:avLst/>
              </a:prstGeom>
              <a:solidFill>
                <a:srgbClr val="b3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95920" y="4094280"/>
                <a:ext cx="2851200" cy="14040"/>
              </a:xfrm>
              <a:prstGeom prst="rect">
                <a:avLst/>
              </a:prstGeom>
              <a:solidFill>
                <a:srgbClr val="b3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95920" y="4091040"/>
                <a:ext cx="2851200" cy="12600"/>
              </a:xfrm>
              <a:prstGeom prst="rect">
                <a:avLst/>
              </a:prstGeom>
              <a:solidFill>
                <a:srgbClr val="b4b4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95920" y="4086360"/>
                <a:ext cx="2851200" cy="7920"/>
              </a:xfrm>
              <a:prstGeom prst="rect">
                <a:avLst/>
              </a:prstGeom>
              <a:solidFill>
                <a:srgbClr val="b4b4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95920" y="4078440"/>
                <a:ext cx="2851200" cy="12600"/>
              </a:xfrm>
              <a:prstGeom prst="rect">
                <a:avLst/>
              </a:prstGeom>
              <a:solidFill>
                <a:srgbClr val="b4b4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95920" y="4073400"/>
                <a:ext cx="2851200" cy="12960"/>
              </a:xfrm>
              <a:prstGeom prst="rect">
                <a:avLst/>
              </a:prstGeom>
              <a:solidFill>
                <a:srgbClr val="b4b4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95920" y="4068720"/>
                <a:ext cx="2851200" cy="9720"/>
              </a:xfrm>
              <a:prstGeom prst="rect">
                <a:avLst/>
              </a:pr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95920" y="4060800"/>
                <a:ext cx="2851200" cy="12600"/>
              </a:xfrm>
              <a:prstGeom prst="rect">
                <a:avLst/>
              </a:pr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95920" y="4056120"/>
                <a:ext cx="2851200" cy="12600"/>
              </a:xfrm>
              <a:prstGeom prst="rect">
                <a:avLst/>
              </a:prstGeom>
              <a:solidFill>
                <a:srgbClr val="b5b5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95920" y="4051440"/>
                <a:ext cx="2851200" cy="9360"/>
              </a:xfrm>
              <a:prstGeom prst="rect">
                <a:avLst/>
              </a:prstGeom>
              <a:solidFill>
                <a:srgbClr val="b6b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95920" y="4043520"/>
                <a:ext cx="2851200" cy="12600"/>
              </a:xfrm>
              <a:prstGeom prst="rect">
                <a:avLst/>
              </a:prstGeom>
              <a:solidFill>
                <a:srgbClr val="b6b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95920" y="4038480"/>
                <a:ext cx="2851200" cy="12960"/>
              </a:xfrm>
              <a:prstGeom prst="rect">
                <a:avLst/>
              </a:prstGeom>
              <a:solidFill>
                <a:srgbClr val="b6b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95920" y="4033800"/>
                <a:ext cx="2851200" cy="9720"/>
              </a:xfrm>
              <a:prstGeom prst="rect">
                <a:avLst/>
              </a:prstGeom>
              <a:solidFill>
                <a:srgbClr val="b7b7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95920" y="4025880"/>
                <a:ext cx="2851200" cy="12600"/>
              </a:xfrm>
              <a:prstGeom prst="rect">
                <a:avLst/>
              </a:prstGeom>
              <a:solidFill>
                <a:srgbClr val="b7b7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95920" y="4021200"/>
                <a:ext cx="2851200" cy="12600"/>
              </a:xfrm>
              <a:prstGeom prst="rect">
                <a:avLst/>
              </a:prstGeom>
              <a:solidFill>
                <a:srgbClr val="b7b7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95920" y="4016520"/>
                <a:ext cx="2851200" cy="9360"/>
              </a:xfrm>
              <a:prstGeom prst="rect">
                <a:avLst/>
              </a:prstGeom>
              <a:solidFill>
                <a:srgbClr val="b7b7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95920" y="4008240"/>
                <a:ext cx="2851200" cy="12960"/>
              </a:xfrm>
              <a:prstGeom prst="rect">
                <a:avLst/>
              </a:pr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95920" y="4003560"/>
                <a:ext cx="2851200" cy="12960"/>
              </a:xfrm>
              <a:prstGeom prst="rect">
                <a:avLst/>
              </a:pr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95920" y="4000320"/>
                <a:ext cx="2851200" cy="7920"/>
              </a:xfrm>
              <a:prstGeom prst="rect">
                <a:avLst/>
              </a:prstGeom>
              <a:solidFill>
                <a:srgbClr val="b8b8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95920" y="3990960"/>
                <a:ext cx="2851200" cy="12600"/>
              </a:xfrm>
              <a:prstGeom prst="rect">
                <a:avLst/>
              </a:prstGeom>
              <a:solidFill>
                <a:srgbClr val="b9b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95920" y="3986280"/>
                <a:ext cx="2851200" cy="14040"/>
              </a:xfrm>
              <a:prstGeom prst="rect">
                <a:avLst/>
              </a:prstGeom>
              <a:solidFill>
                <a:srgbClr val="b9b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95920" y="3983040"/>
                <a:ext cx="2851200" cy="7920"/>
              </a:xfrm>
              <a:prstGeom prst="rect">
                <a:avLst/>
              </a:prstGeom>
              <a:solidFill>
                <a:srgbClr val="b9b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95920" y="3973320"/>
                <a:ext cx="2851200" cy="12960"/>
              </a:xfrm>
              <a:prstGeom prst="rect">
                <a:avLst/>
              </a:pr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95920" y="3970440"/>
                <a:ext cx="2851200" cy="12600"/>
              </a:xfrm>
              <a:prstGeom prst="rect">
                <a:avLst/>
              </a:pr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95920" y="3960720"/>
                <a:ext cx="2851200" cy="12600"/>
              </a:xfrm>
              <a:prstGeom prst="rect">
                <a:avLst/>
              </a:pr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95920" y="3956040"/>
                <a:ext cx="2851200" cy="14400"/>
              </a:xfrm>
              <a:prstGeom prst="rect">
                <a:avLst/>
              </a:prstGeom>
              <a:solidFill>
                <a:srgbClr val="baba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95920" y="3952800"/>
                <a:ext cx="2851200" cy="7920"/>
              </a:xfrm>
              <a:prstGeom prst="rect">
                <a:avLst/>
              </a:prstGeom>
              <a:solidFill>
                <a:srgbClr val="bb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95920" y="3943440"/>
                <a:ext cx="2851200" cy="12600"/>
              </a:xfrm>
              <a:prstGeom prst="rect">
                <a:avLst/>
              </a:prstGeom>
              <a:solidFill>
                <a:srgbClr val="bb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95920" y="3940200"/>
                <a:ext cx="2851200" cy="12600"/>
              </a:xfrm>
              <a:prstGeom prst="rect">
                <a:avLst/>
              </a:prstGeom>
              <a:solidFill>
                <a:srgbClr val="bbb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95920" y="3935520"/>
                <a:ext cx="2851200" cy="7920"/>
              </a:xfrm>
              <a:prstGeom prst="rect">
                <a:avLst/>
              </a:prstGeom>
              <a:solidFill>
                <a:srgbClr val="bcb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95920" y="3925800"/>
                <a:ext cx="2851200" cy="14400"/>
              </a:xfrm>
              <a:prstGeom prst="rect">
                <a:avLst/>
              </a:prstGeom>
              <a:solidFill>
                <a:srgbClr val="bcb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95920" y="3922560"/>
                <a:ext cx="2851200" cy="12960"/>
              </a:xfrm>
              <a:prstGeom prst="rect">
                <a:avLst/>
              </a:prstGeom>
              <a:solidFill>
                <a:srgbClr val="bcb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95920" y="3917880"/>
                <a:ext cx="2851200" cy="7920"/>
              </a:xfrm>
              <a:prstGeom prst="rect">
                <a:avLst/>
              </a:pr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5920" y="3908520"/>
                <a:ext cx="2851200" cy="14040"/>
              </a:xfrm>
              <a:prstGeom prst="rect">
                <a:avLst/>
              </a:pr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95920" y="3905280"/>
                <a:ext cx="2851200" cy="12600"/>
              </a:xfrm>
              <a:prstGeom prst="rect">
                <a:avLst/>
              </a:pr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95920" y="3900600"/>
                <a:ext cx="2851200" cy="7920"/>
              </a:xfrm>
              <a:prstGeom prst="rect">
                <a:avLst/>
              </a:prstGeom>
              <a:solidFill>
                <a:srgbClr val="bdb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5920" y="3892680"/>
                <a:ext cx="2851200" cy="12600"/>
              </a:xfrm>
              <a:prstGeom prst="rect">
                <a:avLst/>
              </a:prstGeom>
              <a:solidFill>
                <a:srgbClr val="beb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95920" y="3887640"/>
                <a:ext cx="2851200" cy="12960"/>
              </a:xfrm>
              <a:prstGeom prst="rect">
                <a:avLst/>
              </a:prstGeom>
              <a:solidFill>
                <a:srgbClr val="beb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95920" y="3882960"/>
                <a:ext cx="2851200" cy="9720"/>
              </a:xfrm>
              <a:prstGeom prst="rect">
                <a:avLst/>
              </a:prstGeom>
              <a:solidFill>
                <a:srgbClr val="beb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95920" y="3875040"/>
                <a:ext cx="2851200" cy="1260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95920" y="3870360"/>
                <a:ext cx="2851200" cy="1260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95920" y="3865680"/>
                <a:ext cx="2851200" cy="936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95920" y="3857760"/>
                <a:ext cx="2851200" cy="12600"/>
              </a:xfrm>
              <a:prstGeom prst="rect">
                <a:avLst/>
              </a:prstGeom>
              <a:solidFill>
                <a:srgbClr val="bfb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5920" y="3852720"/>
                <a:ext cx="2851200" cy="12960"/>
              </a:xfrm>
              <a:prstGeom prst="rect">
                <a:avLst/>
              </a:prstGeom>
              <a:solidFill>
                <a:srgbClr val="c0c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95920" y="3848040"/>
                <a:ext cx="2851200" cy="9720"/>
              </a:xfrm>
              <a:prstGeom prst="rect">
                <a:avLst/>
              </a:prstGeom>
              <a:solidFill>
                <a:srgbClr val="c0c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95920" y="3840120"/>
                <a:ext cx="2851200" cy="12600"/>
              </a:xfrm>
              <a:prstGeom prst="rect">
                <a:avLst/>
              </a:prstGeom>
              <a:solidFill>
                <a:srgbClr val="c0c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95920" y="3835440"/>
                <a:ext cx="2851200" cy="12600"/>
              </a:xfrm>
              <a:prstGeom prst="rect">
                <a:avLst/>
              </a:prstGeom>
              <a:solidFill>
                <a:srgbClr val="c1c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95920" y="3832200"/>
                <a:ext cx="2851200" cy="7920"/>
              </a:xfrm>
              <a:prstGeom prst="rect">
                <a:avLst/>
              </a:prstGeom>
              <a:solidFill>
                <a:srgbClr val="c1c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95920" y="3822840"/>
                <a:ext cx="2851200" cy="12600"/>
              </a:xfrm>
              <a:prstGeom prst="rect">
                <a:avLst/>
              </a:prstGeom>
              <a:solidFill>
                <a:srgbClr val="c1c1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95920" y="3817800"/>
                <a:ext cx="2851200" cy="1440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95920" y="3809880"/>
                <a:ext cx="2851200" cy="1296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95920" y="3805200"/>
                <a:ext cx="2851200" cy="1260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95920" y="3800520"/>
                <a:ext cx="2851200" cy="9360"/>
              </a:xfrm>
              <a:prstGeom prst="rect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95920" y="3792600"/>
                <a:ext cx="2851200" cy="12600"/>
              </a:xfrm>
              <a:prstGeom prst="rect">
                <a:avLst/>
              </a:pr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95920" y="3787920"/>
                <a:ext cx="2851200" cy="12600"/>
              </a:xfrm>
              <a:prstGeom prst="rect">
                <a:avLst/>
              </a:pr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95920" y="3784680"/>
                <a:ext cx="2851200" cy="7920"/>
              </a:xfrm>
              <a:prstGeom prst="rect">
                <a:avLst/>
              </a:pr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95920" y="3774960"/>
                <a:ext cx="2851200" cy="12960"/>
              </a:xfrm>
              <a:prstGeom prst="rect">
                <a:avLst/>
              </a:prstGeom>
              <a:solidFill>
                <a:srgbClr val="c4c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95920" y="3770280"/>
                <a:ext cx="2851200" cy="14400"/>
              </a:xfrm>
              <a:prstGeom prst="rect">
                <a:avLst/>
              </a:prstGeom>
              <a:solidFill>
                <a:srgbClr val="c4c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95920" y="3767040"/>
                <a:ext cx="2851200" cy="7920"/>
              </a:xfrm>
              <a:prstGeom prst="rect">
                <a:avLst/>
              </a:prstGeom>
              <a:solidFill>
                <a:srgbClr val="c4c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95920" y="3757680"/>
                <a:ext cx="2851200" cy="12600"/>
              </a:xfrm>
              <a:prstGeom prst="rect">
                <a:avLst/>
              </a:pr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95920" y="3754440"/>
                <a:ext cx="2851200" cy="12600"/>
              </a:xfrm>
              <a:prstGeom prst="rect">
                <a:avLst/>
              </a:pr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95920" y="3749760"/>
                <a:ext cx="2851200" cy="7920"/>
              </a:xfrm>
              <a:prstGeom prst="rect">
                <a:avLst/>
              </a:pr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95920" y="3740040"/>
                <a:ext cx="2851200" cy="14400"/>
              </a:xfrm>
              <a:prstGeom prst="rect">
                <a:avLst/>
              </a:prstGeom>
              <a:solidFill>
                <a:srgbClr val="c5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95920" y="3736800"/>
                <a:ext cx="2851200" cy="12960"/>
              </a:xfrm>
              <a:prstGeom prst="rect">
                <a:avLst/>
              </a:prstGeom>
              <a:solidFill>
                <a:srgbClr val="c6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95920" y="3732120"/>
                <a:ext cx="2851200" cy="7920"/>
              </a:xfrm>
              <a:prstGeom prst="rect">
                <a:avLst/>
              </a:prstGeom>
              <a:solidFill>
                <a:srgbClr val="c6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95920" y="3724200"/>
                <a:ext cx="2851200" cy="12600"/>
              </a:xfrm>
              <a:prstGeom prst="rect">
                <a:avLst/>
              </a:prstGeom>
              <a:solidFill>
                <a:srgbClr val="c6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95920" y="3719520"/>
                <a:ext cx="2851200" cy="12600"/>
              </a:xfrm>
              <a:prstGeom prst="rect">
                <a:avLst/>
              </a:pr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95920" y="3714840"/>
                <a:ext cx="2851200" cy="9360"/>
              </a:xfrm>
              <a:prstGeom prst="rect">
                <a:avLst/>
              </a:pr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95920" y="3706920"/>
                <a:ext cx="2851200" cy="12600"/>
              </a:xfrm>
              <a:prstGeom prst="rect">
                <a:avLst/>
              </a:prstGeom>
              <a:solidFill>
                <a:srgbClr val="c7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95920" y="3701880"/>
                <a:ext cx="2851200" cy="1296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95920" y="3697200"/>
                <a:ext cx="2851200" cy="972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95920" y="3689280"/>
                <a:ext cx="2851200" cy="1260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95920" y="3684600"/>
                <a:ext cx="2851200" cy="12600"/>
              </a:xfrm>
              <a:prstGeom prst="rect">
                <a:avLst/>
              </a:prstGeom>
              <a:solidFill>
                <a:srgbClr val="c8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95920" y="3679920"/>
                <a:ext cx="2851200" cy="9360"/>
              </a:xfrm>
              <a:prstGeom prst="rect">
                <a:avLst/>
              </a:prstGeom>
              <a:solidFill>
                <a:srgbClr val="c9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95920" y="3672000"/>
                <a:ext cx="2851200" cy="12600"/>
              </a:xfrm>
              <a:prstGeom prst="rect">
                <a:avLst/>
              </a:prstGeom>
              <a:solidFill>
                <a:srgbClr val="c9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95920" y="3666960"/>
                <a:ext cx="2851200" cy="12960"/>
              </a:xfrm>
              <a:prstGeom prst="rect">
                <a:avLst/>
              </a:prstGeom>
              <a:solidFill>
                <a:srgbClr val="c9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95920" y="3662280"/>
                <a:ext cx="2851200" cy="9720"/>
              </a:xfrm>
              <a:prstGeom prst="rect">
                <a:avLst/>
              </a:pr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5920" y="3654360"/>
                <a:ext cx="2851200" cy="12600"/>
              </a:xfrm>
              <a:prstGeom prst="rect">
                <a:avLst/>
              </a:pr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95920" y="3649680"/>
                <a:ext cx="2851200" cy="12600"/>
              </a:xfrm>
              <a:prstGeom prst="rect">
                <a:avLst/>
              </a:prstGeom>
              <a:solidFill>
                <a:srgbClr val="ca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95920" y="3641760"/>
                <a:ext cx="2851200" cy="12600"/>
              </a:xfrm>
              <a:prstGeom prst="rect">
                <a:avLst/>
              </a:prstGeom>
              <a:solidFill>
                <a:srgbClr val="cb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4795920" y="3637080"/>
              <a:ext cx="2851200" cy="12600"/>
            </a:xfrm>
            <a:prstGeom prst="rect">
              <a:avLst/>
            </a:pr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95920" y="3632040"/>
              <a:ext cx="2851200" cy="9720"/>
            </a:xfrm>
            <a:prstGeom prst="rect">
              <a:avLst/>
            </a:pr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95920" y="3624120"/>
              <a:ext cx="2851200" cy="12960"/>
            </a:xfrm>
            <a:prstGeom prst="rect">
              <a:avLst/>
            </a:pr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95920" y="3619440"/>
              <a:ext cx="2851200" cy="12600"/>
            </a:xfrm>
            <a:prstGeom prst="rect">
              <a:avLst/>
            </a:prstGeom>
            <a:solidFill>
              <a:srgbClr val="cb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95920" y="3606840"/>
              <a:ext cx="2851200" cy="12600"/>
            </a:xfrm>
            <a:prstGeom prst="rect">
              <a:avLst/>
            </a:prstGeom>
            <a:solidFill>
              <a:srgbClr val="cb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95920" y="3602160"/>
              <a:ext cx="2851200" cy="14040"/>
            </a:xfrm>
            <a:prstGeom prst="rect">
              <a:avLst/>
            </a:prstGeom>
            <a:solidFill>
              <a:srgbClr val="ccc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95920" y="3598920"/>
              <a:ext cx="2851200" cy="7920"/>
            </a:xfrm>
            <a:prstGeom prst="rect">
              <a:avLst/>
            </a:prstGeom>
            <a:solidFill>
              <a:srgbClr val="ccc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95920" y="3589200"/>
              <a:ext cx="2851200" cy="12960"/>
            </a:xfrm>
            <a:prstGeom prst="rect">
              <a:avLst/>
            </a:prstGeom>
            <a:solidFill>
              <a:srgbClr val="ccc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95920" y="3584520"/>
              <a:ext cx="2851200" cy="14400"/>
            </a:xfrm>
            <a:prstGeom prst="rect">
              <a:avLst/>
            </a:prstGeom>
            <a:solidFill>
              <a:srgbClr val="cccc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95920" y="3581280"/>
              <a:ext cx="2851200" cy="7920"/>
            </a:xfrm>
            <a:prstGeom prst="rect">
              <a:avLst/>
            </a:prstGeom>
            <a:solidFill>
              <a:srgbClr val="cd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95920" y="3571920"/>
              <a:ext cx="2851200" cy="12600"/>
            </a:xfrm>
            <a:prstGeom prst="rect">
              <a:avLst/>
            </a:prstGeom>
            <a:solidFill>
              <a:srgbClr val="cd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95920" y="3568680"/>
              <a:ext cx="2851200" cy="12600"/>
            </a:xfrm>
            <a:prstGeom prst="rect">
              <a:avLst/>
            </a:prstGeom>
            <a:solidFill>
              <a:srgbClr val="cd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95920" y="3554280"/>
              <a:ext cx="2851200" cy="14400"/>
            </a:xfrm>
            <a:prstGeom prst="rect">
              <a:avLst/>
            </a:prstGeom>
            <a:solidFill>
              <a:srgbClr val="cec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95920" y="3551400"/>
              <a:ext cx="2851200" cy="12600"/>
            </a:xfrm>
            <a:prstGeom prst="rect">
              <a:avLst/>
            </a:prstGeom>
            <a:solidFill>
              <a:srgbClr val="cec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95920" y="3546360"/>
              <a:ext cx="2851200" cy="7920"/>
            </a:xfrm>
            <a:prstGeom prst="rect">
              <a:avLst/>
            </a:pr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95920" y="3538440"/>
              <a:ext cx="2851200" cy="12960"/>
            </a:xfrm>
            <a:prstGeom prst="rect">
              <a:avLst/>
            </a:pr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95920" y="3533760"/>
              <a:ext cx="2851200" cy="12600"/>
            </a:xfrm>
            <a:prstGeom prst="rect">
              <a:avLst/>
            </a:pr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95920" y="3529080"/>
              <a:ext cx="2851200" cy="9360"/>
            </a:xfrm>
            <a:prstGeom prst="rect">
              <a:avLst/>
            </a:prstGeom>
            <a:solidFill>
              <a:srgbClr val="c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95920" y="3521160"/>
              <a:ext cx="2851200" cy="12600"/>
            </a:xfrm>
            <a:prstGeom prst="rect">
              <a:avLst/>
            </a:prstGeom>
            <a:solidFill>
              <a:srgbClr val="d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95920" y="3516480"/>
              <a:ext cx="2851200" cy="12600"/>
            </a:xfrm>
            <a:prstGeom prst="rect">
              <a:avLst/>
            </a:prstGeom>
            <a:solidFill>
              <a:srgbClr val="d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95920" y="3511440"/>
              <a:ext cx="2851200" cy="9720"/>
            </a:xfrm>
            <a:prstGeom prst="rect">
              <a:avLst/>
            </a:prstGeom>
            <a:solidFill>
              <a:srgbClr val="d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95920" y="3503520"/>
              <a:ext cx="2851200" cy="12960"/>
            </a:xfrm>
            <a:prstGeom prst="rect">
              <a:avLst/>
            </a:pr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95920" y="3498840"/>
              <a:ext cx="2851200" cy="12600"/>
            </a:xfrm>
            <a:prstGeom prst="rect">
              <a:avLst/>
            </a:pr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5920" y="3490920"/>
              <a:ext cx="2851200" cy="12600"/>
            </a:xfrm>
            <a:prstGeom prst="rect">
              <a:avLst/>
            </a:prstGeom>
            <a:solidFill>
              <a:srgbClr val="d1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95920" y="3486240"/>
              <a:ext cx="2851200" cy="12600"/>
            </a:xfrm>
            <a:prstGeom prst="rect">
              <a:avLst/>
            </a:pr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95920" y="3481560"/>
              <a:ext cx="2851200" cy="9360"/>
            </a:xfrm>
            <a:prstGeom prst="rect">
              <a:avLst/>
            </a:pr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95920" y="3473280"/>
              <a:ext cx="2851200" cy="12960"/>
            </a:xfrm>
            <a:prstGeom prst="rect">
              <a:avLst/>
            </a:pr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95920" y="3468600"/>
              <a:ext cx="2851200" cy="12960"/>
            </a:xfrm>
            <a:prstGeom prst="rect">
              <a:avLst/>
            </a:prstGeom>
            <a:solidFill>
              <a:srgbClr val="d3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95920" y="3463920"/>
              <a:ext cx="2851200" cy="9360"/>
            </a:xfrm>
            <a:prstGeom prst="rect">
              <a:avLst/>
            </a:prstGeom>
            <a:solidFill>
              <a:srgbClr val="d4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95920" y="3456000"/>
              <a:ext cx="2851200" cy="12600"/>
            </a:xfrm>
            <a:prstGeom prst="rect">
              <a:avLst/>
            </a:prstGeom>
            <a:solidFill>
              <a:srgbClr val="d4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5920" y="3451320"/>
              <a:ext cx="2851200" cy="12600"/>
            </a:xfrm>
            <a:prstGeom prst="rect">
              <a:avLst/>
            </a:prstGeom>
            <a:solidFill>
              <a:srgbClr val="d4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95920" y="3446640"/>
              <a:ext cx="2851200" cy="936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95920" y="3438360"/>
              <a:ext cx="2851200" cy="1296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95920" y="3433680"/>
              <a:ext cx="2851200" cy="12960"/>
            </a:xfrm>
            <a:prstGeom prst="rect">
              <a:avLst/>
            </a:pr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95920" y="3430440"/>
              <a:ext cx="2851200" cy="7920"/>
            </a:xfrm>
            <a:prstGeom prst="rect">
              <a:avLst/>
            </a:prstGeom>
            <a:solidFill>
              <a:srgbClr val="d7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5920" y="3421080"/>
              <a:ext cx="2851200" cy="12600"/>
            </a:xfrm>
            <a:prstGeom prst="rect">
              <a:avLst/>
            </a:prstGeom>
            <a:solidFill>
              <a:srgbClr val="d7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95920" y="3416400"/>
              <a:ext cx="2851200" cy="14040"/>
            </a:xfrm>
            <a:prstGeom prst="rect">
              <a:avLst/>
            </a:prstGeom>
            <a:solidFill>
              <a:srgbClr val="d7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95920" y="3403440"/>
              <a:ext cx="2851200" cy="12960"/>
            </a:xfrm>
            <a:prstGeom prst="rect">
              <a:avLst/>
            </a:pr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95920" y="3400560"/>
              <a:ext cx="2851200" cy="12600"/>
            </a:xfrm>
            <a:prstGeom prst="rect">
              <a:avLst/>
            </a:pr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95920" y="3395520"/>
              <a:ext cx="2851200" cy="7920"/>
            </a:xfrm>
            <a:prstGeom prst="rect">
              <a:avLst/>
            </a:prstGeom>
            <a:solidFill>
              <a:srgbClr val="d8d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95920" y="3386160"/>
              <a:ext cx="2851200" cy="14400"/>
            </a:xfrm>
            <a:prstGeom prst="rect">
              <a:avLst/>
            </a:pr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95920" y="3382920"/>
              <a:ext cx="2851200" cy="12600"/>
            </a:xfrm>
            <a:prstGeom prst="rect">
              <a:avLst/>
            </a:pr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95920" y="3378240"/>
              <a:ext cx="2851200" cy="7920"/>
            </a:xfrm>
            <a:prstGeom prst="rect">
              <a:avLst/>
            </a:prstGeom>
            <a:solidFill>
              <a:srgbClr val="da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5920" y="3368520"/>
              <a:ext cx="2851200" cy="14400"/>
            </a:xfrm>
            <a:prstGeom prst="rect">
              <a:avLst/>
            </a:pr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95920" y="3365640"/>
              <a:ext cx="2851200" cy="12600"/>
            </a:xfrm>
            <a:prstGeom prst="rect">
              <a:avLst/>
            </a:pr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95920" y="3352680"/>
              <a:ext cx="2851200" cy="12960"/>
            </a:xfrm>
            <a:prstGeom prst="rect">
              <a:avLst/>
            </a:prstGeom>
            <a:solidFill>
              <a:srgbClr val="dbd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95920" y="3348000"/>
              <a:ext cx="2851200" cy="1260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95920" y="3338640"/>
              <a:ext cx="2851200" cy="1404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95920" y="3335400"/>
              <a:ext cx="2851200" cy="1260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95920" y="3330720"/>
              <a:ext cx="2851200" cy="792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5920" y="3322800"/>
              <a:ext cx="2851200" cy="1260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95920" y="3317760"/>
              <a:ext cx="2851200" cy="12960"/>
            </a:xfrm>
            <a:prstGeom prst="rect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95920" y="3317760"/>
              <a:ext cx="2851200" cy="504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95920" y="3317760"/>
              <a:ext cx="2851200" cy="14893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86360" y="3787920"/>
              <a:ext cx="695520" cy="27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86360" y="3787920"/>
              <a:ext cx="695520" cy="2728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6920" y="3486240"/>
              <a:ext cx="57456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3486240"/>
              <a:ext cx="574560" cy="2937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31040" y="2509920"/>
              <a:ext cx="38736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31040" y="2509920"/>
              <a:ext cx="387360" cy="29376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31720" y="3800520"/>
              <a:ext cx="581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AvantGarde Bk BT"/>
                </a:rPr>
                <a:t>metal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28400" y="3494160"/>
              <a:ext cx="319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AvantGarde Bk BT"/>
                </a:rPr>
                <a:t>Me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86480" y="2527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2320" y="191916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94240" y="233856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53240" y="23335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Arial"/>
                </a:rPr>
                <a:t>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5546880" y="2155680"/>
              <a:ext cx="80640" cy="1652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41840" y="2220840"/>
              <a:ext cx="8568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54" y="27"/>
                  </a:moveTo>
                  <a:lnTo>
                    <a:pt x="3" y="63"/>
                  </a:lnTo>
                  <a:lnTo>
                    <a:pt x="0" y="0"/>
                  </a:lnTo>
                  <a:lnTo>
                    <a:pt x="54" y="27"/>
                  </a:lnTo>
                  <a:lnTo>
                    <a:pt x="3" y="63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45240" y="2160720"/>
              <a:ext cx="60120" cy="150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30840" y="2216160"/>
              <a:ext cx="87480" cy="9540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55" y="0"/>
                  </a:moveTo>
                  <a:lnTo>
                    <a:pt x="47" y="60"/>
                  </a:lnTo>
                  <a:lnTo>
                    <a:pt x="0" y="22"/>
                  </a:lnTo>
                  <a:lnTo>
                    <a:pt x="55" y="0"/>
                  </a:lnTo>
                  <a:lnTo>
                    <a:pt x="47" y="6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95920" y="2963880"/>
              <a:ext cx="2855880" cy="35388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5920" y="2963880"/>
              <a:ext cx="2855880" cy="35388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7960" y="2795760"/>
              <a:ext cx="1440" cy="68076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135400" y="279576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33" y="0"/>
                  </a:moveTo>
                  <a:lnTo>
                    <a:pt x="68" y="79"/>
                  </a:lnTo>
                  <a:lnTo>
                    <a:pt x="68" y="79"/>
                  </a:lnTo>
                  <a:lnTo>
                    <a:pt x="66" y="79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60" y="76"/>
                  </a:lnTo>
                  <a:lnTo>
                    <a:pt x="57" y="73"/>
                  </a:lnTo>
                  <a:lnTo>
                    <a:pt x="55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9" y="73"/>
                  </a:lnTo>
                  <a:lnTo>
                    <a:pt x="47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1" y="70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0" y="70"/>
                  </a:lnTo>
                  <a:lnTo>
                    <a:pt x="28" y="70"/>
                  </a:lnTo>
                  <a:lnTo>
                    <a:pt x="25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19" y="73"/>
                  </a:lnTo>
                  <a:lnTo>
                    <a:pt x="17" y="73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1" y="73"/>
                  </a:lnTo>
                  <a:lnTo>
                    <a:pt x="9" y="76"/>
                  </a:lnTo>
                  <a:lnTo>
                    <a:pt x="6" y="76"/>
                  </a:lnTo>
                  <a:lnTo>
                    <a:pt x="3" y="76"/>
                  </a:lnTo>
                  <a:lnTo>
                    <a:pt x="3" y="79"/>
                  </a:lnTo>
                  <a:lnTo>
                    <a:pt x="0" y="79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745320" y="2876400"/>
              <a:ext cx="1440" cy="609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92760" y="3355920"/>
              <a:ext cx="108000" cy="13032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33" y="8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6" y="8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49" y="8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5" y="6"/>
                  </a:lnTo>
                  <a:lnTo>
                    <a:pt x="58" y="6"/>
                  </a:lnTo>
                  <a:lnTo>
                    <a:pt x="60" y="6"/>
                  </a:lnTo>
                  <a:lnTo>
                    <a:pt x="60" y="3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8" y="0"/>
                  </a:lnTo>
                  <a:lnTo>
                    <a:pt x="33" y="82"/>
                  </a:lnTo>
                  <a:lnTo>
                    <a:pt x="33" y="8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5560" y="2803680"/>
              <a:ext cx="1800" cy="55692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80120" y="280368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35" y="0"/>
                  </a:moveTo>
                  <a:lnTo>
                    <a:pt x="68" y="7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65" y="76"/>
                  </a:lnTo>
                  <a:lnTo>
                    <a:pt x="63" y="76"/>
                  </a:lnTo>
                  <a:lnTo>
                    <a:pt x="60" y="76"/>
                  </a:lnTo>
                  <a:lnTo>
                    <a:pt x="57" y="76"/>
                  </a:lnTo>
                  <a:lnTo>
                    <a:pt x="57" y="74"/>
                  </a:lnTo>
                  <a:lnTo>
                    <a:pt x="54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1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5" y="71"/>
                  </a:lnTo>
                  <a:lnTo>
                    <a:pt x="33" y="71"/>
                  </a:lnTo>
                  <a:lnTo>
                    <a:pt x="30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25" y="71"/>
                  </a:lnTo>
                  <a:lnTo>
                    <a:pt x="22" y="71"/>
                  </a:lnTo>
                  <a:lnTo>
                    <a:pt x="19" y="74"/>
                  </a:lnTo>
                  <a:lnTo>
                    <a:pt x="16" y="74"/>
                  </a:lnTo>
                  <a:lnTo>
                    <a:pt x="16" y="74"/>
                  </a:lnTo>
                  <a:lnTo>
                    <a:pt x="14" y="74"/>
                  </a:lnTo>
                  <a:lnTo>
                    <a:pt x="11" y="76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6" y="76"/>
                  </a:lnTo>
                  <a:lnTo>
                    <a:pt x="3" y="79"/>
                  </a:lnTo>
                  <a:lnTo>
                    <a:pt x="0" y="79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670720" y="2860560"/>
              <a:ext cx="1440" cy="63360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19600" y="3365640"/>
              <a:ext cx="108000" cy="128520"/>
            </a:xfrm>
            <a:custGeom>
              <a:avLst/>
              <a:gdLst/>
              <a:ahLst/>
              <a:rect l="l" t="t" r="r" b="b"/>
              <a:pathLst>
                <a:path w="68" h="81">
                  <a:moveTo>
                    <a:pt x="32" y="8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5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9" y="8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2"/>
                  </a:lnTo>
                  <a:lnTo>
                    <a:pt x="68" y="0"/>
                  </a:lnTo>
                  <a:lnTo>
                    <a:pt x="32" y="81"/>
                  </a:lnTo>
                  <a:lnTo>
                    <a:pt x="32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50040" y="2803680"/>
              <a:ext cx="1800" cy="564840"/>
            </a:xfrm>
            <a:prstGeom prst="line">
              <a:avLst/>
            </a:prstGeom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97840" y="280368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33" y="0"/>
                  </a:moveTo>
                  <a:lnTo>
                    <a:pt x="68" y="79"/>
                  </a:lnTo>
                  <a:lnTo>
                    <a:pt x="68" y="79"/>
                  </a:lnTo>
                  <a:lnTo>
                    <a:pt x="66" y="79"/>
                  </a:lnTo>
                  <a:lnTo>
                    <a:pt x="63" y="76"/>
                  </a:lnTo>
                  <a:lnTo>
                    <a:pt x="60" y="76"/>
                  </a:lnTo>
                  <a:lnTo>
                    <a:pt x="60" y="76"/>
                  </a:lnTo>
                  <a:lnTo>
                    <a:pt x="58" y="76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7" y="71"/>
                  </a:lnTo>
                  <a:lnTo>
                    <a:pt x="44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39" y="71"/>
                  </a:lnTo>
                  <a:lnTo>
                    <a:pt x="36" y="71"/>
                  </a:lnTo>
                  <a:lnTo>
                    <a:pt x="33" y="71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28" y="71"/>
                  </a:lnTo>
                  <a:lnTo>
                    <a:pt x="25" y="71"/>
                  </a:lnTo>
                  <a:lnTo>
                    <a:pt x="22" y="71"/>
                  </a:lnTo>
                  <a:lnTo>
                    <a:pt x="19" y="71"/>
                  </a:lnTo>
                  <a:lnTo>
                    <a:pt x="19" y="74"/>
                  </a:lnTo>
                  <a:lnTo>
                    <a:pt x="17" y="74"/>
                  </a:lnTo>
                  <a:lnTo>
                    <a:pt x="14" y="74"/>
                  </a:lnTo>
                  <a:lnTo>
                    <a:pt x="11" y="74"/>
                  </a:lnTo>
                  <a:lnTo>
                    <a:pt x="11" y="76"/>
                  </a:lnTo>
                  <a:lnTo>
                    <a:pt x="9" y="76"/>
                  </a:lnTo>
                  <a:lnTo>
                    <a:pt x="6" y="76"/>
                  </a:lnTo>
                  <a:lnTo>
                    <a:pt x="3" y="7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534440" y="2994120"/>
              <a:ext cx="6728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34440" y="2994120"/>
              <a:ext cx="672840" cy="276120"/>
            </a:xfrm>
            <a:prstGeom prst="rect">
              <a:avLst/>
            </a:prstGeom>
            <a:noFill/>
            <a:ln w="468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81960" y="2989440"/>
              <a:ext cx="46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f1a17"/>
                  </a:solidFill>
                  <a:latin typeface="Arial"/>
                </a:rPr>
                <a:t>MeO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33800" y="2963880"/>
              <a:ext cx="12960" cy="126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87360" y="2030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84480" y="25099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2-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77600" y="3494160"/>
              <a:ext cx="13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2+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69400" y="30924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43480" y="293040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3360" y="3214800"/>
            <a:ext cx="8625600" cy="3543480"/>
            <a:chOff x="63360" y="3214800"/>
            <a:chExt cx="8625600" cy="3543480"/>
          </a:xfrm>
        </p:grpSpPr>
        <p:sp>
          <p:nvSpPr>
            <p:cNvPr id="505" name=""/>
            <p:cNvSpPr/>
            <p:nvPr/>
          </p:nvSpPr>
          <p:spPr>
            <a:xfrm>
              <a:off x="446040" y="3214800"/>
              <a:ext cx="336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n-porous and adherent scal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abolic rate la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480" y="4114800"/>
              <a:ext cx="0" cy="2184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596880" y="6311880"/>
              <a:ext cx="2984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6880" y="4762440"/>
              <a:ext cx="2324160" cy="1536840"/>
            </a:xfrm>
            <a:custGeom>
              <a:avLst/>
              <a:gdLst/>
              <a:ahLst/>
              <a:rect l="l" t="t" r="r" b="b"/>
              <a:pathLst>
                <a:path w="1464" h="968">
                  <a:moveTo>
                    <a:pt x="0" y="968"/>
                  </a:moveTo>
                  <a:cubicBezTo>
                    <a:pt x="7" y="848"/>
                    <a:pt x="15" y="728"/>
                    <a:pt x="104" y="608"/>
                  </a:cubicBezTo>
                  <a:cubicBezTo>
                    <a:pt x="193" y="488"/>
                    <a:pt x="309" y="349"/>
                    <a:pt x="536" y="248"/>
                  </a:cubicBezTo>
                  <a:cubicBezTo>
                    <a:pt x="763" y="147"/>
                    <a:pt x="1113" y="73"/>
                    <a:pt x="1464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609480" y="4572000"/>
              <a:ext cx="216000" cy="168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360" y="4073400"/>
              <a:ext cx="331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35240" y="63594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32240" y="3654360"/>
              <a:ext cx="9673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Symbol"/>
                  <a:ea typeface="Symbol"/>
                </a:rPr>
                <a:t></a:t>
              </a: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²=k</a:t>
              </a:r>
              <a:r>
                <a:rPr b="1" lang="en-US" sz="2400" spc="-1" strike="noStrike" baseline="-25000">
                  <a:solidFill>
                    <a:srgbClr val="ff0033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47800" y="4205160"/>
              <a:ext cx="8298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linear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PS"/>
                  <a:ea typeface="SymbolPS"/>
                </a:rPr>
                <a:t>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=k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in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26920" y="6102360"/>
              <a:ext cx="42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(instead of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PS"/>
                  <a:ea typeface="SymbolPS"/>
                </a:rPr>
                <a:t>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often the weight gain W is measure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Selec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2200" y="1450800"/>
            <a:ext cx="36082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analysis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functional - struc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loading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environment (T,atmosphe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safety requir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service 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recyc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one ore more pa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engineering design (F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473720" y="1531800"/>
            <a:ext cx="4254480" cy="42228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449600" y="597060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lves, e.g. exhaust val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Selec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6880" y="1450800"/>
            <a:ext cx="30736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materials pre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metal (steel, Aluminum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poly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eram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ompo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new material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922560" y="3451320"/>
            <a:ext cx="4435560" cy="3305160"/>
          </a:xfrm>
          <a:prstGeom prst="rect">
            <a:avLst/>
          </a:prstGeom>
          <a:ln w="0">
            <a:noFill/>
          </a:ln>
        </p:spPr>
      </p:pic>
      <p:grpSp>
        <p:nvGrpSpPr>
          <p:cNvPr id="522" name=""/>
          <p:cNvGrpSpPr/>
          <p:nvPr/>
        </p:nvGrpSpPr>
        <p:grpSpPr>
          <a:xfrm>
            <a:off x="3251160" y="1652760"/>
            <a:ext cx="4196520" cy="1618560"/>
            <a:chOff x="3251160" y="1652760"/>
            <a:chExt cx="4196520" cy="1618560"/>
          </a:xfrm>
        </p:grpSpPr>
        <p:sp>
          <p:nvSpPr>
            <p:cNvPr id="523" name=""/>
            <p:cNvSpPr/>
            <p:nvPr/>
          </p:nvSpPr>
          <p:spPr>
            <a:xfrm>
              <a:off x="3914280" y="1652760"/>
              <a:ext cx="35334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fulfillment of the loading criter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st/availabi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anufactu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joi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recycl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51160" y="2374920"/>
              <a:ext cx="6714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65040" y="4181400"/>
            <a:ext cx="35575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materials mod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heat trea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oating (corrosion protectio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ear resistance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Selec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6880" y="1450800"/>
            <a:ext cx="39625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materials/component t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mechanical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corrosion res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prototype – testing under n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ice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5040" y="4181400"/>
            <a:ext cx="3557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design mod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30640" y="2398680"/>
            <a:ext cx="4645080" cy="4194720"/>
            <a:chOff x="4130640" y="2398680"/>
            <a:chExt cx="4645080" cy="419472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tretch/>
          </p:blipFill>
          <p:spPr>
            <a:xfrm>
              <a:off x="4140360" y="2398680"/>
              <a:ext cx="4635360" cy="31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4130640" y="5584680"/>
              <a:ext cx="2718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e.g. Volkswagen 1l car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Mg frame 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-fibre reinforced epox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2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3691080" y="2403360"/>
            <a:ext cx="5221080" cy="4218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mposite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38160" y="2003400"/>
            <a:ext cx="7408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dern applications require materials with unusual combinations of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se properties might even be contradic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ure gives good examples: Wood (strong and flexible cellulose fibers embedded in stiff lignin) or bone (strong and soft collagen combined with hard and brittle apati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kind of geometrical arrangements are generally possib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50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in divisions of Composite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35360" y="1843200"/>
            <a:ext cx="17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Compo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80720" y="2916360"/>
            <a:ext cx="6688440" cy="398880"/>
            <a:chOff x="1080720" y="2916360"/>
            <a:chExt cx="6688440" cy="398880"/>
          </a:xfrm>
        </p:grpSpPr>
        <p:sp>
          <p:nvSpPr>
            <p:cNvPr id="90" name=""/>
            <p:cNvSpPr/>
            <p:nvPr/>
          </p:nvSpPr>
          <p:spPr>
            <a:xfrm>
              <a:off x="1080720" y="2916360"/>
              <a:ext cx="209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icle-reinforc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20240" y="2916360"/>
              <a:ext cx="185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iber-reinforc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84040" y="291636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tructur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228680" y="3511440"/>
            <a:ext cx="6862680" cy="1923480"/>
            <a:chOff x="1228680" y="3511440"/>
            <a:chExt cx="6862680" cy="1923480"/>
          </a:xfrm>
        </p:grpSpPr>
        <p:sp>
          <p:nvSpPr>
            <p:cNvPr id="94" name=""/>
            <p:cNvSpPr/>
            <p:nvPr/>
          </p:nvSpPr>
          <p:spPr>
            <a:xfrm>
              <a:off x="1228680" y="3511440"/>
              <a:ext cx="1668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Large partic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Dispersion strengthen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95840" y="3511440"/>
              <a:ext cx="16682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Continuous (aligned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Discontinuo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(shor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23120" y="3511440"/>
              <a:ext cx="1668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Lamina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Times New Roman"/>
                </a:rPr>
                <a:t>Sandwich pane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What geometrical information do we need?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8160" y="2003400"/>
            <a:ext cx="7408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order to describe the dispersed phase in the matrix the following terms are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en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i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article reinforced composi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8160" y="1517760"/>
            <a:ext cx="740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rge particle compo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n goal here is an improvement of mechanical proper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of mixture for elastic modu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per bou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er b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ymers with fill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cr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persion strengthened composi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nk tempered martens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63600" y="3619440"/>
            <a:ext cx="8156520" cy="1000080"/>
            <a:chOff x="363600" y="3619440"/>
            <a:chExt cx="8156520" cy="1000080"/>
          </a:xfrm>
        </p:grpSpPr>
        <p:sp>
          <p:nvSpPr>
            <p:cNvPr id="102" name=""/>
            <p:cNvSpPr/>
            <p:nvPr/>
          </p:nvSpPr>
          <p:spPr>
            <a:xfrm>
              <a:off x="363600" y="3619440"/>
              <a:ext cx="815652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39800" y="3638520"/>
              <a:ext cx="7081920" cy="954000"/>
              <a:chOff x="739800" y="3638520"/>
              <a:chExt cx="7081920" cy="954000"/>
            </a:xfrm>
          </p:grpSpPr>
          <mc:AlternateContent>
            <mc:Choice xmlns:a14="http://schemas.microsoft.com/office/drawing/2010/main" Requires="a14">
              <p:sp>
                <p:nvSpPr>
                  <p:cNvPr id="104" name=""/>
                  <p:cNvSpPr txBox="1"/>
                  <p:nvPr/>
                </p:nvSpPr>
                <p:spPr>
                  <a:xfrm>
                    <a:off x="739800" y="3882960"/>
                    <a:ext cx="2982960" cy="46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4830840" y="3638520"/>
                    <a:ext cx="2990880" cy="95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iber reinforced composi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8160" y="1517760"/>
            <a:ext cx="740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er reinforced composite materials are the technologically most important form of composite mate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ypical examples 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ass fiber reinforced poly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rbon fiber reinforced polym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erformance of such fiber reinforced composites – if everything else (fiber length, orientation etc.) is taken care of – critically depend on the interfacial bonding between fiber and matr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ads to a number of strategies to improve this bo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sma ac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mical function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ayered composi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8160" y="1617840"/>
            <a:ext cx="7408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minar composites and sandwich panels are the standard macroscopic technologically exploited forms of “layered” composite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ating technology allows to create relative complex layered composite structures with relative 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re structures range f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BE  superlattic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standard” multi-lay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ever, these layered systems should not be confused with functional layered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0000" indent="-35712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: Quest for ultimate technological hard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098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2084F" descr=""/>
          <p:cNvPicPr/>
          <p:nvPr/>
        </p:nvPicPr>
        <p:blipFill>
          <a:blip r:embed="rId1"/>
          <a:stretch/>
        </p:blipFill>
        <p:spPr>
          <a:xfrm>
            <a:off x="-257040" y="0"/>
            <a:ext cx="10090080" cy="686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93040" y="2403360"/>
            <a:ext cx="3227040" cy="14346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grad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Degrad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3520" y="1166760"/>
            <a:ext cx="6751800" cy="3435480"/>
            <a:chOff x="263520" y="1166760"/>
            <a:chExt cx="6751800" cy="3435480"/>
          </a:xfrm>
        </p:grpSpPr>
        <p:sp>
          <p:nvSpPr>
            <p:cNvPr id="116" name=""/>
            <p:cNvSpPr/>
            <p:nvPr/>
          </p:nvSpPr>
          <p:spPr>
            <a:xfrm>
              <a:off x="747000" y="1792440"/>
              <a:ext cx="97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atig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rac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7" name="6315A" descr=""/>
            <p:cNvPicPr/>
            <p:nvPr/>
          </p:nvPicPr>
          <p:blipFill>
            <a:blip r:embed="rId1"/>
            <a:stretch/>
          </p:blipFill>
          <p:spPr>
            <a:xfrm>
              <a:off x="1943280" y="1166760"/>
              <a:ext cx="3584520" cy="24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63520" y="1247760"/>
              <a:ext cx="1656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mechani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p2" descr=""/>
            <p:cNvPicPr/>
            <p:nvPr/>
          </p:nvPicPr>
          <p:blipFill>
            <a:blip r:embed="rId2"/>
            <a:stretch/>
          </p:blipFill>
          <p:spPr>
            <a:xfrm>
              <a:off x="5632560" y="1176480"/>
              <a:ext cx="1382760" cy="342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1182960" y="2354400"/>
            <a:ext cx="6602040" cy="2789280"/>
            <a:chOff x="1182960" y="2354400"/>
            <a:chExt cx="6602040" cy="2789280"/>
          </a:xfrm>
        </p:grpSpPr>
        <p:sp>
          <p:nvSpPr>
            <p:cNvPr id="121" name=""/>
            <p:cNvSpPr/>
            <p:nvPr/>
          </p:nvSpPr>
          <p:spPr>
            <a:xfrm>
              <a:off x="1182960" y="4129200"/>
              <a:ext cx="2964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queous corro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high-temperature corro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02400" y="3711600"/>
              <a:ext cx="157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chem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308480" y="2354400"/>
            <a:ext cx="3476520" cy="278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08480" y="2354400"/>
                      <a:ext cx="3476520" cy="278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5" name=""/>
          <p:cNvGrpSpPr/>
          <p:nvPr/>
        </p:nvGrpSpPr>
        <p:grpSpPr>
          <a:xfrm>
            <a:off x="3729240" y="4108320"/>
            <a:ext cx="5211720" cy="2434320"/>
            <a:chOff x="3729240" y="4108320"/>
            <a:chExt cx="5211720" cy="2434320"/>
          </a:xfrm>
        </p:grpSpPr>
        <p:sp>
          <p:nvSpPr>
            <p:cNvPr id="126" name=""/>
            <p:cNvSpPr/>
            <p:nvPr/>
          </p:nvSpPr>
          <p:spPr>
            <a:xfrm>
              <a:off x="3729960" y="5838840"/>
              <a:ext cx="104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bra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wea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29240" y="5349960"/>
              <a:ext cx="1674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33"/>
                  </a:solidFill>
                  <a:latin typeface="Times New Roman"/>
                </a:rPr>
                <a:t>tribologic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1937P" descr=""/>
            <p:cNvPicPr/>
            <p:nvPr/>
          </p:nvPicPr>
          <p:blipFill>
            <a:blip r:embed="rId5"/>
            <a:stretch/>
          </p:blipFill>
          <p:spPr>
            <a:xfrm>
              <a:off x="5370480" y="4108320"/>
              <a:ext cx="3570480" cy="2432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gk481</cp:lastModifiedBy>
  <dcterms:modified xsi:type="dcterms:W3CDTF">2007-01-22T06:44:59Z</dcterms:modified>
  <cp:revision>120</cp:revision>
  <dc:subject/>
  <dc:title>Rasterelektronenmikroskopie</dc:title>
</cp:coreProperties>
</file>