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.wmf" ContentType="image/x-wmf"/>
  <Override PartName="/ppt/media/image32.wmf" ContentType="image/x-wmf"/>
  <Override PartName="/ppt/media/image18.jpeg" ContentType="image/jpeg"/>
  <Override PartName="/ppt/media/image38.png" ContentType="image/png"/>
  <Override PartName="/ppt/media/image13.jpeg" ContentType="image/jpeg"/>
  <Override PartName="/ppt/media/image23.png" ContentType="image/png"/>
  <Override PartName="/ppt/media/image30.wmf" ContentType="image/x-wmf"/>
  <Override PartName="/ppt/media/image33.wmf" ContentType="image/x-wmf"/>
  <Override PartName="/ppt/media/image10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34.wmf" ContentType="image/x-wmf"/>
  <Override PartName="/ppt/media/image35.wmf" ContentType="image/x-wmf"/>
  <Override PartName="/ppt/media/image3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9.wmf" ContentType="image/x-wmf"/>
  <Override PartName="/ppt/media/image41.png" ContentType="image/png"/>
  <Override PartName="/ppt/media/image42.png" ContentType="image/png"/>
  <Override PartName="/ppt/media/image25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14.wmf" ContentType="image/x-wmf"/>
  <Override PartName="/ppt/media/image15.wmf" ContentType="image/x-wmf"/>
  <Override PartName="/ppt/media/image16.wmf" ContentType="image/x-wmf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E39-71B6-47AC-B40C-5E788E11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05F-87D3-470C-9975-D0925DD6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604-26B7-464A-97E6-210FDA5A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3F2-0927-43D0-944E-5DFBD2DA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7E26-D7DE-4C40-8902-04F11FD4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972-CA6F-4D43-A4C7-8C7FDBEF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0091-97C0-48FD-B7E4-9D1E83E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506C-176A-4225-907F-1B5C92F2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7B7B-973C-4401-896C-90766196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E144-DC28-42C3-B2F4-99B5D4BB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CEB2-1431-4742-80F9-1159C7C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B3B-0A34-4F02-AE3C-8BF4AD71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1DD4-B3AF-4B19-B712-9B7293A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3AFD-88F6-485A-9668-318D3E6E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D047-2567-4023-92DB-78536C0A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175C-581A-4A7B-9EC0-6FBB92E9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077-33B8-472C-AEDE-EADD8F94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EAB-D644-48C2-A4F1-FCEEDA3E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1A5-E5BE-41FF-BF99-A0FF388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44C-0C40-4FDF-B34D-818E2D96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39E-E3C1-4E2F-A342-F4596D0D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10A-A68D-431D-A163-637D36CC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69D-003A-4B7C-82CB-A2AA34D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4EC-043B-4986-BDFC-E594AEA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F1C7-595E-438C-BA03-F59894A0ED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BB5-F3B1-4725-AC0A-EF10AE4CC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ast lectu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to materials science and 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/ electron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Example: Glas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353960"/>
            <a:ext cx="8313480" cy="4600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5680" y="5613480"/>
            <a:ext cx="8636040" cy="1054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8240" y="5794200"/>
            <a:ext cx="16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crystall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71920" y="5807160"/>
            <a:ext cx="17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quartz g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amorpho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95200" y="48672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4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49880" y="4587840"/>
            <a:ext cx="5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4749840"/>
            <a:ext cx="15228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74920" y="4508640"/>
            <a:ext cx="190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7800" y="5857920"/>
            <a:ext cx="17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amorpho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64160" y="4737240"/>
            <a:ext cx="1435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rystalline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9480" y="1892160"/>
            <a:ext cx="3873240" cy="4654080"/>
            <a:chOff x="609480" y="1892160"/>
            <a:chExt cx="3873240" cy="4654080"/>
          </a:xfrm>
        </p:grpSpPr>
        <p:grpSp>
          <p:nvGrpSpPr>
            <p:cNvPr id="164" name=""/>
            <p:cNvGrpSpPr/>
            <p:nvPr/>
          </p:nvGrpSpPr>
          <p:grpSpPr>
            <a:xfrm>
              <a:off x="609480" y="1892160"/>
              <a:ext cx="3873240" cy="4077000"/>
              <a:chOff x="609480" y="1892160"/>
              <a:chExt cx="3873240" cy="4077000"/>
            </a:xfrm>
          </p:grpSpPr>
          <p:sp>
            <p:nvSpPr>
              <p:cNvPr id="165" name=""/>
              <p:cNvSpPr/>
              <p:nvPr/>
            </p:nvSpPr>
            <p:spPr>
              <a:xfrm>
                <a:off x="609480" y="1892160"/>
                <a:ext cx="3873240" cy="407700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7760" y="2585880"/>
                <a:ext cx="3692520" cy="265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"/>
            <p:cNvSpPr/>
            <p:nvPr/>
          </p:nvSpPr>
          <p:spPr>
            <a:xfrm>
              <a:off x="1544760" y="60865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simple cubi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6120" y="1892160"/>
            <a:ext cx="3873600" cy="4689000"/>
            <a:chOff x="546120" y="1892160"/>
            <a:chExt cx="3873600" cy="4689000"/>
          </a:xfrm>
        </p:grpSpPr>
        <p:grpSp>
          <p:nvGrpSpPr>
            <p:cNvPr id="169" name=""/>
            <p:cNvGrpSpPr/>
            <p:nvPr/>
          </p:nvGrpSpPr>
          <p:grpSpPr>
            <a:xfrm>
              <a:off x="546120" y="1892160"/>
              <a:ext cx="3873600" cy="4077000"/>
              <a:chOff x="546120" y="1892160"/>
              <a:chExt cx="3873600" cy="4077000"/>
            </a:xfrm>
          </p:grpSpPr>
          <p:sp>
            <p:nvSpPr>
              <p:cNvPr id="170" name=""/>
              <p:cNvSpPr/>
              <p:nvPr/>
            </p:nvSpPr>
            <p:spPr>
              <a:xfrm>
                <a:off x="546120" y="1892160"/>
                <a:ext cx="3873600" cy="4077000"/>
              </a:xfrm>
              <a:prstGeom prst="rect">
                <a:avLst/>
              </a:prstGeom>
              <a:solidFill>
                <a:srgbClr val="f8f8f8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69960" y="2548080"/>
                <a:ext cx="3746520" cy="268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" name=""/>
            <p:cNvSpPr/>
            <p:nvPr/>
          </p:nvSpPr>
          <p:spPr>
            <a:xfrm>
              <a:off x="882720" y="6121440"/>
              <a:ext cx="33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body-centered cubic (bc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72280" y="1384200"/>
            <a:ext cx="2552400" cy="2621880"/>
            <a:chOff x="5372280" y="1384200"/>
            <a:chExt cx="2552400" cy="2621880"/>
          </a:xfrm>
        </p:grpSpPr>
        <p:grpSp>
          <p:nvGrpSpPr>
            <p:cNvPr id="174" name=""/>
            <p:cNvGrpSpPr/>
            <p:nvPr/>
          </p:nvGrpSpPr>
          <p:grpSpPr>
            <a:xfrm>
              <a:off x="5372280" y="1384200"/>
              <a:ext cx="2552400" cy="2210040"/>
              <a:chOff x="5372280" y="1384200"/>
              <a:chExt cx="2552400" cy="2210040"/>
            </a:xfrm>
          </p:grpSpPr>
          <p:sp>
            <p:nvSpPr>
              <p:cNvPr id="175" name=""/>
              <p:cNvSpPr/>
              <p:nvPr/>
            </p:nvSpPr>
            <p:spPr>
              <a:xfrm>
                <a:off x="5372280" y="1384200"/>
                <a:ext cx="2552400" cy="2210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5479920" y="1434960"/>
              <a:ext cx="2256120" cy="2105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479920" y="1434960"/>
                        <a:ext cx="2256120" cy="2105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78" name=""/>
            <p:cNvSpPr/>
            <p:nvPr/>
          </p:nvSpPr>
          <p:spPr>
            <a:xfrm>
              <a:off x="6093720" y="354636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b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46720" y="4013280"/>
            <a:ext cx="2552760" cy="2660040"/>
            <a:chOff x="5346720" y="4013280"/>
            <a:chExt cx="2552760" cy="2660040"/>
          </a:xfrm>
        </p:grpSpPr>
        <p:sp>
          <p:nvSpPr>
            <p:cNvPr id="180" name=""/>
            <p:cNvSpPr/>
            <p:nvPr/>
          </p:nvSpPr>
          <p:spPr>
            <a:xfrm>
              <a:off x="5346720" y="4013280"/>
              <a:ext cx="255276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20440" y="62136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f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5505480" y="4111560"/>
            <a:ext cx="2197080" cy="204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5480" y="4111560"/>
                      <a:ext cx="2197080" cy="20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2362320"/>
            <a:ext cx="3555720" cy="35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Hexagonal Crystal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58880" y="17938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cp unit 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52640" y="2443320"/>
          <a:ext cx="292248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2443320"/>
                    <a:ext cx="292248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73720" y="2476440"/>
            <a:ext cx="4492440" cy="3362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337440" y="320040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337440" y="43689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Stacking Sequence of 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lose-Packed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86680" y="1920960"/>
            <a:ext cx="5290200" cy="4068720"/>
            <a:chOff x="1786680" y="1920960"/>
            <a:chExt cx="5290200" cy="406872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1804680" y="2791080"/>
              <a:ext cx="52722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786680" y="192096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first plane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808280" y="1933560"/>
            <a:ext cx="5429160" cy="4047840"/>
            <a:chOff x="1808280" y="1933560"/>
            <a:chExt cx="5429160" cy="4047840"/>
          </a:xfrm>
        </p:grpSpPr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1808280" y="2779560"/>
              <a:ext cx="5429160" cy="32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823040" y="1933560"/>
              <a:ext cx="41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first plane A and second plane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93880" y="1946160"/>
            <a:ext cx="6460200" cy="4035240"/>
            <a:chOff x="1793880" y="1946160"/>
            <a:chExt cx="6460200" cy="4035240"/>
          </a:xfrm>
        </p:grpSpPr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>
              <a:off x="1793880" y="2779560"/>
              <a:ext cx="5735880" cy="32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808280" y="1946160"/>
              <a:ext cx="644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first plane A, second plane B and third plane C: fc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781640" y="1984320"/>
            <a:ext cx="6529680" cy="3984480"/>
            <a:chOff x="1781640" y="1984320"/>
            <a:chExt cx="6529680" cy="3984480"/>
          </a:xfrm>
        </p:grpSpPr>
        <p:sp>
          <p:nvSpPr>
            <p:cNvPr id="203" name=""/>
            <p:cNvSpPr/>
            <p:nvPr/>
          </p:nvSpPr>
          <p:spPr>
            <a:xfrm>
              <a:off x="1781640" y="1984320"/>
              <a:ext cx="652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first plane A, second plane B and third plane A: hc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4"/>
            <a:stretch/>
          </p:blipFill>
          <p:spPr>
            <a:xfrm>
              <a:off x="1798200" y="2779560"/>
              <a:ext cx="5740560" cy="318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FCC and BCC Solid Sphere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7400" y="1969920"/>
            <a:ext cx="3724560" cy="3475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03720" y="1957320"/>
            <a:ext cx="3326040" cy="3489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2565360" y="2793600"/>
            <a:ext cx="292320" cy="15228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40160" y="2870280"/>
            <a:ext cx="34272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648240" y="3901680"/>
            <a:ext cx="209520" cy="13356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746520" y="3835440"/>
            <a:ext cx="6480" cy="26676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05040" y="2867040"/>
            <a:ext cx="1038240" cy="114300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35560" y="1984320"/>
            <a:ext cx="1076400" cy="340056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63080" y="14256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cc unit 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35160" y="14382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cc unit c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3695760"/>
            <a:ext cx="558720" cy="571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36920" y="406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87720" y="5553000"/>
            <a:ext cx="46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R = atomic radius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  = unit cell length / lattice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36560" y="318780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85800" y="528336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1800" y="3187800"/>
            <a:ext cx="0" cy="2095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0280" y="38386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99080" y="1955880"/>
            <a:ext cx="419040" cy="34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813200" y="299736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775040" y="518148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040" y="3009960"/>
            <a:ext cx="0" cy="2197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2480" y="3902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rystalline Structures of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6200" y="1397160"/>
            <a:ext cx="8381880" cy="5010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825560" y="124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38360" y="1397160"/>
            <a:ext cx="581652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7080" y="1384200"/>
            <a:ext cx="6805440" cy="490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Lattice Parameter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7440" y="1803240"/>
          <a:ext cx="450396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7440" y="1803240"/>
                    <a:ext cx="450396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714760" y="2309760"/>
          <a:ext cx="3547800" cy="32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2309760"/>
                    <a:ext cx="3547800" cy="32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924200" y="1460520"/>
          <a:ext cx="5614920" cy="456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24200" y="1460520"/>
                    <a:ext cx="561492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rystal System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90400" y="1397160"/>
            <a:ext cx="7986960" cy="5144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38360" y="1930320"/>
            <a:ext cx="825480" cy="4190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400" y="3784680"/>
            <a:ext cx="1244520" cy="4190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360" y="5600880"/>
            <a:ext cx="1206360" cy="4190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rystal System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297080" y="1231920"/>
            <a:ext cx="6284880" cy="5245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ow to define a direc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ctor of convenient length (pass through orig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the vector to the axes (and measure in a, b, and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or divide these numbers by common factor to get smallest set of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m down as [uvw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oda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ding in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 of crystal sol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Miller Indices: 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rystallographic Direc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8360" y="1866960"/>
            <a:ext cx="7275240" cy="467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225440" y="2000160"/>
          <a:ext cx="624852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2000160"/>
                    <a:ext cx="624852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149480" y="2008080"/>
          <a:ext cx="6311880" cy="44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9480" y="2008080"/>
                    <a:ext cx="631188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Miller Indices: Crystallographic Directions (Miller Bravai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8360" y="1536840"/>
            <a:ext cx="7275240" cy="50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84320" y="1663560"/>
          <a:ext cx="436104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4320" y="1663560"/>
                    <a:ext cx="436104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ow to define a pla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e may not include origi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intercepts with appropriate axes as a, b, an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reciprocals (no intercept means infinity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ciprocal of infinity =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or divide these numbers by common factor to get smallest set of inte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m down as (hk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38360" y="1625760"/>
            <a:ext cx="7707240" cy="45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Miller Indices: 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Lattice Plan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600360" y="1687680"/>
          <a:ext cx="476100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0360" y="1687680"/>
                    <a:ext cx="476100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575160" y="1681200"/>
          <a:ext cx="4811760" cy="44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5160" y="1681200"/>
                    <a:ext cx="48117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600360" y="1714680"/>
          <a:ext cx="4761000" cy="440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00360" y="1714680"/>
                    <a:ext cx="476100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109880" y="244008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section points: 1/2 a, 1/2b, 1/2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iprocal values: (22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413080"/>
            <a:ext cx="38736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Defec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de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de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dimensional de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82760" y="2425680"/>
            <a:ext cx="8229600" cy="32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Point Defec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94400" y="178128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elf-interstit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49680" y="18194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ac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63400" y="2728800"/>
            <a:ext cx="8050320" cy="259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82760" y="2425680"/>
            <a:ext cx="8229600" cy="32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Impurity Atom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42880" y="2709720"/>
            <a:ext cx="8101080" cy="2667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495840" y="178128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terstit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23480" y="184464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substitu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Dislocations: Edge Disloc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27200" y="1898640"/>
            <a:ext cx="6413400" cy="4754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902120" y="4224240"/>
            <a:ext cx="1800" cy="2080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37240" y="4444920"/>
            <a:ext cx="333360" cy="18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009960" y="1438200"/>
            <a:ext cx="4523400" cy="4149360"/>
            <a:chOff x="3009960" y="1438200"/>
            <a:chExt cx="4523400" cy="4149360"/>
          </a:xfrm>
        </p:grpSpPr>
        <p:sp>
          <p:nvSpPr>
            <p:cNvPr id="288" name=""/>
            <p:cNvSpPr/>
            <p:nvPr/>
          </p:nvSpPr>
          <p:spPr>
            <a:xfrm>
              <a:off x="5546520" y="1438200"/>
              <a:ext cx="198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Burgers v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009960" y="2425680"/>
              <a:ext cx="3771720" cy="3161880"/>
              <a:chOff x="3009960" y="2425680"/>
              <a:chExt cx="3771720" cy="3161880"/>
            </a:xfrm>
          </p:grpSpPr>
          <p:sp>
            <p:nvSpPr>
              <p:cNvPr id="290" name=""/>
              <p:cNvSpPr/>
              <p:nvPr/>
            </p:nvSpPr>
            <p:spPr>
              <a:xfrm>
                <a:off x="3009960" y="2425680"/>
                <a:ext cx="1879560" cy="126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56080" y="5575320"/>
                <a:ext cx="279396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>
                <a:off x="3403080" y="4749480"/>
                <a:ext cx="165240" cy="825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3034800" y="3250800"/>
                <a:ext cx="381240" cy="1498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3035160" y="2450880"/>
                <a:ext cx="12960" cy="81252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756480" y="2425680"/>
                <a:ext cx="12600" cy="8128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451560" y="3289320"/>
                <a:ext cx="330120" cy="1549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337440" y="4800240"/>
                <a:ext cx="114120" cy="78732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05440" y="2425680"/>
                <a:ext cx="8636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H="1">
              <a:off x="5435280" y="1676520"/>
              <a:ext cx="12708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127600" y="140004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erted half pl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59120" y="1866960"/>
            <a:ext cx="1067040" cy="1155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661120" y="3835440"/>
            <a:ext cx="2431440" cy="805680"/>
            <a:chOff x="2661120" y="3835440"/>
            <a:chExt cx="2431440" cy="805680"/>
          </a:xfrm>
        </p:grpSpPr>
        <p:sp>
          <p:nvSpPr>
            <p:cNvPr id="303" name=""/>
            <p:cNvSpPr/>
            <p:nvPr/>
          </p:nvSpPr>
          <p:spPr>
            <a:xfrm flipH="1">
              <a:off x="4775040" y="3860640"/>
              <a:ext cx="254160" cy="2667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88000" y="3886200"/>
              <a:ext cx="266760" cy="2541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661120" y="3835440"/>
              <a:ext cx="2431440" cy="805680"/>
              <a:chOff x="2661120" y="3835440"/>
              <a:chExt cx="2431440" cy="805680"/>
            </a:xfrm>
          </p:grpSpPr>
          <p:sp>
            <p:nvSpPr>
              <p:cNvPr id="306" name=""/>
              <p:cNvSpPr/>
              <p:nvPr/>
            </p:nvSpPr>
            <p:spPr>
              <a:xfrm>
                <a:off x="4711680" y="383544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661120" y="4181400"/>
                <a:ext cx="2056680" cy="4597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Times New Roman"/>
                  </a:rPr>
                  <a:t>dislocation lin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Dislocations: Screw Disloc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719360" y="1432080"/>
            <a:ext cx="5565600" cy="4994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V="1">
            <a:off x="4051440" y="4889520"/>
            <a:ext cx="203040" cy="10152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73400" y="5867280"/>
            <a:ext cx="9903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2920" y="59691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rgers v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1680" y="5045040"/>
            <a:ext cx="152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s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14680" y="5562720"/>
            <a:ext cx="698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Grain Boundar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670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921120" y="1933560"/>
            <a:ext cx="5005440" cy="4495320"/>
            <a:chOff x="3921120" y="1933560"/>
            <a:chExt cx="5005440" cy="4495320"/>
          </a:xfrm>
        </p:grpSpPr>
        <p:pic>
          <p:nvPicPr>
            <p:cNvPr id="318" name="Chandig" descr=""/>
            <p:cNvPicPr/>
            <p:nvPr/>
          </p:nvPicPr>
          <p:blipFill>
            <a:blip r:embed="rId1"/>
            <a:stretch/>
          </p:blipFill>
          <p:spPr>
            <a:xfrm>
              <a:off x="3921120" y="2509920"/>
              <a:ext cx="5005440" cy="39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4273920" y="1933560"/>
              <a:ext cx="39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Ni-Base Superalloy Waspallo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83200" y="5969160"/>
              <a:ext cx="89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50µ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73920" y="6032520"/>
              <a:ext cx="77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18960" y="1889280"/>
            <a:ext cx="3905280" cy="3865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149480" y="117792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igh-angle grain boundary (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&gt;15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650960" y="1638360"/>
            <a:ext cx="3816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203720" y="1222200"/>
            <a:ext cx="4635360" cy="4835880"/>
            <a:chOff x="4203720" y="1222200"/>
            <a:chExt cx="4635360" cy="4835880"/>
          </a:xfrm>
        </p:grpSpPr>
        <p:pic>
          <p:nvPicPr>
            <p:cNvPr id="326" name="" descr=""/>
            <p:cNvPicPr/>
            <p:nvPr/>
          </p:nvPicPr>
          <p:blipFill>
            <a:blip r:embed="rId3"/>
            <a:stretch/>
          </p:blipFill>
          <p:spPr>
            <a:xfrm>
              <a:off x="6539040" y="1222200"/>
              <a:ext cx="2300040" cy="483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403880" y="3343320"/>
              <a:ext cx="203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low-ang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Times New Roman"/>
                </a:rPr>
                <a:t>grain bound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203720" y="3720960"/>
              <a:ext cx="203040" cy="5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7080" y="1282680"/>
            <a:ext cx="6411960" cy="529596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Bonding Forces and Energ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5680" y="1406520"/>
          <a:ext cx="5657760" cy="50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406520"/>
                    <a:ext cx="565776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603600" y="2125800"/>
          <a:ext cx="4038480" cy="28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0" y="2125800"/>
                    <a:ext cx="403848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562440" y="3963960"/>
            <a:ext cx="11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e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87760" y="3919680"/>
            <a:ext cx="171360" cy="17928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nex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roperties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6920" y="1603440"/>
            <a:ext cx="8744040" cy="461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79560" y="5232240"/>
            <a:ext cx="6654960" cy="9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32640" y="1778040"/>
            <a:ext cx="495360" cy="290844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62840" y="2273400"/>
            <a:ext cx="495360" cy="24256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85080" y="2273400"/>
            <a:ext cx="977760" cy="96516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02320" y="2273400"/>
            <a:ext cx="482760" cy="144756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273400"/>
            <a:ext cx="482400" cy="46980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72480" y="3238560"/>
            <a:ext cx="977760" cy="46980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54880" y="3733920"/>
            <a:ext cx="482760" cy="46980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000" y="551484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6800" y="543888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ON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05080" y="49309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70600" y="3683160"/>
            <a:ext cx="355680" cy="128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343720" y="4660920"/>
            <a:ext cx="228600" cy="853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1333080"/>
            <a:ext cx="0" cy="1244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1720" y="2590920"/>
            <a:ext cx="1600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4240" y="18162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ncreasing electronega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Ionic Bonding     </a:t>
            </a: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Covalent Bond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240" y="2286000"/>
            <a:ext cx="7221600" cy="3022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95280" y="136224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.g. sodium chlor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02120" y="2286000"/>
            <a:ext cx="6340680" cy="3022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918560" y="1689120"/>
            <a:ext cx="3593880" cy="447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4480" y="2286000"/>
            <a:ext cx="6476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6240" y="1400040"/>
            <a:ext cx="17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.g. meth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8720" y="1447920"/>
            <a:ext cx="763272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Metallic Bond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90560" y="1909800"/>
          <a:ext cx="722952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1909800"/>
                    <a:ext cx="722952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74720" y="1987560"/>
          <a:ext cx="733248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720" y="1987560"/>
                    <a:ext cx="73324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881360" y="1479600"/>
          <a:ext cx="4962240" cy="485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1360" y="1479600"/>
                    <a:ext cx="496224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Bonding Energ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4320" y="1506600"/>
          <a:ext cx="8743680" cy="46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506600"/>
                    <a:ext cx="874368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1130400" y="2666880"/>
            <a:ext cx="1233000" cy="3111480"/>
            <a:chOff x="1130400" y="2666880"/>
            <a:chExt cx="1233000" cy="3111480"/>
          </a:xfrm>
        </p:grpSpPr>
        <p:sp>
          <p:nvSpPr>
            <p:cNvPr id="133" name=""/>
            <p:cNvSpPr/>
            <p:nvPr/>
          </p:nvSpPr>
          <p:spPr>
            <a:xfrm>
              <a:off x="1130400" y="2666880"/>
              <a:ext cx="166680" cy="139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130400" y="4381560"/>
              <a:ext cx="166680" cy="16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297080" y="2806200"/>
              <a:ext cx="0" cy="1613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0200" y="4851360"/>
              <a:ext cx="166680" cy="139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612800" y="5613480"/>
              <a:ext cx="166680" cy="164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766520" y="5003640"/>
              <a:ext cx="12600" cy="64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480" y="51465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3300"/>
                  </a:solidFill>
                  <a:latin typeface="Times New Roman"/>
                </a:rPr>
                <a:t>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8160" y="339408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3300"/>
                  </a:solidFill>
                  <a:latin typeface="Times New Roman"/>
                </a:rPr>
                <a:t>hig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0" y="4826160"/>
            <a:ext cx="9144000" cy="1523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rystalline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06440" y="1892160"/>
            <a:ext cx="3873600" cy="408960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Crystalline Structur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7440" y="14349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morph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0960" y="14349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rystal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9000" y="2496960"/>
          <a:ext cx="2217600" cy="28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2496960"/>
                    <a:ext cx="22176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470480" y="1892160"/>
            <a:ext cx="3873600" cy="407700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556160" y="2585880"/>
            <a:ext cx="3692520" cy="265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TS</cp:lastModifiedBy>
  <dcterms:modified xsi:type="dcterms:W3CDTF">2006-10-29T21:32:12Z</dcterms:modified>
  <cp:revision>69</cp:revision>
  <dc:subject/>
  <dc:title>Rasterelektronenmikroskopie</dc:title>
</cp:coreProperties>
</file>