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3.jpeg" ContentType="image/jpeg"/>
  <Override PartName="/ppt/media/image12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8.jpeg" ContentType="image/jpeg"/>
  <Override PartName="/ppt/media/image20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40.wmf" ContentType="image/x-wmf"/>
  <Override PartName="/ppt/media/image8.wmf" ContentType="image/x-wmf"/>
  <Override PartName="/ppt/media/image13.png" ContentType="image/png"/>
  <Override PartName="/ppt/media/image33.wmf" ContentType="image/x-wmf"/>
  <Override PartName="/ppt/media/image34.png" ContentType="image/png"/>
  <Override PartName="/ppt/media/image38.jpeg" ContentType="image/jpeg"/>
  <Override PartName="/ppt/media/image9.wmf" ContentType="image/x-wmf"/>
  <Override PartName="/ppt/media/image41.png" ContentType="image/png"/>
  <Override PartName="/ppt/media/image39.wmf" ContentType="image/x-wmf"/>
  <Override PartName="/ppt/media/image37.jpeg" ContentType="image/jpeg"/>
  <Override PartName="/ppt/media/image30.png" ContentType="image/png"/>
  <Override PartName="/ppt/media/image42.png" ContentType="image/png"/>
  <Override PartName="/ppt/media/image36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15.png" ContentType="image/png"/>
  <Override PartName="/ppt/media/image24.jpeg" ContentType="image/jpeg"/>
  <Override PartName="/ppt/media/image35.wmf" ContentType="image/x-wmf"/>
  <Override PartName="/ppt/media/image5.wmf" ContentType="image/x-wmf"/>
  <Override PartName="/ppt/media/image4.wmf" ContentType="image/x-wmf"/>
  <Override PartName="/ppt/media/image3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B53-9A79-496D-A1DE-2B8C91A3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838-A6B5-4B9C-9BDA-BE437EFB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8A0-3E55-4328-8252-28DA1483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DD5-2A94-489C-AC58-A40BF018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F8D6-4A98-433F-B663-A3A4961B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FFBC-0FAA-41E3-AD4F-1BDAB039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3BB9-C85F-44D8-B7AD-5FE39DCE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81C9-C05C-42C6-A5DD-E3A4F859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0817-98D1-4349-9961-639475C9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4093-C63A-4ACE-8DFC-BF3C962F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4564-00E9-4AAE-8579-7B289152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E11-9CB5-4F62-8651-377DBDBE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B1D9-B986-40C9-A243-1A879CA1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3E8E-0E45-43B7-BD50-C9DE1D74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4D15-7B85-47CB-BA7D-107A18B1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B257-14E1-4F99-BD6A-76D18DB7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18F4-6CC0-436D-8E1C-39F43D91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476-CFD3-4DE7-9AF3-9313E9C1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4CB-CAC2-4674-9EDB-54BC6D71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542-9BE2-45E8-93F4-3DFDC20A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030-E893-4590-B1CA-DF86ED45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D19-EE16-49FF-8DD5-8F1EFB03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ADF-10F1-48DB-A892-8805CF73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4C8-8E2F-475A-A2B8-7FD7FCB3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CE17-EF30-45ED-A187-F78A93801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E8CF-1D2B-492B-AD01-34D5405D1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Grain Boundar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670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921120" y="1933560"/>
            <a:ext cx="5005440" cy="4495320"/>
            <a:chOff x="3921120" y="1933560"/>
            <a:chExt cx="5005440" cy="4495320"/>
          </a:xfrm>
        </p:grpSpPr>
        <p:pic>
          <p:nvPicPr>
            <p:cNvPr id="87" name="Chandig" descr=""/>
            <p:cNvPicPr/>
            <p:nvPr/>
          </p:nvPicPr>
          <p:blipFill>
            <a:blip r:embed="rId1"/>
            <a:stretch/>
          </p:blipFill>
          <p:spPr>
            <a:xfrm>
              <a:off x="3921120" y="2509920"/>
              <a:ext cx="5005440" cy="39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73920" y="1933560"/>
              <a:ext cx="39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Ni-Base Superalloy Waspallo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83200" y="596916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50µ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73920" y="6032520"/>
              <a:ext cx="77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18960" y="1889280"/>
            <a:ext cx="3905280" cy="3865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9480" y="117792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high-angle grain boundary (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&gt;15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50960" y="1638360"/>
            <a:ext cx="3816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203720" y="1222200"/>
            <a:ext cx="4635360" cy="4835880"/>
            <a:chOff x="4203720" y="1222200"/>
            <a:chExt cx="4635360" cy="483588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6539040" y="1222200"/>
              <a:ext cx="2300040" cy="483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403880" y="3343320"/>
              <a:ext cx="203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low-ang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grain bound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203720" y="3720960"/>
              <a:ext cx="203040" cy="5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03280" y="1384200"/>
            <a:ext cx="5218200" cy="50421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"/>
              </a:rPr>
              <a:t>Plastic Deformation – Dislocation Glide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14760" y="4092480"/>
            <a:ext cx="614520" cy="682560"/>
            <a:chOff x="3614760" y="4092480"/>
            <a:chExt cx="614520" cy="682560"/>
          </a:xfrm>
        </p:grpSpPr>
        <p:sp>
          <p:nvSpPr>
            <p:cNvPr id="181" name=""/>
            <p:cNvSpPr/>
            <p:nvPr/>
          </p:nvSpPr>
          <p:spPr>
            <a:xfrm>
              <a:off x="3614760" y="4092480"/>
              <a:ext cx="463680" cy="68256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48120" y="4267080"/>
              <a:ext cx="203040" cy="2764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22720" y="4338720"/>
              <a:ext cx="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4479840"/>
              <a:ext cx="2048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865160" y="1422360"/>
            <a:ext cx="5299200" cy="4694400"/>
            <a:chOff x="1865160" y="1422360"/>
            <a:chExt cx="5299200" cy="4694400"/>
          </a:xfrm>
        </p:grpSpPr>
        <p:sp>
          <p:nvSpPr>
            <p:cNvPr id="186" name=""/>
            <p:cNvSpPr/>
            <p:nvPr/>
          </p:nvSpPr>
          <p:spPr>
            <a:xfrm>
              <a:off x="2336760" y="1422360"/>
              <a:ext cx="1379520" cy="81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1865160" y="2757600"/>
              <a:ext cx="5299200" cy="3359160"/>
              <a:chOff x="1865160" y="2757600"/>
              <a:chExt cx="5299200" cy="3359160"/>
            </a:xfrm>
          </p:grpSpPr>
          <p:sp>
            <p:nvSpPr>
              <p:cNvPr id="188" name=""/>
              <p:cNvSpPr/>
              <p:nvPr/>
            </p:nvSpPr>
            <p:spPr>
              <a:xfrm>
                <a:off x="1887480" y="2757600"/>
                <a:ext cx="943200" cy="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65160" y="3446640"/>
                <a:ext cx="943200" cy="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01880" y="4062240"/>
                <a:ext cx="942840" cy="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118200" y="4753080"/>
                <a:ext cx="1046160" cy="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6097680" y="5413320"/>
                <a:ext cx="1046160" cy="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6062760" y="6116760"/>
                <a:ext cx="1046160" cy="0"/>
              </a:xfrm>
              <a:prstGeom prst="line">
                <a:avLst/>
              </a:prstGeom>
              <a:ln w="38160">
                <a:solidFill>
                  <a:srgbClr val="ff00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230200" y="164304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hear stress </a:t>
              </a:r>
              <a:r>
                <a:rPr b="0" lang="en-US" sz="2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"/>
              </a:rPr>
              <a:t>Plastic Deformation – Dislocation Glide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241280" y="1574640"/>
            <a:ext cx="5284800" cy="5058000"/>
            <a:chOff x="1241280" y="1574640"/>
            <a:chExt cx="5284800" cy="505800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1724040" y="1574640"/>
              <a:ext cx="4270320" cy="50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263600" y="2975040"/>
              <a:ext cx="94320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41280" y="3664080"/>
              <a:ext cx="94320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78000" y="4280040"/>
              <a:ext cx="94284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479920" y="4911840"/>
              <a:ext cx="104616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429160" y="5586480"/>
              <a:ext cx="104616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396040" y="6296040"/>
              <a:ext cx="104616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698880" y="4738680"/>
            <a:ext cx="20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&gt;macroscop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31840" y="1411200"/>
            <a:ext cx="5398920" cy="5160960"/>
            <a:chOff x="1131840" y="1411200"/>
            <a:chExt cx="5398920" cy="516096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1753920" y="1411200"/>
              <a:ext cx="4776840" cy="51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153800" y="2855880"/>
              <a:ext cx="94320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1840" y="3544920"/>
              <a:ext cx="94284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68200" y="4160880"/>
              <a:ext cx="94284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991040" y="4863960"/>
              <a:ext cx="104616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927320" y="5538600"/>
              <a:ext cx="104616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894200" y="6248160"/>
              <a:ext cx="104616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"/>
              </a:rPr>
              <a:t>Plastic Deformation – Dislocation Glide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4720" y="1484280"/>
            <a:ext cx="8291520" cy="3071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49280" y="5376960"/>
            <a:ext cx="8410680" cy="993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36760" y="4761000"/>
            <a:ext cx="287352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16400" y="48420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location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92280" y="1725480"/>
            <a:ext cx="4430520" cy="46846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lastic De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37000" y="2211480"/>
            <a:ext cx="3490920" cy="3373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703840" y="3117960"/>
            <a:ext cx="5637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9680" y="3621240"/>
            <a:ext cx="5619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00600" y="4005360"/>
            <a:ext cx="56196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519760" y="4422600"/>
            <a:ext cx="6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507160" y="4863960"/>
            <a:ext cx="6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486280" y="5334120"/>
            <a:ext cx="6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17680" y="2313000"/>
            <a:ext cx="17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hear stress </a:t>
            </a:r>
            <a:r>
              <a:rPr b="0" lang="en-US" sz="2400" spc="-1" strike="noStrike">
                <a:solidFill>
                  <a:srgbClr val="ff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889440" y="2700000"/>
            <a:ext cx="1930320" cy="10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76520" y="1716120"/>
          <a:ext cx="2017440" cy="47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716120"/>
                    <a:ext cx="201744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646360" y="2855880"/>
          <a:ext cx="1841400" cy="14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46360" y="2855880"/>
                    <a:ext cx="184140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ome concluding words on dislocation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81080" y="1971720"/>
            <a:ext cx="727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ngthening mech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in size reduction (Hall-Petch equ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id solution strength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in harde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959200" y="3340080"/>
                <a:ext cx="2108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9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echanical testing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81080" y="1971720"/>
            <a:ext cx="727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d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c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ck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noind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c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ugh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Vickers Microhardness Test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66880" y="1297080"/>
            <a:ext cx="7526160" cy="524808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946080" y="1413000"/>
            <a:ext cx="7804080" cy="5376600"/>
            <a:chOff x="946080" y="1413000"/>
            <a:chExt cx="7804080" cy="53766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946080" y="1413000"/>
              <a:ext cx="7804080" cy="53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979640" y="2200320"/>
              <a:ext cx="412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ngth of the diagonals 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84880" y="2627280"/>
              <a:ext cx="1871640" cy="29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42120" y="5254560"/>
              <a:ext cx="1030320" cy="1335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ockwell Hardness Testing (HRC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041720" y="1363680"/>
            <a:ext cx="2816280" cy="5059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521080" y="1851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38640" y="2075040"/>
            <a:ext cx="2060280" cy="421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7520" y="2598840"/>
            <a:ext cx="32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n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20° diamond pyram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6760" y="2981160"/>
            <a:ext cx="1886040" cy="23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08200" y="4181400"/>
            <a:ext cx="14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27320" y="3476520"/>
            <a:ext cx="2322720" cy="898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97040" y="1465200"/>
            <a:ext cx="7010280" cy="41086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uctilit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 rot="10800000">
          <a:off x="1144440" y="1947960"/>
          <a:ext cx="99864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1144440" y="1947960"/>
                    <a:ext cx="99864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759280" y="2184480"/>
            <a:ext cx="3214800" cy="2797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712480" y="19144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93000" y="4668840"/>
            <a:ext cx="860400" cy="459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3294000"/>
            <a:ext cx="160200" cy="4510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887480" y="2684520"/>
            <a:ext cx="6443640" cy="2062080"/>
            <a:chOff x="1887480" y="2684520"/>
            <a:chExt cx="6443640" cy="2062080"/>
          </a:xfrm>
        </p:grpSpPr>
        <p:sp>
          <p:nvSpPr>
            <p:cNvPr id="262" name=""/>
            <p:cNvSpPr/>
            <p:nvPr/>
          </p:nvSpPr>
          <p:spPr>
            <a:xfrm>
              <a:off x="1887480" y="2684520"/>
              <a:ext cx="739800" cy="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7720" y="4186080"/>
              <a:ext cx="739800" cy="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389320" y="2698920"/>
              <a:ext cx="2880" cy="150948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6080" y="3216240"/>
              <a:ext cx="32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%EL, percent elong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257680" y="3178080"/>
              <a:ext cx="73080" cy="1467000"/>
            </a:xfrm>
            <a:prstGeom prst="line">
              <a:avLst/>
            </a:prstGeom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31120" y="3164040"/>
              <a:ext cx="0" cy="1481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67440" y="4746600"/>
              <a:ext cx="219060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341360" y="1778040"/>
            <a:ext cx="4261320" cy="2178000"/>
            <a:chOff x="1341360" y="1778040"/>
            <a:chExt cx="4261320" cy="2178000"/>
          </a:xfrm>
        </p:grpSpPr>
        <p:sp>
          <p:nvSpPr>
            <p:cNvPr id="270" name=""/>
            <p:cNvSpPr/>
            <p:nvPr/>
          </p:nvSpPr>
          <p:spPr>
            <a:xfrm>
              <a:off x="1436760" y="3468600"/>
              <a:ext cx="363600" cy="101520"/>
            </a:xfrm>
            <a:prstGeom prst="ellipse">
              <a:avLst/>
            </a:prstGeom>
            <a:noFill/>
            <a:ln w="284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770120" y="2161800"/>
              <a:ext cx="619200" cy="1351080"/>
            </a:xfrm>
            <a:prstGeom prst="line">
              <a:avLst/>
            </a:prstGeom>
            <a:ln w="284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87520" y="1778040"/>
              <a:ext cx="321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%RA,  percent re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are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41360" y="3854520"/>
              <a:ext cx="581040" cy="101520"/>
            </a:xfrm>
            <a:prstGeom prst="ellipse">
              <a:avLst/>
            </a:prstGeom>
            <a:noFill/>
            <a:ln w="284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770120" y="2170080"/>
              <a:ext cx="619200" cy="1698480"/>
            </a:xfrm>
            <a:prstGeom prst="line">
              <a:avLst/>
            </a:prstGeom>
            <a:ln w="284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067440" y="2367000"/>
            <a:ext cx="2913840" cy="2306520"/>
            <a:chOff x="6067440" y="2367000"/>
            <a:chExt cx="2913840" cy="2306520"/>
          </a:xfrm>
        </p:grpSpPr>
        <p:sp>
          <p:nvSpPr>
            <p:cNvPr id="276" name=""/>
            <p:cNvSpPr/>
            <p:nvPr/>
          </p:nvSpPr>
          <p:spPr>
            <a:xfrm>
              <a:off x="6067440" y="2801880"/>
              <a:ext cx="217440" cy="1871640"/>
            </a:xfrm>
            <a:custGeom>
              <a:avLst/>
              <a:gdLst/>
              <a:ahLst/>
              <a:rect l="l" t="t" r="r" b="b"/>
              <a:pathLst>
                <a:path w="137" h="1179">
                  <a:moveTo>
                    <a:pt x="0" y="1179"/>
                  </a:moveTo>
                  <a:cubicBezTo>
                    <a:pt x="2" y="824"/>
                    <a:pt x="4" y="470"/>
                    <a:pt x="27" y="274"/>
                  </a:cubicBezTo>
                  <a:cubicBezTo>
                    <a:pt x="50" y="78"/>
                    <a:pt x="117" y="44"/>
                    <a:pt x="137" y="0"/>
                  </a:cubicBez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48880" y="2925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britt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8600" y="23670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uct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harpy Impact Test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92280" y="1938240"/>
            <a:ext cx="5128920" cy="4434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105600" y="1407960"/>
            <a:ext cx="2390760" cy="4619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943440" y="194004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1800" y="2379600"/>
            <a:ext cx="755640" cy="127800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35560" y="2417760"/>
            <a:ext cx="2743200" cy="204624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5520" y="1125360"/>
            <a:ext cx="3579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act energy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mg(h-h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3880" y="61628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IN 501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2280" y="1944720"/>
            <a:ext cx="133956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operties of Materials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58720" y="2200320"/>
            <a:ext cx="364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c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a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coelas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23960" indent="-723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-Dependence of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A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92440" y="1203480"/>
            <a:ext cx="6097320" cy="540036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4049640" y="1916280"/>
            <a:ext cx="2437560" cy="3846240"/>
            <a:chOff x="4049640" y="1916280"/>
            <a:chExt cx="2437560" cy="3846240"/>
          </a:xfrm>
        </p:grpSpPr>
        <p:sp>
          <p:nvSpPr>
            <p:cNvPr id="291" name=""/>
            <p:cNvSpPr/>
            <p:nvPr/>
          </p:nvSpPr>
          <p:spPr>
            <a:xfrm>
              <a:off x="4049640" y="1916280"/>
              <a:ext cx="1422360" cy="384624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12320" y="52196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BD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eavage Fracture at Low Temperatu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892080" y="1565280"/>
          <a:ext cx="6729480" cy="50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565280"/>
                    <a:ext cx="672948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eformation at Elevated Temperatures: Creep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427040" y="1623960"/>
            <a:ext cx="5662800" cy="4772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048040" y="3164040"/>
            <a:ext cx="884160" cy="20034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10360" y="2233440"/>
            <a:ext cx="1074600" cy="20037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952720" y="2879640"/>
            <a:ext cx="2351160" cy="2003400"/>
            <a:chOff x="2952720" y="2879640"/>
            <a:chExt cx="2351160" cy="2003400"/>
          </a:xfrm>
        </p:grpSpPr>
        <p:sp>
          <p:nvSpPr>
            <p:cNvPr id="301" name=""/>
            <p:cNvSpPr/>
            <p:nvPr/>
          </p:nvSpPr>
          <p:spPr>
            <a:xfrm>
              <a:off x="2952720" y="2879640"/>
              <a:ext cx="2351160" cy="200340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4080" y="2921040"/>
              <a:ext cx="35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46680" y="303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ep Test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84040" y="1720800"/>
            <a:ext cx="6496920" cy="4289040"/>
            <a:chOff x="284040" y="1720800"/>
            <a:chExt cx="6496920" cy="428904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4040" y="2050560"/>
              <a:ext cx="6189480" cy="36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4239720" y="1720800"/>
              <a:ext cx="2541240" cy="4289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887640" y="1436760"/>
            <a:ext cx="4864320" cy="48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105440" y="1568520"/>
          <a:ext cx="4516200" cy="46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05440" y="1568520"/>
                    <a:ext cx="451620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1" name=""/>
          <p:cNvGrpSpPr/>
          <p:nvPr/>
        </p:nvGrpSpPr>
        <p:grpSpPr>
          <a:xfrm>
            <a:off x="0" y="1438200"/>
            <a:ext cx="7851600" cy="4921200"/>
            <a:chOff x="0" y="1438200"/>
            <a:chExt cx="7851600" cy="4921200"/>
          </a:xfrm>
        </p:grpSpPr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0" y="1442880"/>
              <a:ext cx="4878360" cy="49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402680" y="4645080"/>
              <a:ext cx="0" cy="2174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8280" y="4630680"/>
              <a:ext cx="46332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80" y="1438200"/>
              <a:ext cx="78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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2349360"/>
              <a:ext cx="349200" cy="299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302760" y="1741320"/>
              <a:ext cx="7056360" cy="2990880"/>
            </a:xfrm>
            <a:prstGeom prst="line">
              <a:avLst/>
            </a:prstGeom>
            <a:ln cap="rnd" w="28440">
              <a:solidFill>
                <a:srgbClr val="ff0033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746000" y="3782880"/>
              <a:ext cx="5475240" cy="2306880"/>
            </a:xfrm>
            <a:prstGeom prst="line">
              <a:avLst/>
            </a:prstGeom>
            <a:ln cap="rnd" w="28440">
              <a:solidFill>
                <a:srgbClr val="3366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atigue Loading during Servic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728640" y="1338120"/>
          <a:ext cx="794880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1338120"/>
                    <a:ext cx="794880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atigue Test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873000" y="1467000"/>
          <a:ext cx="751536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467000"/>
                    <a:ext cx="7515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atigue Test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280200" y="1855800"/>
            <a:ext cx="2779560" cy="43956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7223400" y="12859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sh-p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02680" y="3773520"/>
            <a:ext cx="0" cy="65412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0480" y="124920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ng-be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0" y="1900080"/>
            <a:ext cx="5781600" cy="4337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003400" y="2398680"/>
            <a:ext cx="1047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640" y="218"/>
                </a:moveTo>
                <a:arcTo wR="10800" hR="10800" stAng="-6092237" swAng="4516661"/>
                <a:lnTo>
                  <a:pt x="10800" y="10800"/>
                </a:lnTo>
                <a:close/>
              </a:path>
              <a:path fill="none" w="21600" h="21600">
                <a:moveTo>
                  <a:pt x="8640" y="218"/>
                </a:moveTo>
                <a:arcTo wR="10800" hR="10800" stAng="-6092237" swAng="4516661"/>
              </a:path>
            </a:pathLst>
          </a:custGeom>
          <a:noFill/>
          <a:ln w="284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5920" y="63324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280" y="3019320"/>
            <a:ext cx="280800" cy="310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11360" y="3019320"/>
            <a:ext cx="0" cy="100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27960" y="4102200"/>
            <a:ext cx="706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16480" y="633240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ohydraulic actu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213320" y="5051520"/>
            <a:ext cx="522360" cy="133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92280" y="1204920"/>
            <a:ext cx="7813440" cy="51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atigue-Testing: The S/N Diagra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61920" y="1170000"/>
          <a:ext cx="7220160" cy="45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170000"/>
                    <a:ext cx="722016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1074600" y="2206800"/>
            <a:ext cx="40644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40160" y="5167440"/>
            <a:ext cx="222084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07200" y="132552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 amplitude [MP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32640" y="52531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s to fail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63680" y="4049640"/>
            <a:ext cx="16844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400120" y="3919680"/>
            <a:ext cx="4187880" cy="524520"/>
            <a:chOff x="2400120" y="3919680"/>
            <a:chExt cx="4187880" cy="524520"/>
          </a:xfrm>
        </p:grpSpPr>
        <p:sp>
          <p:nvSpPr>
            <p:cNvPr id="348" name=""/>
            <p:cNvSpPr/>
            <p:nvPr/>
          </p:nvSpPr>
          <p:spPr>
            <a:xfrm>
              <a:off x="2400120" y="398448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atigue lim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98920" y="3919680"/>
              <a:ext cx="406440" cy="140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59520" y="3984480"/>
              <a:ext cx="406440" cy="1440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81560" y="4078440"/>
              <a:ext cx="406440" cy="1404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094360" y="3201840"/>
            <a:ext cx="3048120" cy="1138320"/>
            <a:chOff x="5094360" y="3201840"/>
            <a:chExt cx="3048120" cy="1138320"/>
          </a:xfrm>
        </p:grpSpPr>
        <p:sp>
          <p:nvSpPr>
            <p:cNvPr id="353" name=""/>
            <p:cNvSpPr/>
            <p:nvPr/>
          </p:nvSpPr>
          <p:spPr>
            <a:xfrm>
              <a:off x="5094360" y="3730680"/>
              <a:ext cx="1915920" cy="609480"/>
            </a:xfrm>
            <a:prstGeom prst="ellipse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59880" y="3201840"/>
              <a:ext cx="208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66"/>
                  </a:solidFill>
                  <a:latin typeface="Times New Roman"/>
                </a:rPr>
                <a:t>total life desig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04920" y="2322360"/>
            <a:ext cx="6561000" cy="41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racture Mechanic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848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469880" y="2422440"/>
          <a:ext cx="6118200" cy="39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2422440"/>
                    <a:ext cx="61182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06520" y="1590840"/>
            <a:ext cx="665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presents resistance to brittle fracture [MPa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etermination of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Ic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using Compact Tension (CT specimen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92280" y="3144960"/>
            <a:ext cx="5308560" cy="32241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832120" y="1914480"/>
            <a:ext cx="4241880" cy="39639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92280" y="3149640"/>
            <a:ext cx="23986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2280" y="5342040"/>
            <a:ext cx="23842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556080" y="2243160"/>
            <a:ext cx="5587920" cy="3007800"/>
            <a:chOff x="3556080" y="2243160"/>
            <a:chExt cx="5587920" cy="3007800"/>
          </a:xfrm>
        </p:grpSpPr>
        <p:sp>
          <p:nvSpPr>
            <p:cNvPr id="367" name=""/>
            <p:cNvSpPr/>
            <p:nvPr/>
          </p:nvSpPr>
          <p:spPr>
            <a:xfrm>
              <a:off x="3556080" y="3497400"/>
              <a:ext cx="318960" cy="668160"/>
            </a:xfrm>
            <a:prstGeom prst="rect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75040" y="3730680"/>
              <a:ext cx="26208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67120" y="3868560"/>
              <a:ext cx="262080" cy="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9040" y="3041640"/>
              <a:ext cx="191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extensome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02680" y="2670120"/>
              <a:ext cx="0" cy="194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02680" y="4614840"/>
              <a:ext cx="1741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445520" y="3164040"/>
              <a:ext cx="552240" cy="146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12160" y="3076560"/>
              <a:ext cx="666720" cy="334800"/>
            </a:xfrm>
            <a:custGeom>
              <a:avLst/>
              <a:gdLst/>
              <a:ahLst/>
              <a:rect l="l" t="t" r="r" b="b"/>
              <a:pathLst>
                <a:path w="420" h="211">
                  <a:moveTo>
                    <a:pt x="0" y="64"/>
                  </a:moveTo>
                  <a:cubicBezTo>
                    <a:pt x="49" y="52"/>
                    <a:pt x="79" y="16"/>
                    <a:pt x="128" y="0"/>
                  </a:cubicBezTo>
                  <a:cubicBezTo>
                    <a:pt x="136" y="2"/>
                    <a:pt x="199" y="13"/>
                    <a:pt x="210" y="19"/>
                  </a:cubicBezTo>
                  <a:cubicBezTo>
                    <a:pt x="267" y="52"/>
                    <a:pt x="213" y="37"/>
                    <a:pt x="256" y="73"/>
                  </a:cubicBezTo>
                  <a:cubicBezTo>
                    <a:pt x="273" y="87"/>
                    <a:pt x="317" y="114"/>
                    <a:pt x="338" y="128"/>
                  </a:cubicBezTo>
                  <a:cubicBezTo>
                    <a:pt x="358" y="160"/>
                    <a:pt x="374" y="169"/>
                    <a:pt x="402" y="192"/>
                  </a:cubicBezTo>
                  <a:cubicBezTo>
                    <a:pt x="409" y="198"/>
                    <a:pt x="420" y="211"/>
                    <a:pt x="420" y="211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80560" y="224316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or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03680" y="4791240"/>
              <a:ext cx="179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plac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Tensile Te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7520" y="1434960"/>
            <a:ext cx="8407440" cy="499140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5440" y="1765440"/>
          <a:ext cx="4159080" cy="44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765440"/>
                    <a:ext cx="415908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633920" y="1562040"/>
          <a:ext cx="1082520" cy="437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3920" y="1562040"/>
                    <a:ext cx="108252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4997520" y="1827360"/>
            <a:ext cx="3643200" cy="4001400"/>
            <a:chOff x="4997520" y="1827360"/>
            <a:chExt cx="3643200" cy="4001400"/>
          </a:xfrm>
        </p:grpSpPr>
        <p:sp>
          <p:nvSpPr>
            <p:cNvPr id="107" name=""/>
            <p:cNvSpPr/>
            <p:nvPr/>
          </p:nvSpPr>
          <p:spPr>
            <a:xfrm>
              <a:off x="6118920" y="1827360"/>
              <a:ext cx="23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33"/>
                  </a:solidFill>
                  <a:latin typeface="Times New Roman"/>
                </a:rPr>
                <a:t>stress </a:t>
              </a:r>
              <a:r>
                <a:rPr b="1" lang="en-US" sz="32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</a:t>
              </a:r>
              <a:r>
                <a:rPr b="1" lang="en-US" sz="3200" spc="-1" strike="noStrike">
                  <a:solidFill>
                    <a:srgbClr val="ff0033"/>
                  </a:solidFill>
                  <a:latin typeface="Times New Roman"/>
                </a:rPr>
                <a:t>=F/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21360" y="5180040"/>
              <a:ext cx="25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33"/>
                  </a:solidFill>
                  <a:latin typeface="Times New Roman"/>
                </a:rPr>
                <a:t>strain </a:t>
              </a:r>
              <a:r>
                <a:rPr b="1" lang="en-US" sz="32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</a:t>
              </a:r>
              <a:r>
                <a:rPr b="1" lang="en-US" sz="3200" spc="-1" strike="noStrike">
                  <a:solidFill>
                    <a:srgbClr val="ff0033"/>
                  </a:solidFill>
                  <a:latin typeface="Times New Roman"/>
                </a:rPr>
                <a:t>=</a:t>
              </a:r>
              <a:r>
                <a:rPr b="1" i="1" lang="en-US" sz="3200" spc="-1" strike="noStrike">
                  <a:solidFill>
                    <a:srgbClr val="ff0033"/>
                  </a:solidFill>
                  <a:latin typeface="Times New Roman"/>
                </a:rPr>
                <a:t>l</a:t>
              </a:r>
              <a:r>
                <a:rPr b="1" lang="en-US" sz="3200" spc="-1" strike="noStrike">
                  <a:solidFill>
                    <a:srgbClr val="ff0033"/>
                  </a:solidFill>
                  <a:latin typeface="Times New Roman"/>
                </a:rPr>
                <a:t>-</a:t>
              </a:r>
              <a:r>
                <a:rPr b="1" i="1" lang="en-US" sz="3200" spc="-1" strike="noStrike">
                  <a:solidFill>
                    <a:srgbClr val="ff0033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0033"/>
                  </a:solidFill>
                  <a:latin typeface="Times New Roman"/>
                </a:rPr>
                <a:t>/</a:t>
              </a:r>
              <a:r>
                <a:rPr b="1" i="1" lang="en-US" sz="3200" spc="-1" strike="noStrike">
                  <a:solidFill>
                    <a:srgbClr val="ff0033"/>
                  </a:solidFill>
                  <a:latin typeface="Times New Roman"/>
                </a:rPr>
                <a:t>l</a:t>
              </a:r>
              <a:r>
                <a:rPr b="1" lang="en-US" sz="3200" spc="-1" strike="noStrike" baseline="-25000">
                  <a:solidFill>
                    <a:srgbClr val="ff0033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4997520" y="3057480"/>
            <a:ext cx="3643200" cy="13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97520" y="3057480"/>
                      <a:ext cx="364320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Tensile Te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55880" y="1685880"/>
            <a:ext cx="5041800" cy="439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202520" y="1346040"/>
            <a:ext cx="1776240" cy="529596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4200" y="1308240"/>
            <a:ext cx="6411960" cy="52956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lastic De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62040" y="1546200"/>
          <a:ext cx="526104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46200"/>
                    <a:ext cx="526104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635440" y="4103640"/>
            <a:ext cx="11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359480" y="2546280"/>
            <a:ext cx="1459080" cy="2801880"/>
            <a:chOff x="7359480" y="2546280"/>
            <a:chExt cx="1459080" cy="2801880"/>
          </a:xfrm>
        </p:grpSpPr>
        <p:graphicFrame>
          <p:nvGraphicFramePr>
            <p:cNvPr id="120" name=""/>
            <p:cNvGraphicFramePr/>
            <p:nvPr/>
          </p:nvGraphicFramePr>
          <p:xfrm>
            <a:off x="7359480" y="2546280"/>
            <a:ext cx="1459080" cy="280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59480" y="2546280"/>
                      <a:ext cx="1459080" cy="28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7632720" y="3251160"/>
              <a:ext cx="0" cy="69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0360" y="3381480"/>
              <a:ext cx="38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185920" y="1882800"/>
            <a:ext cx="6539040" cy="4133880"/>
            <a:chOff x="2185920" y="1882800"/>
            <a:chExt cx="6539040" cy="4133880"/>
          </a:xfrm>
        </p:grpSpPr>
        <p:grpSp>
          <p:nvGrpSpPr>
            <p:cNvPr id="125" name=""/>
            <p:cNvGrpSpPr/>
            <p:nvPr/>
          </p:nvGrpSpPr>
          <p:grpSpPr>
            <a:xfrm>
              <a:off x="2185920" y="1882800"/>
              <a:ext cx="6539040" cy="4133880"/>
              <a:chOff x="2185920" y="1882800"/>
              <a:chExt cx="6539040" cy="413388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2185920" y="2247840"/>
                <a:ext cx="1598760" cy="3238200"/>
                <a:chOff x="2185920" y="2247840"/>
                <a:chExt cx="1598760" cy="3238200"/>
              </a:xfrm>
            </p:grpSpPr>
            <p:sp>
              <p:nvSpPr>
                <p:cNvPr id="127" name=""/>
                <p:cNvSpPr/>
                <p:nvPr/>
              </p:nvSpPr>
              <p:spPr>
                <a:xfrm flipV="1">
                  <a:off x="2389320" y="2666880"/>
                  <a:ext cx="1204920" cy="242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3581280" y="2247840"/>
                  <a:ext cx="203400" cy="43200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2185920" y="5054400"/>
                  <a:ext cx="203400" cy="431640"/>
                </a:xfrm>
                <a:prstGeom prst="line">
                  <a:avLst/>
                </a:prstGeom>
                <a:ln cap="rnd" w="381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130" name=""/>
              <p:cNvGraphicFramePr/>
              <p:nvPr/>
            </p:nvGraphicFramePr>
            <p:xfrm>
              <a:off x="7424640" y="1882800"/>
              <a:ext cx="1300320" cy="4133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424640" y="1882800"/>
                        <a:ext cx="1300320" cy="41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2" name=""/>
            <p:cNvSpPr/>
            <p:nvPr/>
          </p:nvSpPr>
          <p:spPr>
            <a:xfrm>
              <a:off x="3374640" y="297504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ce=dE/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8120" y="382284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lastic constants (isotropic case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1080" y="1971720"/>
            <a:ext cx="727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ss – strain / shear stress – shear st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ng’s modu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ar modu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sson rat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2653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n order to completely describe the elastic behavior of a solid 2 of these constants need to be know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186000" y="5346720"/>
                <a:ext cx="30607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991040" y="1816200"/>
            <a:ext cx="3835440" cy="488952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720" y="1790640"/>
            <a:ext cx="2997360" cy="488952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Yield Strength </a:t>
            </a:r>
            <a:r>
              <a:rPr b="0" lang="en-US" sz="36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 baseline="-25000">
                <a:solidFill>
                  <a:srgbClr val="ffcc66"/>
                </a:solidFill>
                <a:latin typeface="Arial"/>
              </a:rPr>
              <a:t>Y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37120" y="1865160"/>
            <a:ext cx="3751200" cy="4815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73200" y="1908000"/>
            <a:ext cx="2739960" cy="4784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44840" y="114624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02 strain off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7720" y="1133640"/>
            <a:ext cx="336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ield-point phenomen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C steels, dislocations are pinned by 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150880" y="3438360"/>
            <a:ext cx="1910160" cy="510120"/>
            <a:chOff x="5150880" y="3438360"/>
            <a:chExt cx="1910160" cy="510120"/>
          </a:xfrm>
        </p:grpSpPr>
        <p:sp>
          <p:nvSpPr>
            <p:cNvPr id="145" name=""/>
            <p:cNvSpPr/>
            <p:nvPr/>
          </p:nvSpPr>
          <p:spPr>
            <a:xfrm>
              <a:off x="5664240" y="3835440"/>
              <a:ext cx="1396800" cy="0"/>
            </a:xfrm>
            <a:prstGeom prst="line">
              <a:avLst/>
            </a:prstGeom>
            <a:ln w="381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50880" y="3438360"/>
              <a:ext cx="493200" cy="510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42240" y="2590560"/>
            <a:ext cx="2024640" cy="3429000"/>
            <a:chOff x="642240" y="2590560"/>
            <a:chExt cx="2024640" cy="3429000"/>
          </a:xfrm>
        </p:grpSpPr>
        <p:sp>
          <p:nvSpPr>
            <p:cNvPr id="148" name=""/>
            <p:cNvSpPr/>
            <p:nvPr/>
          </p:nvSpPr>
          <p:spPr>
            <a:xfrm>
              <a:off x="1155600" y="2933640"/>
              <a:ext cx="1397160" cy="0"/>
            </a:xfrm>
            <a:prstGeom prst="line">
              <a:avLst/>
            </a:prstGeom>
            <a:ln w="381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2240" y="2689200"/>
              <a:ext cx="493200" cy="5101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1600" y="5334120"/>
              <a:ext cx="380880" cy="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511280" y="2590560"/>
              <a:ext cx="1155600" cy="3429000"/>
            </a:xfrm>
            <a:prstGeom prst="line">
              <a:avLst/>
            </a:prstGeom>
            <a:ln w="2844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44520" y="1295280"/>
            <a:ext cx="6934320" cy="529596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Stress-Strain Curv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19280" y="1554120"/>
            <a:ext cx="5789520" cy="5037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39880" y="3720960"/>
            <a:ext cx="203400" cy="52092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6058080"/>
            <a:ext cx="787680" cy="3682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7840" y="13874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43240" y="59691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254480" y="2476440"/>
            <a:ext cx="368280" cy="130824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05480" y="37879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Times New Roman"/>
              </a:rPr>
              <a:t>ne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77960" y="1312920"/>
            <a:ext cx="5599440" cy="1639800"/>
            <a:chOff x="2577960" y="1312920"/>
            <a:chExt cx="5599440" cy="1639800"/>
          </a:xfrm>
        </p:grpSpPr>
        <p:sp>
          <p:nvSpPr>
            <p:cNvPr id="162" name=""/>
            <p:cNvSpPr/>
            <p:nvPr/>
          </p:nvSpPr>
          <p:spPr>
            <a:xfrm>
              <a:off x="5799240" y="249228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gineering st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55920" y="131292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true st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2577960" y="1549440"/>
            <a:ext cx="4094280" cy="140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77960" y="1549440"/>
                      <a:ext cx="4094280" cy="14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92280" y="1103400"/>
            <a:ext cx="8073720" cy="575460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terials Selection Char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17720" y="1149480"/>
            <a:ext cx="5418000" cy="5519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92280" y="125748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P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20800" y="6400800"/>
            <a:ext cx="2739600" cy="459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 [1000kg/m³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44720" y="3497400"/>
            <a:ext cx="174600" cy="72684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432160" y="1393920"/>
            <a:ext cx="4795200" cy="1508040"/>
            <a:chOff x="2432160" y="1393920"/>
            <a:chExt cx="4795200" cy="1508040"/>
          </a:xfrm>
        </p:grpSpPr>
        <p:sp>
          <p:nvSpPr>
            <p:cNvPr id="173" name=""/>
            <p:cNvSpPr/>
            <p:nvPr/>
          </p:nvSpPr>
          <p:spPr>
            <a:xfrm>
              <a:off x="2438280" y="2887560"/>
              <a:ext cx="323712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32160" y="1400040"/>
              <a:ext cx="476064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68520" y="1393920"/>
              <a:ext cx="1800" cy="150804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07200" y="1401840"/>
              <a:ext cx="1800" cy="30456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648040" y="1701720"/>
              <a:ext cx="1579320" cy="11890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0:40:19Z</dcterms:created>
  <dc:creator>Student</dc:creator>
  <dc:description/>
  <dc:language>en-US</dc:language>
  <cp:lastModifiedBy>TS</cp:lastModifiedBy>
  <dcterms:modified xsi:type="dcterms:W3CDTF">2006-11-05T20:06:10Z</dcterms:modified>
  <cp:revision>72</cp:revision>
  <dc:subject/>
  <dc:title>Rasterelektronenmikroskopie</dc:title>
</cp:coreProperties>
</file>