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.png" ContentType="image/png"/>
  <Override PartName="/ppt/media/image24.png" ContentType="image/png"/>
  <Override PartName="/ppt/media/image29.png" ContentType="image/png"/>
  <Override PartName="/ppt/media/image17.png" ContentType="image/png"/>
  <Override PartName="/ppt/media/image28.png" ContentType="image/png"/>
  <Override PartName="/ppt/media/image1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3FAF-B53B-4D7B-9526-5B89A986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3F2E-5EE0-43B9-9914-5DACEA14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B9AF-4867-4447-A945-E47C9BFE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D5CD-D634-4537-B60E-A7BA4CE3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B751-EC43-4E97-A4A4-04A8EAF0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A2D4-72EB-47E5-B579-21A3FBD3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B3C0-621F-49F4-BF11-8D214A76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CCC8-EEB8-43E9-8A90-9A14A3C7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DCEE-DE9B-4867-8996-876BCA07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2905-78C8-493B-B9EF-D120DFB7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3DDB-4236-469B-AF19-761794E1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7A1E-659F-4C58-A03C-0BDC9ACA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FF20-AD74-42EF-A507-6E7559F3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F5E0-5BC2-44C0-8F9F-DA2ED79F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D476-4A02-4628-AF9B-EA6A9904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FFB9-1637-4C13-9C44-88C1B9DB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C000-BDA7-44DC-91C1-3F170807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5326-39A7-49F7-80E6-386328DA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B279-FAAF-45FE-ABEC-EA168C7A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5D6C-A4D2-4CFE-89E5-BC7483AF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1711-22CA-42E8-94A9-D6806F59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FA46-8340-4F1F-8E04-6F2C590E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7976-4FD5-4472-9F0C-980368FD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BAC9-0615-4B5B-AA64-DA4571D6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AE18-5E29-477F-B7F3-1B47CF69E8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2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9AFE-FD9A-4C0F-8BF8-A8BDF155AD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aterials Proper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57280" y="2200320"/>
            <a:ext cx="337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23960" indent="-72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ical prope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72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72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etic prope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72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72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tical prope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The p-n Diod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79440" y="1295280"/>
            <a:ext cx="3727440" cy="149400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274680" y="2863800"/>
            <a:ext cx="5297400" cy="2909880"/>
            <a:chOff x="274680" y="2863800"/>
            <a:chExt cx="5297400" cy="2909880"/>
          </a:xfrm>
        </p:grpSpPr>
        <p:grpSp>
          <p:nvGrpSpPr>
            <p:cNvPr id="157" name=""/>
            <p:cNvGrpSpPr/>
            <p:nvPr/>
          </p:nvGrpSpPr>
          <p:grpSpPr>
            <a:xfrm>
              <a:off x="274680" y="2943000"/>
              <a:ext cx="5297400" cy="2830680"/>
              <a:chOff x="274680" y="2943000"/>
              <a:chExt cx="5297400" cy="2830680"/>
            </a:xfrm>
          </p:grpSpPr>
          <p:sp>
            <p:nvSpPr>
              <p:cNvPr id="158" name=""/>
              <p:cNvSpPr/>
              <p:nvPr/>
            </p:nvSpPr>
            <p:spPr>
              <a:xfrm>
                <a:off x="288000" y="2943000"/>
                <a:ext cx="5272560" cy="2830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5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74680" y="3261960"/>
                <a:ext cx="5297400" cy="249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2580120" y="3065040"/>
                <a:ext cx="425880" cy="44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56760" y="2863800"/>
              <a:ext cx="163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verse bi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17440" y="2954160"/>
            <a:ext cx="5292720" cy="2963880"/>
            <a:chOff x="217440" y="2954160"/>
            <a:chExt cx="5292720" cy="2963880"/>
          </a:xfrm>
        </p:grpSpPr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217440" y="2970000"/>
              <a:ext cx="5292720" cy="29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347760" y="2954160"/>
              <a:ext cx="17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forward bi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5178600" y="1687680"/>
            <a:ext cx="3963960" cy="4194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23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Magnetic proper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6320" y="2100240"/>
            <a:ext cx="764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23960" indent="-72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etic field strength, magnetic flux density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etization, permeability, and magneti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scept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776240" y="3703680"/>
                <a:ext cx="6910560" cy="16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μH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μ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The Magnetic 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60640" y="1521000"/>
            <a:ext cx="6564240" cy="4867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60800" y="5870520"/>
            <a:ext cx="1146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vacu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84600" y="5877000"/>
            <a:ext cx="2676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tmosphere/mate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The Magnetic Momen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0600" y="1760400"/>
            <a:ext cx="8091360" cy="4110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734840" y="5029200"/>
            <a:ext cx="2549160" cy="87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rbital contrib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=&gt; m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µ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70400" y="4962600"/>
            <a:ext cx="2259360" cy="87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pin contrib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=&gt; +/-µ</a:t>
            </a:r>
            <a:r>
              <a:rPr b="0" lang="en-US" sz="2400" spc="-1" strike="noStrike" baseline="-25000">
                <a:solidFill>
                  <a:srgbClr val="ff0033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6120" y="6045120"/>
            <a:ext cx="470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hr magneton: µ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9.27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2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amagnetic Material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71480" y="1908000"/>
            <a:ext cx="7569360" cy="3814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aramagnetic Material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96880" y="1820880"/>
            <a:ext cx="7778880" cy="3983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erromagnetic Material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03040" y="1595520"/>
            <a:ext cx="3664080" cy="4308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297320" y="1300320"/>
            <a:ext cx="4559400" cy="5213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The B-H Hysteresi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30360" y="1246320"/>
            <a:ext cx="5673600" cy="5543280"/>
          </a:xfrm>
          <a:prstGeom prst="rect">
            <a:avLst/>
          </a:prstGeom>
          <a:ln w="0">
            <a:noFill/>
          </a:ln>
        </p:spPr>
      </p:pic>
      <p:grpSp>
        <p:nvGrpSpPr>
          <p:cNvPr id="187" name=""/>
          <p:cNvGrpSpPr/>
          <p:nvPr/>
        </p:nvGrpSpPr>
        <p:grpSpPr>
          <a:xfrm>
            <a:off x="1427400" y="1576440"/>
            <a:ext cx="2962080" cy="1174680"/>
            <a:chOff x="1427400" y="1576440"/>
            <a:chExt cx="2962080" cy="1174680"/>
          </a:xfrm>
        </p:grpSpPr>
        <p:sp>
          <p:nvSpPr>
            <p:cNvPr id="188" name=""/>
            <p:cNvSpPr/>
            <p:nvPr/>
          </p:nvSpPr>
          <p:spPr>
            <a:xfrm>
              <a:off x="3373560" y="1952640"/>
              <a:ext cx="1015920" cy="79848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27400" y="1576440"/>
              <a:ext cx="2844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manent flux dens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081920" y="1233360"/>
            <a:ext cx="217440" cy="555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552320" y="2527200"/>
            <a:ext cx="2148120" cy="1303560"/>
            <a:chOff x="1552320" y="2527200"/>
            <a:chExt cx="2148120" cy="1303560"/>
          </a:xfrm>
        </p:grpSpPr>
        <p:sp>
          <p:nvSpPr>
            <p:cNvPr id="192" name=""/>
            <p:cNvSpPr/>
            <p:nvPr/>
          </p:nvSpPr>
          <p:spPr>
            <a:xfrm>
              <a:off x="2684520" y="3032280"/>
              <a:ext cx="1015920" cy="79848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52320" y="2527200"/>
              <a:ext cx="1919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coercive for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297080" y="1233360"/>
            <a:ext cx="217440" cy="555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Hard and Soft Magnetic Material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67160" y="1459080"/>
            <a:ext cx="3832200" cy="5330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716360" y="3513240"/>
            <a:ext cx="392040" cy="2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18240" y="2409840"/>
            <a:ext cx="479160" cy="15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64960" y="2214720"/>
            <a:ext cx="4233960" cy="1137960"/>
            <a:chOff x="264960" y="2214720"/>
            <a:chExt cx="4233960" cy="1137960"/>
          </a:xfrm>
        </p:grpSpPr>
        <p:sp>
          <p:nvSpPr>
            <p:cNvPr id="200" name=""/>
            <p:cNvSpPr/>
            <p:nvPr/>
          </p:nvSpPr>
          <p:spPr>
            <a:xfrm>
              <a:off x="264960" y="2214720"/>
              <a:ext cx="34405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soft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alternating magnetic field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70120" y="2671920"/>
              <a:ext cx="928800" cy="68076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79360" y="3630600"/>
            <a:ext cx="3416400" cy="825480"/>
            <a:chOff x="279360" y="3630600"/>
            <a:chExt cx="3416400" cy="825480"/>
          </a:xfrm>
        </p:grpSpPr>
        <p:sp>
          <p:nvSpPr>
            <p:cNvPr id="203" name=""/>
            <p:cNvSpPr/>
            <p:nvPr/>
          </p:nvSpPr>
          <p:spPr>
            <a:xfrm>
              <a:off x="279360" y="3630600"/>
              <a:ext cx="313848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hard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permanent magne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40120" y="4057560"/>
              <a:ext cx="755640" cy="36216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765600" y="2322360"/>
            <a:ext cx="4711680" cy="1936440"/>
            <a:chOff x="3765600" y="2322360"/>
            <a:chExt cx="4711680" cy="1936440"/>
          </a:xfrm>
        </p:grpSpPr>
        <p:sp>
          <p:nvSpPr>
            <p:cNvPr id="206" name=""/>
            <p:cNvSpPr/>
            <p:nvPr/>
          </p:nvSpPr>
          <p:spPr>
            <a:xfrm>
              <a:off x="6340320" y="2322360"/>
              <a:ext cx="21369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energy produc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coerciv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3720" y="3005280"/>
              <a:ext cx="681120" cy="1247760"/>
            </a:xfrm>
            <a:prstGeom prst="rect">
              <a:avLst/>
            </a:prstGeom>
            <a:solidFill>
              <a:srgbClr val="0066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4600440" y="2568240"/>
              <a:ext cx="1800360" cy="85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3765600" y="2937960"/>
              <a:ext cx="2612880" cy="13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734160" y="1263600"/>
            <a:ext cx="1508040" cy="519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agnetic Storag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944640" y="1265400"/>
            <a:ext cx="5887800" cy="520848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935280" y="4348080"/>
            <a:ext cx="2911320" cy="1191240"/>
            <a:chOff x="935280" y="4348080"/>
            <a:chExt cx="2911320" cy="1191240"/>
          </a:xfrm>
        </p:grpSpPr>
        <p:sp>
          <p:nvSpPr>
            <p:cNvPr id="214" name=""/>
            <p:cNvSpPr/>
            <p:nvPr/>
          </p:nvSpPr>
          <p:spPr>
            <a:xfrm flipH="1">
              <a:off x="2148120" y="4456080"/>
              <a:ext cx="1698480" cy="27612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35280" y="4348080"/>
              <a:ext cx="2014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coil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magnetic field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in ga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338640" y="2031840"/>
            <a:ext cx="4906440" cy="2390040"/>
            <a:chOff x="3338640" y="2031840"/>
            <a:chExt cx="4906440" cy="2390040"/>
          </a:xfrm>
        </p:grpSpPr>
        <p:sp>
          <p:nvSpPr>
            <p:cNvPr id="217" name=""/>
            <p:cNvSpPr/>
            <p:nvPr/>
          </p:nvSpPr>
          <p:spPr>
            <a:xfrm>
              <a:off x="3338640" y="2031840"/>
              <a:ext cx="1349280" cy="654120"/>
            </a:xfrm>
            <a:prstGeom prst="rect">
              <a:avLst/>
            </a:prstGeom>
            <a:solidFill>
              <a:srgbClr val="0066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57600" y="2627280"/>
              <a:ext cx="1465200" cy="723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54920" y="3230640"/>
              <a:ext cx="209016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magnetic field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induces electri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curr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lectrical proper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455120" y="1800360"/>
            <a:ext cx="6185520" cy="4244760"/>
            <a:chOff x="1455120" y="1800360"/>
            <a:chExt cx="6185520" cy="4244760"/>
          </a:xfrm>
        </p:grpSpPr>
        <p:sp>
          <p:nvSpPr>
            <p:cNvPr id="88" name=""/>
            <p:cNvSpPr/>
            <p:nvPr/>
          </p:nvSpPr>
          <p:spPr>
            <a:xfrm>
              <a:off x="1455120" y="1800360"/>
              <a:ext cx="52495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723960" indent="-723960"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hm’s la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723960" indent="-723960"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esistance, resistivity, conductiv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723960" indent="-723960"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723960" indent="-723960"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723960" indent="-723960"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723960" indent="-723960"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723960" indent="-723960"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723960" indent="-723960"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723960" indent="-723960"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tthiessen’s ru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2293920" y="2819520"/>
                  <a:ext cx="3005280" cy="158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IR</m:t>
                          </m:r>
                        </m:e>
                        <m:e>
                          <m:r>
                            <m:t xml:space="preserve">ρ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RA</m:t>
                              </m:r>
                            </m:num>
                            <m:den>
                              <m:r>
                                <m:t xml:space="preserve">l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σ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ρ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2293920" y="5443560"/>
                  <a:ext cx="5346720" cy="60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ermal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mpurity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eformatio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23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Optical proper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90200" y="2100240"/>
            <a:ext cx="255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23960" indent="-72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mi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72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72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72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72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sor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72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lectro magnetic wav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87400" y="1816200"/>
            <a:ext cx="7364520" cy="3747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064880" y="1765440"/>
            <a:ext cx="198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 field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23760" y="4835520"/>
            <a:ext cx="4769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tic field H (perpendicular to 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84160" y="1755720"/>
            <a:ext cx="7359840" cy="5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60760" y="1214280"/>
            <a:ext cx="37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ght = electromagnetic w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55360" y="5680080"/>
            <a:ext cx="750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ve: c=</a:t>
            </a:r>
            <a:r>
              <a:rPr b="0" lang="en-US" sz="2400" spc="-1" strike="noStrike">
                <a:solidFill>
                  <a:srgbClr val="ffffff"/>
                </a:solidFill>
                <a:latin typeface="SymbolPS"/>
                <a:ea typeface="SymbolPS"/>
              </a:rPr>
              <a:t>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onst. light velocity in vacuum=</a:t>
            </a:r>
            <a:r>
              <a:rPr b="0" lang="en-US" sz="2400" spc="-1" strike="noStrike">
                <a:solidFill>
                  <a:srgbClr val="ffffff"/>
                </a:solidFill>
                <a:latin typeface="SymbolPS"/>
                <a:ea typeface="SymbolPS"/>
              </a:rPr>
              <a:t>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m/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otons: E=h</a:t>
            </a:r>
            <a:r>
              <a:rPr b="0" i="1" lang="en-US" sz="2400" spc="-1" strike="noStrike">
                <a:solidFill>
                  <a:srgbClr val="ffffff"/>
                </a:solidFill>
                <a:latin typeface="SymbolPS"/>
                <a:ea typeface="SymbolPS"/>
              </a:rPr>
              <a:t>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lanck constant, 6.63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3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J/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Light Interaction with Soli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65040" y="1542960"/>
            <a:ext cx="4768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=I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transmitte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I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absorbe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I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reflec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93160" y="231768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uc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a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02600" y="2354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4920" y="4000680"/>
            <a:ext cx="81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lection (metals)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sorption (electrons excitation by </a:t>
            </a:r>
            <a:r>
              <a:rPr b="0" lang="en-US" sz="2400" spc="-1" strike="noStrike">
                <a:solidFill>
                  <a:srgbClr val="ffffff"/>
                </a:solidFill>
                <a:latin typeface="SymbolPS"/>
                <a:ea typeface="SymbolPS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) =&gt; re-emission of phot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or (e.g. Au, Cu =&gt; only partial re-emiss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6360" y="5343480"/>
            <a:ext cx="587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raction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mission into transparent materia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&gt; decrease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/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, bending at interf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Absorp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79600" y="2612880"/>
            <a:ext cx="4442040" cy="277200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8160" y="4064040"/>
            <a:ext cx="174168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436400" y="3643200"/>
            <a:ext cx="9284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64720" y="2878200"/>
            <a:ext cx="1258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reflec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95840" y="4183200"/>
            <a:ext cx="465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65200" y="538488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27760" y="5392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65200" y="5748480"/>
            <a:ext cx="44276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244400" y="5886360"/>
            <a:ext cx="30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(transparent mediu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95440" y="3948120"/>
            <a:ext cx="4440240" cy="72540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2160" y="4100400"/>
            <a:ext cx="4440240" cy="72576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24240" y="4210200"/>
            <a:ext cx="4440240" cy="72540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35680" y="4716360"/>
            <a:ext cx="1379520" cy="180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452000" y="3900600"/>
            <a:ext cx="1523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transmit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43440" y="3384720"/>
            <a:ext cx="1290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absorb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24160" y="1371600"/>
            <a:ext cx="4702320" cy="718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transmitt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I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-R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(-</a:t>
            </a:r>
            <a:r>
              <a:rPr b="0" lang="en-US" sz="3600" spc="-1" strike="noStrike">
                <a:solidFill>
                  <a:srgbClr val="000000"/>
                </a:solidFill>
                <a:latin typeface="SymbolPS"/>
                <a:ea typeface="SymbolPS"/>
              </a:rPr>
              <a:t>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93880" y="199692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sorption coeffic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07320" y="197820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lec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8160" y="-360"/>
            <a:ext cx="9015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Photon Absorption in a (Semiconducting) Soli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63480" y="1317600"/>
            <a:ext cx="3973680" cy="44766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286000" y="5014800"/>
            <a:ext cx="2220840" cy="6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27120" y="849240"/>
            <a:ext cx="39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hole/electron pair gen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30400" y="4805280"/>
            <a:ext cx="1015920" cy="5652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9920" y="5811840"/>
            <a:ext cx="789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gap,ma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hc/</a:t>
            </a:r>
            <a:r>
              <a:rPr b="0" lang="en-US" sz="2400" spc="-1" strike="noStrike">
                <a:solidFill>
                  <a:srgbClr val="ffffff"/>
                </a:solidFill>
                <a:latin typeface="SymbolPS"/>
                <a:ea typeface="SymbolPS"/>
              </a:rPr>
              <a:t>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&gt;3.1eV no visible light absorption=transpar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2560" y="6267600"/>
            <a:ext cx="84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gap,m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PS"/>
                <a:ea typeface="SymbolPS"/>
              </a:rPr>
              <a:t>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max,visi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700nm) (&lt;1.8eV all visible light absorbed=opaqu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973760" y="871560"/>
            <a:ext cx="3998520" cy="4954680"/>
            <a:chOff x="4973760" y="871560"/>
            <a:chExt cx="3998520" cy="4954680"/>
          </a:xfrm>
        </p:grpSpPr>
        <p:grpSp>
          <p:nvGrpSpPr>
            <p:cNvPr id="262" name=""/>
            <p:cNvGrpSpPr/>
            <p:nvPr/>
          </p:nvGrpSpPr>
          <p:grpSpPr>
            <a:xfrm>
              <a:off x="5345280" y="1355760"/>
              <a:ext cx="3416040" cy="4470480"/>
              <a:chOff x="5345280" y="1355760"/>
              <a:chExt cx="3416040" cy="4470480"/>
            </a:xfrm>
          </p:grpSpPr>
          <p:pic>
            <p:nvPicPr>
              <p:cNvPr id="2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345280" y="1355760"/>
                <a:ext cx="3416040" cy="447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5369040" y="5218200"/>
                <a:ext cx="1698480" cy="582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4973760" y="871560"/>
              <a:ext cx="399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. hole/electron pair gener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557320" y="5718240"/>
            <a:ext cx="3033000" cy="104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in between colored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e.g. red ruby Al</a:t>
            </a:r>
            <a:r>
              <a:rPr b="0" lang="en-US" sz="1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O</a:t>
            </a:r>
            <a:r>
              <a:rPr b="0" lang="en-US" sz="18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 with Cr</a:t>
            </a:r>
            <a:r>
              <a:rPr b="0" lang="en-US" sz="18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O</a:t>
            </a:r>
            <a:r>
              <a:rPr b="0" lang="en-US" sz="1800" spc="-1" strike="noStrike" baseline="-25000">
                <a:solidFill>
                  <a:srgbClr val="ff0033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33"/>
                </a:solidFill>
                <a:latin typeface="Times New Roman"/>
              </a:rPr>
              <a:t>impurity level in the band g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Light Transmission in Al</a:t>
            </a:r>
            <a:r>
              <a:rPr b="0" lang="en-US" sz="3600" spc="-1" strike="noStrike" baseline="-25000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ffcc66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852480" y="1271520"/>
            <a:ext cx="7631280" cy="46497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460520" y="1474920"/>
            <a:ext cx="3606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single crystal: trans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48120" y="2179800"/>
            <a:ext cx="3378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poly-crystal: transluc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58200" y="2854440"/>
            <a:ext cx="3204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with 5% pores: opa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3520" y="5902200"/>
            <a:ext cx="889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l reflection/refraction at grain/phase boundaries – p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ymers: scattering at boundaries betw. crystalline/amorphous re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ffects/Application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7720" y="1633680"/>
            <a:ext cx="807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uminesc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sorbing energy =&gt; re-emitting visible light (1.8eV&lt;hv&lt;3.1e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uorescence (&lt;1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osphorescence (&gt;1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 TV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fluoresc. coating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ED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forward bias diode – recombination=&gt; ligh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5640" y="3876840"/>
            <a:ext cx="567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hotoconduc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lumination =&gt; generation of charge carr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 light meters, solar c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8680" y="5146560"/>
            <a:ext cx="818172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tical fib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/0 impuls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high information density 24000 telephone calls by two w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.g. 30000kg Cu corresp. to 0.1kg high-purified Si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gla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Laser Concept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1520" y="1312920"/>
            <a:ext cx="831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e flash lamp excite electrons from C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3+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rge number of electrons falls back to intermediate sta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fter approx. 3ms: spontaneous emission – triggers avalanche of emiss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hotons parallel to the rod are transmitted to the semi-silvered 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736640" y="2651040"/>
            <a:ext cx="5732640" cy="40737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954080" y="1031760"/>
            <a:ext cx="50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(light amplification by stimulated emission of radiatio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52680" y="3875040"/>
            <a:ext cx="0" cy="63828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161040" y="3868560"/>
            <a:ext cx="0" cy="638280"/>
          </a:xfrm>
          <a:prstGeom prst="line">
            <a:avLst/>
          </a:prstGeom>
          <a:ln w="572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6211440" y="2568600"/>
            <a:ext cx="536760" cy="1147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52440" y="5538960"/>
            <a:ext cx="394812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monochromatic, high-inten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coherent red b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lectrical resistivit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36720" y="1338120"/>
            <a:ext cx="5070600" cy="5089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nergy ba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1600" y="2527200"/>
            <a:ext cx="5724360" cy="3252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535200" y="2370240"/>
            <a:ext cx="2806920" cy="3659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8640" y="4848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85760" y="4862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05080" y="4862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8640" y="1401840"/>
            <a:ext cx="34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rete energy lev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auli exclusion princip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703680" y="1488960"/>
            <a:ext cx="5438880" cy="4465800"/>
            <a:chOff x="3703680" y="1488960"/>
            <a:chExt cx="5438880" cy="4465800"/>
          </a:xfrm>
        </p:grpSpPr>
        <p:sp>
          <p:nvSpPr>
            <p:cNvPr id="101" name=""/>
            <p:cNvSpPr/>
            <p:nvPr/>
          </p:nvSpPr>
          <p:spPr>
            <a:xfrm>
              <a:off x="4360320" y="1488960"/>
              <a:ext cx="440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plitting into energy bands (N=12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3703680" y="2405160"/>
              <a:ext cx="5438880" cy="354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0" y="1204920"/>
            <a:ext cx="9142560" cy="5584680"/>
            <a:chOff x="0" y="1204920"/>
            <a:chExt cx="9142560" cy="5584680"/>
          </a:xfrm>
        </p:grpSpPr>
        <p:sp>
          <p:nvSpPr>
            <p:cNvPr id="104" name=""/>
            <p:cNvSpPr/>
            <p:nvPr/>
          </p:nvSpPr>
          <p:spPr>
            <a:xfrm>
              <a:off x="0" y="1204920"/>
              <a:ext cx="9142560" cy="5584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523800" y="1332000"/>
              <a:ext cx="8348760" cy="54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044720" y="2641680"/>
              <a:ext cx="1568160" cy="753840"/>
            </a:xfrm>
            <a:prstGeom prst="rect">
              <a:avLst/>
            </a:prstGeom>
            <a:solidFill>
              <a:srgbClr val="ff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52640" y="3753000"/>
              <a:ext cx="1568160" cy="261720"/>
            </a:xfrm>
            <a:prstGeom prst="rect">
              <a:avLst/>
            </a:prstGeom>
            <a:solidFill>
              <a:srgbClr val="ff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lectron Band Structur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7440" y="1684440"/>
            <a:ext cx="8737560" cy="447012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936800" y="2050920"/>
          <a:ext cx="1785960" cy="33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0" y="2050920"/>
                    <a:ext cx="1785960" cy="33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735560" y="55818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l (e.g. 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4200" y="1973160"/>
            <a:ext cx="0" cy="345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5120" y="1604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8320" y="4290840"/>
            <a:ext cx="111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val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b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5920" y="3238560"/>
            <a:ext cx="77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040" y="2259000"/>
            <a:ext cx="153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con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b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718440" y="2084400"/>
            <a:ext cx="3229200" cy="3994920"/>
            <a:chOff x="3718440" y="2084400"/>
            <a:chExt cx="3229200" cy="3994920"/>
          </a:xfrm>
        </p:grpSpPr>
        <p:grpSp>
          <p:nvGrpSpPr>
            <p:cNvPr id="119" name=""/>
            <p:cNvGrpSpPr/>
            <p:nvPr/>
          </p:nvGrpSpPr>
          <p:grpSpPr>
            <a:xfrm>
              <a:off x="3718440" y="2084400"/>
              <a:ext cx="2663280" cy="3994920"/>
              <a:chOff x="3718440" y="2084400"/>
              <a:chExt cx="2663280" cy="3994920"/>
            </a:xfrm>
          </p:grpSpPr>
          <p:graphicFrame>
            <p:nvGraphicFramePr>
              <p:cNvPr id="120" name=""/>
              <p:cNvGraphicFramePr/>
              <p:nvPr/>
            </p:nvGraphicFramePr>
            <p:xfrm>
              <a:off x="4202280" y="2084400"/>
              <a:ext cx="2179440" cy="32558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2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202280" y="2084400"/>
                        <a:ext cx="2179440" cy="3255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2" name=""/>
              <p:cNvSpPr/>
              <p:nvPr/>
            </p:nvSpPr>
            <p:spPr>
              <a:xfrm>
                <a:off x="4121280" y="5619600"/>
                <a:ext cx="2081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etal (e.g. Mg)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8440" y="4305240"/>
                <a:ext cx="46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6482160" y="3876840"/>
              <a:ext cx="46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361920" y="2092320"/>
            <a:ext cx="2617560" cy="4163760"/>
            <a:chOff x="6361920" y="2092320"/>
            <a:chExt cx="2617560" cy="4163760"/>
          </a:xfrm>
        </p:grpSpPr>
        <p:graphicFrame>
          <p:nvGraphicFramePr>
            <p:cNvPr id="126" name=""/>
            <p:cNvGraphicFramePr/>
            <p:nvPr/>
          </p:nvGraphicFramePr>
          <p:xfrm>
            <a:off x="6983280" y="2092320"/>
            <a:ext cx="1797120" cy="3224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83280" y="2092320"/>
                      <a:ext cx="1797120" cy="322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" name=""/>
            <p:cNvSpPr/>
            <p:nvPr/>
          </p:nvSpPr>
          <p:spPr>
            <a:xfrm>
              <a:off x="6361920" y="5380200"/>
              <a:ext cx="261756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olators (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a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2eV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miconducto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1320" y="3294000"/>
              <a:ext cx="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07960" y="3387600"/>
              <a:ext cx="621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ga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ductor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77880" y="1552680"/>
            <a:ext cx="7788240" cy="45496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208400" y="3483000"/>
            <a:ext cx="3492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88280" y="3483000"/>
            <a:ext cx="361800" cy="34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93920" y="3475080"/>
            <a:ext cx="5086440" cy="510120"/>
            <a:chOff x="2293920" y="3475080"/>
            <a:chExt cx="5086440" cy="510120"/>
          </a:xfrm>
        </p:grpSpPr>
        <p:sp>
          <p:nvSpPr>
            <p:cNvPr id="136" name=""/>
            <p:cNvSpPr/>
            <p:nvPr/>
          </p:nvSpPr>
          <p:spPr>
            <a:xfrm>
              <a:off x="4589640" y="3475080"/>
              <a:ext cx="49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33"/>
                  </a:solidFill>
                  <a:latin typeface="Times New Roman"/>
                </a:rPr>
                <a:t>E</a:t>
              </a:r>
              <a:r>
                <a:rPr b="1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93920" y="3629160"/>
              <a:ext cx="1914480" cy="0"/>
            </a:xfrm>
            <a:prstGeom prst="line">
              <a:avLst/>
            </a:prstGeom>
            <a:ln w="38160">
              <a:solidFill>
                <a:srgbClr val="ff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65880" y="3651120"/>
              <a:ext cx="1914480" cy="0"/>
            </a:xfrm>
            <a:prstGeom prst="line">
              <a:avLst/>
            </a:prstGeom>
            <a:ln w="38160">
              <a:solidFill>
                <a:srgbClr val="ff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emiconductors (intrinsic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76440" y="1557360"/>
            <a:ext cx="7767360" cy="4702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122720" y="3178080"/>
            <a:ext cx="120348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30640" y="4403880"/>
            <a:ext cx="120348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30560" y="3552840"/>
            <a:ext cx="13096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Times New Roman"/>
              </a:rPr>
              <a:t>band ga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262560" y="2924280"/>
            <a:ext cx="181080" cy="1662120"/>
            <a:chOff x="6262560" y="2924280"/>
            <a:chExt cx="181080" cy="1662120"/>
          </a:xfrm>
        </p:grpSpPr>
        <p:sp>
          <p:nvSpPr>
            <p:cNvPr id="145" name=""/>
            <p:cNvSpPr/>
            <p:nvPr/>
          </p:nvSpPr>
          <p:spPr>
            <a:xfrm>
              <a:off x="6269040" y="4425840"/>
              <a:ext cx="174600" cy="160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62560" y="2924280"/>
              <a:ext cx="174600" cy="160200"/>
            </a:xfrm>
            <a:prstGeom prst="ellipse">
              <a:avLst/>
            </a:prstGeom>
            <a:solidFill>
              <a:srgbClr val="ff0033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342120" y="3121200"/>
              <a:ext cx="0" cy="133488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n-type Extrinsic Semiconductor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7240" y="1585800"/>
            <a:ext cx="7775640" cy="4249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695920" y="2879640"/>
            <a:ext cx="174600" cy="16056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-type Extrinsic Semiconductor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44480" y="1643040"/>
            <a:ext cx="7883640" cy="4513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167520" y="4135320"/>
            <a:ext cx="174600" cy="160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0:40:19Z</dcterms:created>
  <dc:creator>Student</dc:creator>
  <dc:description/>
  <dc:language>en-US</dc:language>
  <cp:lastModifiedBy>TS</cp:lastModifiedBy>
  <dcterms:modified xsi:type="dcterms:W3CDTF">2006-11-12T21:50:59Z</dcterms:modified>
  <cp:revision>84</cp:revision>
  <dc:subject/>
  <dc:title>Rasterelektronenmikroskopie</dc:title>
</cp:coreProperties>
</file>