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461F-CFD0-4AC2-8FBB-34561BCF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F431-F86A-45F1-87E2-D6B054E1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5AB0-9568-4C38-B82A-D4F2A7D5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4801-6897-4ACD-BB77-9CCE7790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A4B1-1F93-4908-BE74-C99667E5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1E71-F4D3-4EB9-A07C-0BD70A9C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5F05-894C-4FA0-A3B5-D415561C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387B-5B32-4E8F-825A-13815226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EBA1-592F-4F4D-AA15-83F47209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70B7-F04F-41E2-9C16-750B1AA1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F8EA-DFD7-47AD-82E8-EAEE93CE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2C1-3AF1-44AD-ACFA-C291AD9D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7AFE-82A3-42EB-9F58-719A4059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E169-6BE8-4AAA-852D-526079CD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7633-2E4B-43B2-8AEF-9EB0974F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C5F1-C0BC-430F-B340-E1F69F55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864B-DABA-412F-8077-D603055A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863-8366-4086-94EB-5993D929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F47-B505-43C2-8C5A-417EEFA1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6BAE-4C39-4CF0-AD8E-0A5C8F62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D56-12D0-4358-A862-36B8F020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38BF-F28E-4AC4-B48B-FE779778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15C6-D20B-4DC7-A294-A26DE27F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BC85-7BFE-4EBB-8AB2-4873D9DD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A122-CBF6-44EF-A871-7D2D2C27C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2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1809-EF2F-4404-8BF6-F76C52FD5C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57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Hypoeutectoid Steels (C</a:t>
            </a:r>
            <a:r>
              <a:rPr b="0" lang="en-US" sz="3600" spc="-1" strike="noStrike" baseline="-25000">
                <a:solidFill>
                  <a:srgbClr val="ffcc66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&lt;0.76%)</a:t>
            </a:r>
            <a:br>
              <a:rPr sz="36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hypereutectoid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5" name="CK45N1000kl" descr=""/>
          <p:cNvPicPr/>
          <p:nvPr/>
        </p:nvPicPr>
        <p:blipFill>
          <a:blip r:embed="rId1"/>
          <a:stretch/>
        </p:blipFill>
        <p:spPr>
          <a:xfrm>
            <a:off x="1525680" y="1392120"/>
            <a:ext cx="6973920" cy="52405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920" y="2637000"/>
            <a:ext cx="1623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arl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mel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F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rr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960" y="5081760"/>
            <a:ext cx="11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PS"/>
                <a:ea typeface="SymbolPS"/>
              </a:rPr>
              <a:t>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rr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0" y="1503360"/>
            <a:ext cx="147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k45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=0.4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77920" y="3005280"/>
            <a:ext cx="2133720" cy="33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55600" y="5305320"/>
            <a:ext cx="609840" cy="435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085840" y="3351240"/>
            <a:ext cx="19368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artensite 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446720" y="1152360"/>
            <a:ext cx="4400280" cy="55724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325520" y="2190600"/>
            <a:ext cx="2890800" cy="3349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556560" y="1301760"/>
            <a:ext cx="367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ct unit cell of marten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ersaturated solid 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84080" y="3063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6360" y="3687840"/>
            <a:ext cx="159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possible si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for C ato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114720" y="2511360"/>
            <a:ext cx="902520" cy="3458520"/>
            <a:chOff x="3114720" y="2511360"/>
            <a:chExt cx="902520" cy="3458520"/>
          </a:xfrm>
        </p:grpSpPr>
        <p:sp>
          <p:nvSpPr>
            <p:cNvPr id="268" name=""/>
            <p:cNvSpPr/>
            <p:nvPr/>
          </p:nvSpPr>
          <p:spPr>
            <a:xfrm>
              <a:off x="3860640" y="2511360"/>
              <a:ext cx="0" cy="187344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114720" y="4405320"/>
              <a:ext cx="753840" cy="7254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49160" y="3294000"/>
              <a:ext cx="316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27280" y="4738680"/>
              <a:ext cx="217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93000" y="5510160"/>
              <a:ext cx="6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c&gt;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647600" y="606420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ensite plates / austen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280" y="5857920"/>
            <a:ext cx="220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&gt; high str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&gt; brit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Heat Treatment –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echanical Proper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0240" y="2114640"/>
            <a:ext cx="31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lizing (Austeni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910040" y="1695600"/>
            <a:ext cx="3648240" cy="4767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573880" y="2452680"/>
            <a:ext cx="1944360" cy="1625760"/>
          </a:xfrm>
          <a:custGeom>
            <a:avLst/>
            <a:gdLst/>
            <a:ahLst/>
            <a:rect l="l" t="t" r="r" b="b"/>
            <a:pathLst>
              <a:path w="1225" h="1024">
                <a:moveTo>
                  <a:pt x="530" y="1024"/>
                </a:moveTo>
                <a:lnTo>
                  <a:pt x="210" y="722"/>
                </a:lnTo>
                <a:lnTo>
                  <a:pt x="0" y="329"/>
                </a:lnTo>
                <a:lnTo>
                  <a:pt x="0" y="0"/>
                </a:lnTo>
                <a:lnTo>
                  <a:pt x="1225" y="0"/>
                </a:lnTo>
                <a:lnTo>
                  <a:pt x="530" y="1024"/>
                </a:lnTo>
                <a:close/>
              </a:path>
            </a:pathLst>
          </a:custGeom>
          <a:solidFill>
            <a:srgbClr val="ff0033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8560" y="2708280"/>
            <a:ext cx="4225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ow cooling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o-eutectoid: </a:t>
            </a:r>
            <a:r>
              <a:rPr b="0" lang="en-US" sz="2400" spc="-1" strike="noStrike">
                <a:solidFill>
                  <a:srgbClr val="ffffff"/>
                </a:solidFill>
                <a:latin typeface="SymbolPS"/>
                <a:ea typeface="SymbolPS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ferrite+pear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er-eutectoid: pearlite + F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6021360" y="2786040"/>
            <a:ext cx="1440" cy="204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29560" y="2751120"/>
            <a:ext cx="12600" cy="2031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3640" y="4022640"/>
            <a:ext cx="24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rate cooling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in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5080" y="5045040"/>
            <a:ext cx="177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st cooling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ten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128160" y="2365200"/>
            <a:ext cx="46692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8520" y="2684520"/>
            <a:ext cx="0" cy="2641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8520" y="3236760"/>
            <a:ext cx="452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8520" y="4273560"/>
            <a:ext cx="452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8520" y="5310360"/>
            <a:ext cx="452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44720" y="5573880"/>
            <a:ext cx="318960" cy="333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55960" y="5931000"/>
            <a:ext cx="287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heat (250°C-600°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mpered marten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echanical Proper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36760" y="1930320"/>
            <a:ext cx="0" cy="38181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61040" y="1879560"/>
            <a:ext cx="0" cy="3817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36760" y="5748480"/>
            <a:ext cx="3832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5400" y="5000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08400" y="2359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12040" y="127332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in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dness (strengt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71960" y="590076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osition [%C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600360" y="2700360"/>
            <a:ext cx="5096520" cy="1320840"/>
            <a:chOff x="3600360" y="2700360"/>
            <a:chExt cx="5096520" cy="1320840"/>
          </a:xfrm>
        </p:grpSpPr>
        <p:sp>
          <p:nvSpPr>
            <p:cNvPr id="300" name=""/>
            <p:cNvSpPr/>
            <p:nvPr/>
          </p:nvSpPr>
          <p:spPr>
            <a:xfrm>
              <a:off x="3600360" y="3133800"/>
              <a:ext cx="3353040" cy="887400"/>
            </a:xfrm>
            <a:custGeom>
              <a:avLst/>
              <a:gdLst/>
              <a:ahLst/>
              <a:rect l="l" t="t" r="r" b="b"/>
              <a:pathLst>
                <a:path w="2167" h="559">
                  <a:moveTo>
                    <a:pt x="0" y="559"/>
                  </a:moveTo>
                  <a:cubicBezTo>
                    <a:pt x="361" y="415"/>
                    <a:pt x="723" y="272"/>
                    <a:pt x="1051" y="184"/>
                  </a:cubicBezTo>
                  <a:cubicBezTo>
                    <a:pt x="1379" y="96"/>
                    <a:pt x="1780" y="56"/>
                    <a:pt x="1966" y="28"/>
                  </a:cubicBezTo>
                  <a:cubicBezTo>
                    <a:pt x="2152" y="0"/>
                    <a:pt x="2159" y="9"/>
                    <a:pt x="2167" y="19"/>
                  </a:cubicBezTo>
                </a:path>
              </a:pathLst>
            </a:custGeom>
            <a:noFill/>
            <a:ln w="2844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42120" y="270036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mper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rtens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417000" y="139536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ctility [%RA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23320" y="1735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5200" y="3274920"/>
            <a:ext cx="3301920" cy="1729800"/>
            <a:chOff x="25200" y="3274920"/>
            <a:chExt cx="3301920" cy="1729800"/>
          </a:xfrm>
        </p:grpSpPr>
        <p:sp>
          <p:nvSpPr>
            <p:cNvPr id="305" name=""/>
            <p:cNvSpPr/>
            <p:nvPr/>
          </p:nvSpPr>
          <p:spPr>
            <a:xfrm>
              <a:off x="25200" y="3274920"/>
              <a:ext cx="3301920" cy="17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 precipita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rittle (%RA   HB   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dherent phase boundar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&gt;constraint for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PS"/>
                  <a:ea typeface="SymbolPS"/>
                </a:rPr>
                <a:t>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deformation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65200" y="3714840"/>
              <a:ext cx="1800" cy="334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1989000" y="3687840"/>
              <a:ext cx="0" cy="33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92040" y="4332240"/>
            <a:ext cx="8754840" cy="2073240"/>
            <a:chOff x="392040" y="4332240"/>
            <a:chExt cx="8754840" cy="2073240"/>
          </a:xfrm>
        </p:grpSpPr>
        <p:sp>
          <p:nvSpPr>
            <p:cNvPr id="309" name=""/>
            <p:cNvSpPr/>
            <p:nvPr/>
          </p:nvSpPr>
          <p:spPr>
            <a:xfrm>
              <a:off x="3513240" y="4600440"/>
              <a:ext cx="3324240" cy="843120"/>
            </a:xfrm>
            <a:custGeom>
              <a:avLst/>
              <a:gdLst/>
              <a:ahLst/>
              <a:rect l="l" t="t" r="r" b="b"/>
              <a:pathLst>
                <a:path w="2094" h="531">
                  <a:moveTo>
                    <a:pt x="0" y="531"/>
                  </a:moveTo>
                  <a:cubicBezTo>
                    <a:pt x="314" y="387"/>
                    <a:pt x="629" y="244"/>
                    <a:pt x="978" y="156"/>
                  </a:cubicBezTo>
                  <a:cubicBezTo>
                    <a:pt x="1327" y="68"/>
                    <a:pt x="1710" y="34"/>
                    <a:pt x="2094" y="0"/>
                  </a:cubicBezTo>
                </a:path>
              </a:pathLst>
            </a:custGeom>
            <a:noFill/>
            <a:ln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92080" y="4332240"/>
              <a:ext cx="195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arse pearl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2040" y="5037120"/>
              <a:ext cx="1451160" cy="1368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92040" y="5037120"/>
              <a:ext cx="725400" cy="711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1095480" y="5638680"/>
              <a:ext cx="725400" cy="711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492120" y="5122800"/>
              <a:ext cx="971640" cy="959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30080" y="5303520"/>
              <a:ext cx="971640" cy="958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72960" y="3571920"/>
            <a:ext cx="8534160" cy="2842920"/>
            <a:chOff x="372960" y="3571920"/>
            <a:chExt cx="8534160" cy="2842920"/>
          </a:xfrm>
        </p:grpSpPr>
        <p:sp>
          <p:nvSpPr>
            <p:cNvPr id="317" name=""/>
            <p:cNvSpPr/>
            <p:nvPr/>
          </p:nvSpPr>
          <p:spPr>
            <a:xfrm>
              <a:off x="3498840" y="3778200"/>
              <a:ext cx="3411720" cy="1519200"/>
            </a:xfrm>
            <a:custGeom>
              <a:avLst/>
              <a:gdLst/>
              <a:ahLst/>
              <a:rect l="l" t="t" r="r" b="b"/>
              <a:pathLst>
                <a:path w="2340" h="1716">
                  <a:moveTo>
                    <a:pt x="0" y="1716"/>
                  </a:moveTo>
                  <a:cubicBezTo>
                    <a:pt x="702" y="1159"/>
                    <a:pt x="1405" y="603"/>
                    <a:pt x="1774" y="326"/>
                  </a:cubicBezTo>
                  <a:cubicBezTo>
                    <a:pt x="2143" y="49"/>
                    <a:pt x="2118" y="104"/>
                    <a:pt x="2212" y="52"/>
                  </a:cubicBezTo>
                  <a:cubicBezTo>
                    <a:pt x="2306" y="0"/>
                    <a:pt x="2323" y="8"/>
                    <a:pt x="2340" y="16"/>
                  </a:cubicBezTo>
                </a:path>
              </a:pathLst>
            </a:custGeom>
            <a:noFill/>
            <a:ln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57240" y="3571920"/>
              <a:ext cx="164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ine pearl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72960" y="5019840"/>
              <a:ext cx="1489320" cy="1395000"/>
              <a:chOff x="372960" y="5019840"/>
              <a:chExt cx="1489320" cy="1395000"/>
            </a:xfrm>
          </p:grpSpPr>
          <p:sp>
            <p:nvSpPr>
              <p:cNvPr id="320" name=""/>
              <p:cNvSpPr/>
              <p:nvPr/>
            </p:nvSpPr>
            <p:spPr>
              <a:xfrm>
                <a:off x="388800" y="5035680"/>
                <a:ext cx="1451160" cy="13687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374760" y="5035320"/>
                <a:ext cx="695160" cy="68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628560" y="5261040"/>
                <a:ext cx="986040" cy="95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372960" y="5019840"/>
                <a:ext cx="971640" cy="95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523800" y="5157720"/>
                <a:ext cx="971640" cy="95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824040" y="5413680"/>
                <a:ext cx="942840" cy="92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1019160" y="5594760"/>
                <a:ext cx="843120" cy="798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214280" y="5805360"/>
                <a:ext cx="61128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8" name=""/>
          <p:cNvGrpSpPr/>
          <p:nvPr/>
        </p:nvGrpSpPr>
        <p:grpSpPr>
          <a:xfrm>
            <a:off x="334800" y="4689360"/>
            <a:ext cx="8811720" cy="1699920"/>
            <a:chOff x="334800" y="4689360"/>
            <a:chExt cx="8811720" cy="1699920"/>
          </a:xfrm>
        </p:grpSpPr>
        <p:sp>
          <p:nvSpPr>
            <p:cNvPr id="329" name=""/>
            <p:cNvSpPr/>
            <p:nvPr/>
          </p:nvSpPr>
          <p:spPr>
            <a:xfrm>
              <a:off x="3498840" y="4768560"/>
              <a:ext cx="3324240" cy="771480"/>
            </a:xfrm>
            <a:custGeom>
              <a:avLst/>
              <a:gdLst/>
              <a:ahLst/>
              <a:rect l="l" t="t" r="r" b="b"/>
              <a:pathLst>
                <a:path w="2094" h="531">
                  <a:moveTo>
                    <a:pt x="0" y="531"/>
                  </a:moveTo>
                  <a:cubicBezTo>
                    <a:pt x="314" y="387"/>
                    <a:pt x="629" y="244"/>
                    <a:pt x="978" y="156"/>
                  </a:cubicBezTo>
                  <a:cubicBezTo>
                    <a:pt x="1327" y="68"/>
                    <a:pt x="1710" y="34"/>
                    <a:pt x="2094" y="0"/>
                  </a:cubicBezTo>
                </a:path>
              </a:pathLst>
            </a:custGeom>
            <a:noFill/>
            <a:ln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49240" y="4689360"/>
              <a:ext cx="19972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pheroid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approx. 700°C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nnealed pearlit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334800" y="5020920"/>
              <a:ext cx="1450800" cy="1368360"/>
              <a:chOff x="334800" y="5020920"/>
              <a:chExt cx="1450800" cy="1368360"/>
            </a:xfrm>
          </p:grpSpPr>
          <p:sp>
            <p:nvSpPr>
              <p:cNvPr id="332" name=""/>
              <p:cNvSpPr/>
              <p:nvPr/>
            </p:nvSpPr>
            <p:spPr>
              <a:xfrm>
                <a:off x="334800" y="5020920"/>
                <a:ext cx="1450800" cy="13683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334800" y="5020920"/>
                <a:ext cx="725400" cy="71136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1037880" y="5622480"/>
                <a:ext cx="725760" cy="71136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434880" y="5106600"/>
                <a:ext cx="971280" cy="95904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672840" y="5287320"/>
                <a:ext cx="971640" cy="9586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7" name=""/>
          <p:cNvSpPr/>
          <p:nvPr/>
        </p:nvSpPr>
        <p:spPr>
          <a:xfrm>
            <a:off x="6817320" y="57913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0" y="1940040"/>
            <a:ext cx="8676000" cy="4742640"/>
            <a:chOff x="0" y="1940040"/>
            <a:chExt cx="8676000" cy="4742640"/>
          </a:xfrm>
        </p:grpSpPr>
        <p:grpSp>
          <p:nvGrpSpPr>
            <p:cNvPr id="339" name=""/>
            <p:cNvGrpSpPr/>
            <p:nvPr/>
          </p:nvGrpSpPr>
          <p:grpSpPr>
            <a:xfrm>
              <a:off x="0" y="1940040"/>
              <a:ext cx="8676000" cy="4742640"/>
              <a:chOff x="0" y="1940040"/>
              <a:chExt cx="8676000" cy="4742640"/>
            </a:xfrm>
          </p:grpSpPr>
          <p:sp>
            <p:nvSpPr>
              <p:cNvPr id="340" name=""/>
              <p:cNvSpPr/>
              <p:nvPr/>
            </p:nvSpPr>
            <p:spPr>
              <a:xfrm>
                <a:off x="3398760" y="2193840"/>
                <a:ext cx="3322800" cy="1653840"/>
              </a:xfrm>
              <a:custGeom>
                <a:avLst/>
                <a:gdLst/>
                <a:ahLst/>
                <a:rect l="l" t="t" r="r" b="b"/>
                <a:pathLst>
                  <a:path w="2093" h="1042">
                    <a:moveTo>
                      <a:pt x="0" y="1042"/>
                    </a:moveTo>
                    <a:cubicBezTo>
                      <a:pt x="168" y="736"/>
                      <a:pt x="336" y="430"/>
                      <a:pt x="685" y="256"/>
                    </a:cubicBezTo>
                    <a:cubicBezTo>
                      <a:pt x="1034" y="82"/>
                      <a:pt x="1563" y="41"/>
                      <a:pt x="2093" y="0"/>
                    </a:cubicBezTo>
                  </a:path>
                </a:pathLst>
              </a:custGeom>
              <a:noFill/>
              <a:ln w="28440">
                <a:solidFill>
                  <a:srgbClr val="ff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221240" y="1940040"/>
                <a:ext cx="145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artensi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0" y="3216240"/>
                <a:ext cx="3164040" cy="3466440"/>
                <a:chOff x="0" y="3216240"/>
                <a:chExt cx="3164040" cy="34664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0" y="3216240"/>
                  <a:ext cx="3164040" cy="1679400"/>
                </a:xfrm>
                <a:prstGeom prst="rect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martensit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=&gt;no ductility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=&gt;C blocks dislocatio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     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motio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28520" y="4674600"/>
                  <a:ext cx="2222640" cy="2008080"/>
                </a:xfrm>
                <a:prstGeom prst="rect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5" name=""/>
            <p:cNvSpPr/>
            <p:nvPr/>
          </p:nvSpPr>
          <p:spPr>
            <a:xfrm>
              <a:off x="0" y="4789440"/>
              <a:ext cx="2249640" cy="18144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empered Martensit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436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CK45H1000kl" descr=""/>
          <p:cNvPicPr/>
          <p:nvPr/>
        </p:nvPicPr>
        <p:blipFill>
          <a:blip r:embed="rId1"/>
          <a:stretch/>
        </p:blipFill>
        <p:spPr>
          <a:xfrm>
            <a:off x="324000" y="1430280"/>
            <a:ext cx="4924440" cy="368136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352440" y="5335560"/>
            <a:ext cx="7272360" cy="1206000"/>
            <a:chOff x="352440" y="5335560"/>
            <a:chExt cx="7272360" cy="1206000"/>
          </a:xfrm>
        </p:grpSpPr>
        <p:sp>
          <p:nvSpPr>
            <p:cNvPr id="350" name=""/>
            <p:cNvSpPr/>
            <p:nvPr/>
          </p:nvSpPr>
          <p:spPr>
            <a:xfrm>
              <a:off x="352440" y="5335560"/>
              <a:ext cx="292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ormalized (austenit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38280" y="583416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9120" y="6081840"/>
              <a:ext cx="71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ater-quenched (=&gt; martensite, brittle+internal stresses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314316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929040" y="1444680"/>
            <a:ext cx="5042880" cy="5113440"/>
            <a:chOff x="3929040" y="1444680"/>
            <a:chExt cx="5042880" cy="5113440"/>
          </a:xfrm>
        </p:grpSpPr>
        <p:pic>
          <p:nvPicPr>
            <p:cNvPr id="355" name="CK45A1000kl" descr=""/>
            <p:cNvPicPr/>
            <p:nvPr/>
          </p:nvPicPr>
          <p:blipFill>
            <a:blip r:embed="rId2"/>
            <a:stretch/>
          </p:blipFill>
          <p:spPr>
            <a:xfrm>
              <a:off x="3929040" y="2989440"/>
              <a:ext cx="4757760" cy="35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261760" y="1444680"/>
              <a:ext cx="3710160" cy="14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eheating (650°C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&gt;C diffusion is possib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&gt;fine-dispersed F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 precipita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empered Martensit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885960" y="1163520"/>
            <a:ext cx="5359320" cy="55771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380280" y="2824200"/>
            <a:ext cx="239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od comb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str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duct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rengthening Mechanisms in Metals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-9000" y="1301760"/>
            <a:ext cx="7398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grain size re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in boundary acts as barrier to dislocation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e to: direction change (misorient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continuity of slip pl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&gt; Hall-Petch relationship: </a:t>
            </a:r>
            <a:r>
              <a:rPr b="1" lang="en-US" sz="2400" spc="-1" strike="noStrike">
                <a:solidFill>
                  <a:srgbClr val="ffffff"/>
                </a:solidFill>
                <a:latin typeface="SymbolPS"/>
                <a:ea typeface="SymbolPS"/>
              </a:rPr>
              <a:t>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SymbolPS"/>
                <a:ea typeface="SymbolPS"/>
              </a:rPr>
              <a:t>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1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3160" y="3716280"/>
            <a:ext cx="917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can the grain size be modifi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 of solidification rate (fa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 grain growth (high temperatu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stic deformation + heat treatment (recovery + recrystalliz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87920" y="2844720"/>
            <a:ext cx="2031840" cy="50796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-7920" y="5254560"/>
            <a:ext cx="6148800" cy="1283040"/>
            <a:chOff x="-7920" y="5254560"/>
            <a:chExt cx="6148800" cy="1283040"/>
          </a:xfrm>
        </p:grpSpPr>
        <p:sp>
          <p:nvSpPr>
            <p:cNvPr id="365" name=""/>
            <p:cNvSpPr/>
            <p:nvPr/>
          </p:nvSpPr>
          <p:spPr>
            <a:xfrm>
              <a:off x="-7920" y="5468760"/>
              <a:ext cx="6148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Strain Hardening/Work Hardenin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crease in dislocation dens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552680" y="5254560"/>
              <a:ext cx="0" cy="34776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Recovery and Recrystalliz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83000" y="1508040"/>
            <a:ext cx="1755720" cy="928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9000" y="1711440"/>
            <a:ext cx="942840" cy="349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23840" y="1819440"/>
            <a:ext cx="943200" cy="144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98480" y="1189080"/>
            <a:ext cx="725400" cy="6825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2000" y="1949400"/>
            <a:ext cx="725760" cy="6825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9880" y="1488960"/>
            <a:ext cx="2338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rolling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ored internal stra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61000" y="1913040"/>
            <a:ext cx="942840" cy="144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94160" y="1495440"/>
            <a:ext cx="2791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 treatm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rrangement 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locations nucle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d growth of new gra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174760" y="272880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194560" y="592128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-situ recrystallization in the S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0" dur="1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62080" y="1973160"/>
            <a:ext cx="8503920" cy="478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-232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Recrystallization Temperatur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4600" y="647640"/>
            <a:ext cx="750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new grain formation (recrystallization) finished after 1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ends on: degree of cold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-situ recrystallization durin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ot workin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e.g. hot roll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649440" y="2252520"/>
            <a:ext cx="3663720" cy="42847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573200" y="6286680"/>
            <a:ext cx="2225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nealing 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8920" y="2314440"/>
            <a:ext cx="764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Pa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3600" y="5076720"/>
            <a:ext cx="689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m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64320" y="2208240"/>
            <a:ext cx="996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ct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4543560" y="3043080"/>
            <a:ext cx="3975120" cy="31816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914400" y="3164040"/>
            <a:ext cx="231840" cy="9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57560" y="3112920"/>
            <a:ext cx="231840" cy="9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042400" y="3119400"/>
            <a:ext cx="581040" cy="27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06880" y="5829480"/>
            <a:ext cx="183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cent cold 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99400" y="2817720"/>
            <a:ext cx="281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rystallization 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32160" y="3402000"/>
            <a:ext cx="581040" cy="27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rengthening Mechanisms in Metal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76560" y="1346040"/>
            <a:ext cx="638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solid solution strengthe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alloying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tice strain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estrict dislocation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0920" y="3154320"/>
            <a:ext cx="880956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 precipitation harde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herent precipitates: e.g. carbides in steel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barriers to dislocation motion/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herent precipitates: e.g.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´phase in Ni-base superallo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´´ phase in Al-Cu alloy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cutting – barrier effect by disrupting the order/new interfa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ecipitation Hardening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64480" y="1468440"/>
            <a:ext cx="73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tting coheren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´particles (N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) in Ni-base superallo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82680" y="2136600"/>
            <a:ext cx="4457520" cy="4200840"/>
          </a:xfrm>
          <a:prstGeom prst="rect">
            <a:avLst/>
          </a:prstGeom>
          <a:ln w="0">
            <a:noFill/>
          </a:ln>
        </p:spPr>
      </p:pic>
      <p:grpSp>
        <p:nvGrpSpPr>
          <p:cNvPr id="399" name=""/>
          <p:cNvGrpSpPr/>
          <p:nvPr/>
        </p:nvGrpSpPr>
        <p:grpSpPr>
          <a:xfrm>
            <a:off x="2351160" y="2308320"/>
            <a:ext cx="6561000" cy="3854520"/>
            <a:chOff x="2351160" y="2308320"/>
            <a:chExt cx="6561000" cy="3854520"/>
          </a:xfrm>
        </p:grpSpPr>
        <p:sp>
          <p:nvSpPr>
            <p:cNvPr id="400" name=""/>
            <p:cNvSpPr/>
            <p:nvPr/>
          </p:nvSpPr>
          <p:spPr>
            <a:xfrm flipV="1">
              <a:off x="2351160" y="3222360"/>
              <a:ext cx="1190520" cy="9572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2"/>
            <a:stretch/>
          </p:blipFill>
          <p:spPr>
            <a:xfrm>
              <a:off x="4659480" y="2313000"/>
              <a:ext cx="4252680" cy="384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2917800" y="3787920"/>
              <a:ext cx="1828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77240" y="2308320"/>
              <a:ext cx="12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lo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128000" y="2690640"/>
              <a:ext cx="1206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lip pla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3040" y="5559480"/>
              <a:ext cx="652320" cy="12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320760" y="6249960"/>
            <a:ext cx="3857040" cy="459720"/>
            <a:chOff x="320760" y="6249960"/>
            <a:chExt cx="3857040" cy="459720"/>
          </a:xfrm>
        </p:grpSpPr>
        <p:sp>
          <p:nvSpPr>
            <p:cNvPr id="407" name=""/>
            <p:cNvSpPr/>
            <p:nvPr/>
          </p:nvSpPr>
          <p:spPr>
            <a:xfrm>
              <a:off x="1299600" y="6249960"/>
              <a:ext cx="28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eneration of disor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20760" y="6516720"/>
              <a:ext cx="97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CK15N1000kl" descr=""/>
          <p:cNvPicPr/>
          <p:nvPr/>
        </p:nvPicPr>
        <p:blipFill>
          <a:blip r:embed="rId1"/>
          <a:stretch/>
        </p:blipFill>
        <p:spPr>
          <a:xfrm>
            <a:off x="1644480" y="1515960"/>
            <a:ext cx="6710400" cy="5016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Hypoeutectoid Steels (C</a:t>
            </a:r>
            <a:r>
              <a:rPr b="0" lang="en-US" sz="3600" spc="-1" strike="noStrike" baseline="-25000">
                <a:solidFill>
                  <a:srgbClr val="ffcc66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&lt;0.76%)</a:t>
            </a:r>
            <a:br>
              <a:rPr sz="36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hypereutectoid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6720" y="2637000"/>
            <a:ext cx="118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arl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760" y="5081760"/>
            <a:ext cx="11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PS"/>
                <a:ea typeface="SymbolPS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rr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240" y="1503360"/>
            <a:ext cx="147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k15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=0.1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306440" y="2844720"/>
            <a:ext cx="1190520" cy="160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84120" y="5305320"/>
            <a:ext cx="914400" cy="333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Hypo-Eutectoid Trans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46720" y="1214280"/>
            <a:ext cx="4214520" cy="55105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330120" y="1220760"/>
            <a:ext cx="5184720" cy="4381560"/>
            <a:chOff x="330120" y="1220760"/>
            <a:chExt cx="5184720" cy="4381560"/>
          </a:xfrm>
        </p:grpSpPr>
        <p:sp>
          <p:nvSpPr>
            <p:cNvPr id="101" name=""/>
            <p:cNvSpPr/>
            <p:nvPr/>
          </p:nvSpPr>
          <p:spPr>
            <a:xfrm>
              <a:off x="330120" y="144612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usten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392040" y="2016000"/>
              <a:ext cx="2871720" cy="35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514840" y="1220760"/>
              <a:ext cx="0" cy="20034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440" y="3130560"/>
            <a:ext cx="5789880" cy="875880"/>
            <a:chOff x="1440" y="3130560"/>
            <a:chExt cx="5789880" cy="875880"/>
          </a:xfrm>
        </p:grpSpPr>
        <p:sp>
          <p:nvSpPr>
            <p:cNvPr id="105" name=""/>
            <p:cNvSpPr/>
            <p:nvPr/>
          </p:nvSpPr>
          <p:spPr>
            <a:xfrm>
              <a:off x="5514840" y="3279600"/>
              <a:ext cx="0" cy="668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40160" y="3629160"/>
              <a:ext cx="551160" cy="0"/>
            </a:xfrm>
            <a:prstGeom prst="line">
              <a:avLst/>
            </a:prstGeom>
            <a:ln w="284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40" y="3130560"/>
              <a:ext cx="43750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wo-phase regime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ecipitation of ferrite (c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&lt;0.02%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1280" y="3265560"/>
            <a:ext cx="5977440" cy="1245240"/>
            <a:chOff x="161280" y="3265560"/>
            <a:chExt cx="5977440" cy="1245240"/>
          </a:xfrm>
        </p:grpSpPr>
        <p:sp>
          <p:nvSpPr>
            <p:cNvPr id="109" name=""/>
            <p:cNvSpPr/>
            <p:nvPr/>
          </p:nvSpPr>
          <p:spPr>
            <a:xfrm>
              <a:off x="161280" y="4000680"/>
              <a:ext cx="3468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&gt; Austenite c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C 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&gt;0.7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38480" y="4019400"/>
              <a:ext cx="0" cy="47952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61000" y="3265560"/>
              <a:ext cx="477720" cy="50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0" y="1219320"/>
            <a:ext cx="5514840" cy="4964040"/>
            <a:chOff x="0" y="1219320"/>
            <a:chExt cx="5514840" cy="4964040"/>
          </a:xfrm>
        </p:grpSpPr>
        <p:sp>
          <p:nvSpPr>
            <p:cNvPr id="113" name=""/>
            <p:cNvSpPr/>
            <p:nvPr/>
          </p:nvSpPr>
          <p:spPr>
            <a:xfrm>
              <a:off x="0" y="1219320"/>
              <a:ext cx="4441680" cy="49640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124920" y="1459080"/>
              <a:ext cx="5389920" cy="4723920"/>
              <a:chOff x="124920" y="1459080"/>
              <a:chExt cx="5389920" cy="472392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128520" y="2367000"/>
                <a:ext cx="5386320" cy="3816000"/>
                <a:chOff x="128520" y="2367000"/>
                <a:chExt cx="5386320" cy="3816000"/>
              </a:xfrm>
            </p:grpSpPr>
            <p:pic>
              <p:nvPicPr>
                <p:cNvPr id="11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28520" y="2367000"/>
                  <a:ext cx="4415040" cy="3041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" name=""/>
                <p:cNvSpPr/>
                <p:nvPr/>
              </p:nvSpPr>
              <p:spPr>
                <a:xfrm flipV="1">
                  <a:off x="5514840" y="3947760"/>
                  <a:ext cx="0" cy="2235240"/>
                </a:xfrm>
                <a:prstGeom prst="line">
                  <a:avLst/>
                </a:prstGeom>
                <a:ln w="3816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124920" y="1459080"/>
                <a:ext cx="225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Ferrite + Pearli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utectoid Transformation: Pearlit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46720" y="1214280"/>
            <a:ext cx="4214520" cy="5510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226200" y="2946240"/>
            <a:ext cx="0" cy="174168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0280" y="3860640"/>
            <a:ext cx="189000" cy="17316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2560" y="640080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instantaneously!! -&gt; f(ti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00040" y="1290600"/>
            <a:ext cx="5654160" cy="4667400"/>
            <a:chOff x="500040" y="1290600"/>
            <a:chExt cx="5654160" cy="4667400"/>
          </a:xfrm>
        </p:grpSpPr>
        <p:sp>
          <p:nvSpPr>
            <p:cNvPr id="125" name=""/>
            <p:cNvSpPr/>
            <p:nvPr/>
          </p:nvSpPr>
          <p:spPr>
            <a:xfrm>
              <a:off x="3476520" y="4313160"/>
              <a:ext cx="132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=727°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132080" y="3962520"/>
              <a:ext cx="2022120" cy="3776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500040" y="1290600"/>
              <a:ext cx="2909880" cy="466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128520" y="2489040"/>
            <a:ext cx="4556160" cy="3817800"/>
            <a:chOff x="128520" y="2489040"/>
            <a:chExt cx="4556160" cy="3817800"/>
          </a:xfrm>
        </p:grpSpPr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128520" y="2489040"/>
              <a:ext cx="4556160" cy="38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797120" y="5503680"/>
              <a:ext cx="668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71640" y="5089320"/>
              <a:ext cx="711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68400" y="4668480"/>
              <a:ext cx="827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49320" y="4249440"/>
              <a:ext cx="779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11160" y="3849480"/>
              <a:ext cx="646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8400" y="2703240"/>
              <a:ext cx="406116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ffusion: C into F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 lamella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85880" y="3833640"/>
              <a:ext cx="142920" cy="40932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128520" y="1930320"/>
            <a:ext cx="4008600" cy="3797280"/>
            <a:chOff x="128520" y="1930320"/>
            <a:chExt cx="4008600" cy="3797280"/>
          </a:xfrm>
        </p:grpSpPr>
        <p:grpSp>
          <p:nvGrpSpPr>
            <p:cNvPr id="138" name=""/>
            <p:cNvGrpSpPr/>
            <p:nvPr/>
          </p:nvGrpSpPr>
          <p:grpSpPr>
            <a:xfrm>
              <a:off x="128520" y="2736720"/>
              <a:ext cx="3880080" cy="2990880"/>
              <a:chOff x="128520" y="2736720"/>
              <a:chExt cx="3880080" cy="2990880"/>
            </a:xfrm>
          </p:grpSpPr>
          <p:pic>
            <p:nvPicPr>
              <p:cNvPr id="1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8520" y="2736720"/>
                <a:ext cx="3880080" cy="299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1549440" y="5098320"/>
                <a:ext cx="568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612800" y="4773600"/>
                <a:ext cx="6051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609920" y="4443840"/>
                <a:ext cx="704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593720" y="4115520"/>
                <a:ext cx="663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561320" y="3802320"/>
                <a:ext cx="5500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81240" y="2904480"/>
                <a:ext cx="3428280" cy="49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iffusion: C into Fe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 lamella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221200" y="3790080"/>
                <a:ext cx="121680" cy="32040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flipV="1">
              <a:off x="1871640" y="1944720"/>
              <a:ext cx="0" cy="798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87480" y="1930320"/>
              <a:ext cx="2249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078440" y="1465200"/>
            <a:ext cx="4890960" cy="465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hase Trans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091040" y="1954080"/>
            <a:ext cx="4878360" cy="3735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815080" y="5307120"/>
            <a:ext cx="2117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 time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3360" y="153360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ction of transformation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1117440"/>
            <a:ext cx="5703840" cy="5607360"/>
            <a:chOff x="0" y="1117440"/>
            <a:chExt cx="5703840" cy="5607360"/>
          </a:xfrm>
        </p:grpSpPr>
        <p:sp>
          <p:nvSpPr>
            <p:cNvPr id="155" name=""/>
            <p:cNvSpPr/>
            <p:nvPr/>
          </p:nvSpPr>
          <p:spPr>
            <a:xfrm flipV="1">
              <a:off x="1800360" y="1218960"/>
              <a:ext cx="0" cy="639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00360" y="1219320"/>
              <a:ext cx="219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117440"/>
              <a:ext cx="4151160" cy="5607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8520" y="1335240"/>
              <a:ext cx="1554120" cy="1554120"/>
            </a:xfrm>
            <a:prstGeom prst="ellipse">
              <a:avLst/>
            </a:prstGeom>
            <a:solidFill>
              <a:srgbClr val="0000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3560" y="1828800"/>
              <a:ext cx="144720" cy="17460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09800" y="1617840"/>
              <a:ext cx="144360" cy="17460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5440" y="2322360"/>
              <a:ext cx="144360" cy="17460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50760" y="2286000"/>
              <a:ext cx="144720" cy="17460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0160" y="1533600"/>
              <a:ext cx="21207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ucle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e.g. at phase/gra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oundarie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34080" y="4905360"/>
              <a:ext cx="869760" cy="27612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255920" y="3300480"/>
            <a:ext cx="19368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8520" y="3038400"/>
            <a:ext cx="7251840" cy="2135160"/>
            <a:chOff x="128520" y="3038400"/>
            <a:chExt cx="7251840" cy="2135160"/>
          </a:xfrm>
        </p:grpSpPr>
        <p:sp>
          <p:nvSpPr>
            <p:cNvPr id="167" name=""/>
            <p:cNvSpPr/>
            <p:nvPr/>
          </p:nvSpPr>
          <p:spPr>
            <a:xfrm>
              <a:off x="6510240" y="4897080"/>
              <a:ext cx="870120" cy="27648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8520" y="3038400"/>
              <a:ext cx="1554120" cy="1554120"/>
            </a:xfrm>
            <a:prstGeom prst="ellipse">
              <a:avLst/>
            </a:prstGeom>
            <a:solidFill>
              <a:srgbClr val="000066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3560" y="3328920"/>
              <a:ext cx="435240" cy="37764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09800" y="3408120"/>
              <a:ext cx="463320" cy="53676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4920" y="3603240"/>
              <a:ext cx="434880" cy="59724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3560" y="3989160"/>
              <a:ext cx="331920" cy="39384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76680" y="3657240"/>
              <a:ext cx="200952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row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volume of par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hase disappear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233360" y="3220560"/>
              <a:ext cx="0" cy="290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820440" y="3692160"/>
              <a:ext cx="290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63600" y="3844800"/>
              <a:ext cx="0" cy="3189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336320" y="3686040"/>
              <a:ext cx="290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26720" y="3454560"/>
            <a:ext cx="6694920" cy="2336760"/>
            <a:chOff x="126720" y="3454560"/>
            <a:chExt cx="6694920" cy="2336760"/>
          </a:xfrm>
        </p:grpSpPr>
        <p:sp>
          <p:nvSpPr>
            <p:cNvPr id="179" name=""/>
            <p:cNvSpPr/>
            <p:nvPr/>
          </p:nvSpPr>
          <p:spPr>
            <a:xfrm>
              <a:off x="1316880" y="493884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y=1-exp (-kt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932200" y="3454560"/>
              <a:ext cx="3889440" cy="147960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6720" y="4965840"/>
              <a:ext cx="244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kinetics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Avrami equation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274040" y="6267600"/>
            <a:ext cx="7883280" cy="459720"/>
            <a:chOff x="1274040" y="6267600"/>
            <a:chExt cx="7883280" cy="459720"/>
          </a:xfrm>
        </p:grpSpPr>
        <p:sp>
          <p:nvSpPr>
            <p:cNvPr id="183" name=""/>
            <p:cNvSpPr/>
            <p:nvPr/>
          </p:nvSpPr>
          <p:spPr>
            <a:xfrm>
              <a:off x="1274040" y="6267600"/>
              <a:ext cx="22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=A exp (-Q/R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7160" y="6327720"/>
              <a:ext cx="560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rrhenius relationship: thermally activated process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27800" y="3513240"/>
            <a:ext cx="6780960" cy="2821320"/>
            <a:chOff x="127800" y="3513240"/>
            <a:chExt cx="6780960" cy="2821320"/>
          </a:xfrm>
        </p:grpSpPr>
        <p:sp>
          <p:nvSpPr>
            <p:cNvPr id="186" name=""/>
            <p:cNvSpPr/>
            <p:nvPr/>
          </p:nvSpPr>
          <p:spPr>
            <a:xfrm>
              <a:off x="127800" y="5873760"/>
              <a:ext cx="90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ate r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97440" y="5824440"/>
              <a:ext cx="999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=1/t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0.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18240" y="3513240"/>
              <a:ext cx="209052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08760" y="3513240"/>
              <a:ext cx="0" cy="13348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570120" y="0"/>
            <a:ext cx="5356440" cy="672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9600" y="696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arlite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ormation -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Isothermal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rans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691080" y="587520"/>
            <a:ext cx="5221080" cy="6137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87120" y="28116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ction of transformation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00440" y="711360"/>
            <a:ext cx="538200" cy="166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74600" y="25671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[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24680" y="2554200"/>
            <a:ext cx="59508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7160" y="2733840"/>
            <a:ext cx="190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erature [°C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03840" y="3919680"/>
            <a:ext cx="304560" cy="14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08000" y="63277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[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3320" y="2637000"/>
            <a:ext cx="7571880" cy="1801080"/>
            <a:chOff x="643320" y="2637000"/>
            <a:chExt cx="7571880" cy="1801080"/>
          </a:xfrm>
        </p:grpSpPr>
        <p:sp>
          <p:nvSpPr>
            <p:cNvPr id="201" name=""/>
            <p:cNvSpPr/>
            <p:nvPr/>
          </p:nvSpPr>
          <p:spPr>
            <a:xfrm>
              <a:off x="4614840" y="3529080"/>
              <a:ext cx="360036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2598840" y="2903400"/>
              <a:ext cx="1900080" cy="66672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3320" y="2637000"/>
              <a:ext cx="3058200" cy="18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quilibriu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ccording to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e-C phase diagr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even normal cooling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0-20K below equlilibrium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48360" y="2263680"/>
            <a:ext cx="6882840" cy="4046400"/>
            <a:chOff x="648360" y="2263680"/>
            <a:chExt cx="6882840" cy="4046400"/>
          </a:xfrm>
        </p:grpSpPr>
        <p:sp>
          <p:nvSpPr>
            <p:cNvPr id="205" name=""/>
            <p:cNvSpPr/>
            <p:nvPr/>
          </p:nvSpPr>
          <p:spPr>
            <a:xfrm>
              <a:off x="4543560" y="2263680"/>
              <a:ext cx="1233360" cy="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62520" y="3846600"/>
              <a:ext cx="1073160" cy="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40160" y="3279600"/>
              <a:ext cx="522360" cy="58104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19840" y="3860640"/>
              <a:ext cx="711360" cy="92880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2481120" y="3976560"/>
              <a:ext cx="3454560" cy="770040"/>
            </a:xfrm>
            <a:prstGeom prst="line">
              <a:avLst/>
            </a:prstGeom>
            <a:ln w="284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8360" y="4753080"/>
              <a:ext cx="2972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apid cooling to 675°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sothermal pearl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orm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62040" y="610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8160" y="5946840"/>
            <a:ext cx="54079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isothermal transformation diagram /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ime temperature transformation: TTT p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02200" y="3579840"/>
            <a:ext cx="1351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en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39440" y="4602240"/>
            <a:ext cx="1114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r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11800" y="4064040"/>
            <a:ext cx="581040" cy="24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852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Alteration in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icrostructure</a:t>
            </a:r>
            <a:br>
              <a:rPr sz="36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ontinuous cooling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transformation (CCT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368520" y="479520"/>
            <a:ext cx="5567400" cy="624528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733320" y="2066760"/>
            <a:ext cx="6683040" cy="3283200"/>
            <a:chOff x="733320" y="2066760"/>
            <a:chExt cx="6683040" cy="328320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733320" y="2066760"/>
              <a:ext cx="2046240" cy="32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 flipH="1">
              <a:off x="2785680" y="3903840"/>
              <a:ext cx="4630680" cy="158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5120" y="3708360"/>
              <a:ext cx="2036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arse pearl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73680" y="3406680"/>
              <a:ext cx="1748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low coo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830160" y="5038560"/>
            <a:ext cx="5621040" cy="1067760"/>
            <a:chOff x="830160" y="5038560"/>
            <a:chExt cx="5621040" cy="1067760"/>
          </a:xfrm>
        </p:grpSpPr>
        <p:sp>
          <p:nvSpPr>
            <p:cNvPr id="224" name=""/>
            <p:cNvSpPr/>
            <p:nvPr/>
          </p:nvSpPr>
          <p:spPr>
            <a:xfrm flipH="1">
              <a:off x="2881080" y="5492880"/>
              <a:ext cx="3570120" cy="3650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30160" y="5646600"/>
              <a:ext cx="2036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e pearl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82040" y="5038560"/>
              <a:ext cx="1614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st cool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396120" y="67788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1960" y="6267600"/>
            <a:ext cx="4485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lower T =&gt; shorter diffusion path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60600" y="1533600"/>
            <a:ext cx="1351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en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63320" y="1976400"/>
            <a:ext cx="1114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r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Bainite 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862520" y="1247760"/>
            <a:ext cx="4281480" cy="47530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765760" y="2670120"/>
            <a:ext cx="1828800" cy="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91840" y="20844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r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41440" y="283212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in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31040" y="1620720"/>
            <a:ext cx="6941160" cy="1465200"/>
            <a:chOff x="131040" y="1620720"/>
            <a:chExt cx="6941160" cy="1465200"/>
          </a:xfrm>
        </p:grpSpPr>
        <p:sp>
          <p:nvSpPr>
            <p:cNvPr id="237" name=""/>
            <p:cNvSpPr/>
            <p:nvPr/>
          </p:nvSpPr>
          <p:spPr>
            <a:xfrm>
              <a:off x="5576760" y="1944720"/>
              <a:ext cx="231840" cy="52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08600" y="245268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37400" y="2438280"/>
              <a:ext cx="334800" cy="36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1040" y="1620720"/>
              <a:ext cx="467352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earlite formation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increasing thermodynamic driving forc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faster reaction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coarse =&gt; fine pearlit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75320" y="2692440"/>
            <a:ext cx="7151040" cy="2130480"/>
            <a:chOff x="175320" y="2692440"/>
            <a:chExt cx="7151040" cy="2130480"/>
          </a:xfrm>
        </p:grpSpPr>
        <p:sp>
          <p:nvSpPr>
            <p:cNvPr id="242" name=""/>
            <p:cNvSpPr/>
            <p:nvPr/>
          </p:nvSpPr>
          <p:spPr>
            <a:xfrm>
              <a:off x="5584680" y="2692440"/>
              <a:ext cx="231840" cy="52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16520" y="3200400"/>
              <a:ext cx="111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64200" y="3198960"/>
              <a:ext cx="362160" cy="39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5320" y="3311640"/>
              <a:ext cx="39160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ainite formation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lower T: decreasing C diffusivity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very fine Fe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C needles in </a:t>
              </a:r>
              <a:r>
                <a:rPr b="0" lang="en-US" sz="2200" spc="-1" strike="noStrike">
                  <a:solidFill>
                    <a:srgbClr val="ffffff"/>
                  </a:solidFill>
                  <a:latin typeface="SymbolPS"/>
                  <a:ea typeface="SymbolPS"/>
                </a:rPr>
                <a:t></a:t>
              </a: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 ferrit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artensite 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862520" y="1247760"/>
            <a:ext cx="4281480" cy="47530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389560" y="4338720"/>
            <a:ext cx="1655640" cy="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91840" y="20844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rl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41440" y="283212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in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00800" y="1698480"/>
            <a:ext cx="623880" cy="301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4560" y="1677960"/>
            <a:ext cx="4082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fast cooling to 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no intersection wi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formation “ nose“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diffusion becomes extreme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ow -&gt; negligible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48600" y="2517840"/>
            <a:ext cx="1712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bcc </a:t>
            </a:r>
            <a:r>
              <a:rPr b="0" lang="en-US" sz="2400" spc="-1" strike="noStrike">
                <a:solidFill>
                  <a:srgbClr val="ff0033"/>
                </a:solidFill>
                <a:latin typeface="SymbolPS"/>
                <a:ea typeface="SymbolPS"/>
              </a:rPr>
              <a:t>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+ Fe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62440" y="1625760"/>
            <a:ext cx="74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cc </a:t>
            </a:r>
            <a:r>
              <a:rPr b="0" lang="en-US" sz="2400" spc="-1" strike="noStrike">
                <a:solidFill>
                  <a:srgbClr val="ff0033"/>
                </a:solidFill>
                <a:latin typeface="SymbolPS"/>
                <a:ea typeface="SymbolPS"/>
              </a:rPr>
              <a:t>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2040" y="4492800"/>
            <a:ext cx="447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modynamic driving force f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cc=&gt; bcc transformation in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20600" y="4178160"/>
            <a:ext cx="6019920" cy="2407320"/>
            <a:chOff x="120600" y="4178160"/>
            <a:chExt cx="6019920" cy="2407320"/>
          </a:xfrm>
        </p:grpSpPr>
        <p:sp>
          <p:nvSpPr>
            <p:cNvPr id="257" name=""/>
            <p:cNvSpPr/>
            <p:nvPr/>
          </p:nvSpPr>
          <p:spPr>
            <a:xfrm>
              <a:off x="120600" y="5394240"/>
              <a:ext cx="463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cc turns in bct martensite latt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lmost instantaneously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=&gt; C remains dissolved interstiti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65920" y="4178160"/>
              <a:ext cx="174600" cy="21780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309920" y="4325760"/>
              <a:ext cx="1727280" cy="12909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0:40:19Z</dcterms:created>
  <dc:creator>Student</dc:creator>
  <dc:description/>
  <dc:language>en-US</dc:language>
  <cp:lastModifiedBy>gk481</cp:lastModifiedBy>
  <dcterms:modified xsi:type="dcterms:W3CDTF">2006-12-11T06:32:55Z</dcterms:modified>
  <cp:revision>87</cp:revision>
  <dc:subject/>
  <dc:title>Rasterelektronenmikroskopie</dc:title>
</cp:coreProperties>
</file>