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4.jpeg" ContentType="image/jpeg"/>
  <Override PartName="/ppt/media/image2.png" ContentType="image/png"/>
  <Override PartName="/ppt/media/image20.wmf" ContentType="image/x-wmf"/>
  <Override PartName="/ppt/media/image5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2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9.png" ContentType="image/png"/>
  <Override PartName="/ppt/media/image22.jpeg" ContentType="image/jpeg"/>
  <Override PartName="/ppt/media/image23.png" ContentType="image/png"/>
  <Override PartName="/ppt/media/image27.png" ContentType="image/png"/>
  <Override PartName="/ppt/media/image2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39E-48B1-46A6-9CF8-06CCE262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945-5AB7-432E-B50A-5642CB62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98B-AFEE-4E32-B55D-19F11C8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6B7-3D8E-4D42-B005-BE4B7E07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E5B3-1311-46A5-8231-CC597F83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CF9-F3B5-448C-9F7F-7B4842F5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D8DB-586A-4508-BFD8-DE8DBD6C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F16A-D535-4B6A-ABAA-28CC7FC8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02C8-E4B8-4949-865A-4447926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5A89-BCE1-4846-8AA0-2A30251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3645-F5FC-4920-97ED-574C56C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FFA-D556-43A6-A8C1-31D6437E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7F5E-F54A-472F-A80B-3580BDB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38EC-FCF8-4369-9892-41EA617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77C3-A7B6-4EF4-9895-0F72F55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F27C-E192-4F60-901D-028309B6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B14-9AD2-400A-AFE8-E8A7D5CC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927-1D5E-4320-9864-CD10FE84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597F-6C4A-4CE1-B544-3EB08E3F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75C-6E1C-406D-B24A-5CBA7BA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8B3-78BD-488D-B31E-2B6A804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78C-896D-421E-A111-16425AA9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6CB-B6F5-4D81-9C43-BA4B9EC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253-E47E-49BA-A76A-E4614E9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0CF2-C6AB-4A88-9295-CD1A3CC66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03D6-BC6C-41F3-BBB1-6966533BD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3884"/>
          <a:stretch/>
        </p:blipFill>
        <p:spPr>
          <a:xfrm>
            <a:off x="652320" y="568440"/>
            <a:ext cx="7878960" cy="5835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81400" y="658800"/>
            <a:ext cx="5254560" cy="764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uctural Materi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luminum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07040" y="1166760"/>
            <a:ext cx="3936960" cy="2949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4680" y="1550880"/>
            <a:ext cx="457020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density (2.7g/cm³) f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660°C (technical limit!!), E=70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osion resistant/conductive/form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-tretable: e.g. MgZ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arti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t limited weld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735440" y="3913200"/>
            <a:ext cx="3908520" cy="2531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44704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omotive bodies/aircraft structures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rniture/wheel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gnesium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680" y="1550880"/>
            <a:ext cx="419256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y low density (1.7g/cm³) hc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651°C, E=45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ceptible to corro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ly ca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AZ91, Mg-Li alloy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gear boxes, steering wheels, hand-held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89520" y="1459080"/>
            <a:ext cx="3590640" cy="2438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30680" y="3556080"/>
            <a:ext cx="4056120" cy="2709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itanium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26200" y="2097000"/>
            <a:ext cx="3817800" cy="2814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74680" y="1550880"/>
            <a:ext cx="51228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density (4.5g/cm³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cp above 880°C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670°C, E=107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osion resistant (up to approx. 600°C)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iocompa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 treatable -&gt;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two phase micro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9520" y="3905280"/>
            <a:ext cx="6271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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-6Al-4V: implants, structural air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a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-8Al-1Mo: compressor dis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-10V-2Fe-3Al: high strength applications: e.g. spring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ing gear, rotor hea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989440" y="2104920"/>
            <a:ext cx="4993920" cy="3134880"/>
            <a:chOff x="2989440" y="2104920"/>
            <a:chExt cx="4993920" cy="3134880"/>
          </a:xfrm>
        </p:grpSpPr>
        <p:sp>
          <p:nvSpPr>
            <p:cNvPr id="213" name=""/>
            <p:cNvSpPr/>
            <p:nvPr/>
          </p:nvSpPr>
          <p:spPr>
            <a:xfrm flipV="1">
              <a:off x="5864400" y="3352320"/>
              <a:ext cx="2118960" cy="188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9440" y="2104920"/>
              <a:ext cx="4978080" cy="123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pper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145200" y="1241280"/>
            <a:ext cx="2541600" cy="4994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74680" y="1550880"/>
            <a:ext cx="580392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density (8.2g/cm³) f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83°C, E=130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osion resistant, cond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-treatable (high strength CuBe alloys, 1...2.5% B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ass (e.g. Cu-37%Z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onze (e.g. Cu-30%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water pipes, roofs, electric/electronic devices/nuts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ller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ickel-Alloys - Super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429160" y="1422360"/>
          <a:ext cx="37148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9160" y="1422360"/>
                    <a:ext cx="37148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31840" y="1550880"/>
            <a:ext cx="58039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density (8.9g/cm³) f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453°C, E=210G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osion resistant (up to very high temperatures)/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oy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sed on Ni-20Cr-5Al: superalloy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cipitation strengthened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N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ep resi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lso: Fe-based and Co-based superalloy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" y="4911840"/>
            <a:ext cx="443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trochemical industry, heating element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 production – gas turb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tal Fabri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65080" y="1814400"/>
            <a:ext cx="6892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orming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g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trus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aw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a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stme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iscellane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wder metallur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l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62160" y="5892840"/>
            <a:ext cx="6894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17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tal form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76200" y="1266840"/>
            <a:ext cx="6894720" cy="4757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1440" y="3303720"/>
            <a:ext cx="1080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or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05200" y="3311640"/>
            <a:ext cx="996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o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46240" y="6211800"/>
            <a:ext cx="7367760" cy="398880"/>
            <a:chOff x="1146240" y="6211800"/>
            <a:chExt cx="7367760" cy="398880"/>
          </a:xfrm>
        </p:grpSpPr>
        <p:sp>
          <p:nvSpPr>
            <p:cNvPr id="231" name=""/>
            <p:cNvSpPr/>
            <p:nvPr/>
          </p:nvSpPr>
          <p:spPr>
            <a:xfrm>
              <a:off x="2476440" y="6211800"/>
              <a:ext cx="603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eat treatment: normalizing, hardening, recrystallization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46240" y="6413400"/>
              <a:ext cx="13208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71840" y="5691240"/>
            <a:ext cx="131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xtr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57400" y="5699160"/>
            <a:ext cx="118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raw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017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eat treat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5080" y="1814400"/>
            <a:ext cx="68929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nn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cess annea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ss reli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nnealing of ferrous all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rmaliz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 anne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heroidiz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arden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Jominy End-Quench Te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66"/>
                </a:solidFill>
                <a:latin typeface="Arial"/>
              </a:rPr>
              <a:t>Reminder: Iron-Carbon Phase Diagr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30440" y="1471680"/>
            <a:ext cx="60577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8520" y="318600"/>
            <a:ext cx="312912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Alteration in </a:t>
            </a:r>
            <a:br>
              <a:rPr sz="2400"/>
            </a:b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Microstructure</a:t>
            </a:r>
            <a:br>
              <a:rPr sz="2400"/>
            </a:br>
            <a:br>
              <a:rPr sz="1200"/>
            </a:br>
            <a:br>
              <a:rPr sz="1200"/>
            </a:b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continuous cooling </a:t>
            </a:r>
            <a:br>
              <a:rPr sz="2400"/>
            </a:b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transformation (CCT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368520" y="479520"/>
            <a:ext cx="5567400" cy="6245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396120" y="677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0600" y="1533600"/>
            <a:ext cx="135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te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63320" y="1976400"/>
            <a:ext cx="111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Iron-Carbon Phase Diagr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890720" y="1217520"/>
            <a:ext cx="7253280" cy="540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34760" y="1947960"/>
            <a:ext cx="205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eutectic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085840" y="2903400"/>
            <a:ext cx="5785560" cy="2641680"/>
            <a:chOff x="2085840" y="2903400"/>
            <a:chExt cx="5785560" cy="2641680"/>
          </a:xfrm>
        </p:grpSpPr>
        <p:sp>
          <p:nvSpPr>
            <p:cNvPr id="91" name=""/>
            <p:cNvSpPr/>
            <p:nvPr/>
          </p:nvSpPr>
          <p:spPr>
            <a:xfrm>
              <a:off x="2085840" y="2903400"/>
              <a:ext cx="3003480" cy="2641680"/>
            </a:xfrm>
            <a:prstGeom prst="ellipse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21800" y="3936960"/>
              <a:ext cx="26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66"/>
                  </a:solidFill>
                  <a:latin typeface="Times New Roman"/>
                </a:rPr>
                <a:t>eutectoid sub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39920" y="1289160"/>
            <a:ext cx="6280200" cy="4944960"/>
            <a:chOff x="2239920" y="1289160"/>
            <a:chExt cx="6280200" cy="4944960"/>
          </a:xfrm>
        </p:grpSpPr>
        <p:grpSp>
          <p:nvGrpSpPr>
            <p:cNvPr id="94" name=""/>
            <p:cNvGrpSpPr/>
            <p:nvPr/>
          </p:nvGrpSpPr>
          <p:grpSpPr>
            <a:xfrm>
              <a:off x="2239920" y="1289160"/>
              <a:ext cx="6280200" cy="4944960"/>
              <a:chOff x="2239920" y="1289160"/>
              <a:chExt cx="6280200" cy="4944960"/>
            </a:xfrm>
          </p:grpSpPr>
          <p:sp>
            <p:nvSpPr>
              <p:cNvPr id="95" name=""/>
              <p:cNvSpPr/>
              <p:nvPr/>
            </p:nvSpPr>
            <p:spPr>
              <a:xfrm>
                <a:off x="2239920" y="1289160"/>
                <a:ext cx="2060640" cy="1566720"/>
              </a:xfrm>
              <a:prstGeom prst="ellipse">
                <a:avLst/>
              </a:prstGeom>
              <a:noFill/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5000" y="1762200"/>
                <a:ext cx="26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peritectic subsyste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7" name=""/>
              <p:cNvGraphicFramePr/>
              <p:nvPr/>
            </p:nvGraphicFramePr>
            <p:xfrm>
              <a:off x="4870440" y="2351160"/>
              <a:ext cx="3649680" cy="3882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870440" y="2351160"/>
                        <a:ext cx="3649680" cy="388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9" name=""/>
            <p:cNvSpPr/>
            <p:nvPr/>
          </p:nvSpPr>
          <p:spPr>
            <a:xfrm flipH="1" flipV="1">
              <a:off x="6404040" y="3365280"/>
              <a:ext cx="1440" cy="14223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46520" y="19494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c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r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0" y="354636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cc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uste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040" y="53103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c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er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8480" y="2220840"/>
            <a:ext cx="11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51120" y="3811680"/>
            <a:ext cx="12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4400" y="556092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47000" y="6176880"/>
            <a:ext cx="204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mentite F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6280" y="1741320"/>
            <a:ext cx="1784160" cy="4866840"/>
            <a:chOff x="2816280" y="1741320"/>
            <a:chExt cx="1784160" cy="4866840"/>
          </a:xfrm>
        </p:grpSpPr>
        <p:sp>
          <p:nvSpPr>
            <p:cNvPr id="108" name=""/>
            <p:cNvSpPr/>
            <p:nvPr/>
          </p:nvSpPr>
          <p:spPr>
            <a:xfrm>
              <a:off x="2816280" y="1741320"/>
              <a:ext cx="1784160" cy="4413240"/>
            </a:xfrm>
            <a:prstGeom prst="rect">
              <a:avLst/>
            </a:prstGeom>
            <a:solidFill>
              <a:srgbClr val="33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1880" y="61484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Ste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622760" y="1749600"/>
            <a:ext cx="3816360" cy="4880880"/>
            <a:chOff x="4622760" y="1749600"/>
            <a:chExt cx="3816360" cy="4880880"/>
          </a:xfrm>
        </p:grpSpPr>
        <p:sp>
          <p:nvSpPr>
            <p:cNvPr id="111" name=""/>
            <p:cNvSpPr/>
            <p:nvPr/>
          </p:nvSpPr>
          <p:spPr>
            <a:xfrm>
              <a:off x="4622760" y="1749600"/>
              <a:ext cx="3816360" cy="44132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97960" y="6170760"/>
              <a:ext cx="130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Cast Ir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cipitation Heat Treat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8840" y="1789200"/>
            <a:ext cx="5832360" cy="3890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V="1">
            <a:off x="1116000" y="3235320"/>
            <a:ext cx="1440" cy="156384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255680" y="3241800"/>
            <a:ext cx="0" cy="1549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25520" y="416088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cooling =&gt; supersatu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 in solid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53200" y="2443320"/>
            <a:ext cx="1440" cy="2752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54640" y="5151600"/>
            <a:ext cx="2889360" cy="7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254640" y="2913120"/>
            <a:ext cx="378000" cy="22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32640" y="2913120"/>
            <a:ext cx="39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67520" y="2935440"/>
            <a:ext cx="108000" cy="219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216920" y="4116240"/>
            <a:ext cx="250560" cy="103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46960" y="4138560"/>
            <a:ext cx="938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64600" y="4162320"/>
            <a:ext cx="187200" cy="966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94320" y="2192400"/>
            <a:ext cx="23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 treta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93040" y="366552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6400" y="291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eram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eram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2160" y="138924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organic – non-metallic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818240" y="1117440"/>
            <a:ext cx="2724120" cy="1313640"/>
            <a:chOff x="4818240" y="1117440"/>
            <a:chExt cx="2724120" cy="1313640"/>
          </a:xfrm>
        </p:grpSpPr>
        <p:sp>
          <p:nvSpPr>
            <p:cNvPr id="264" name=""/>
            <p:cNvSpPr/>
            <p:nvPr/>
          </p:nvSpPr>
          <p:spPr>
            <a:xfrm>
              <a:off x="5360760" y="1117440"/>
              <a:ext cx="2181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hina/dish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emente/concre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unctional ceramic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uctural ceramic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818240" y="1363680"/>
              <a:ext cx="537840" cy="26208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838760" y="1646280"/>
              <a:ext cx="479520" cy="144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30840" y="1625760"/>
              <a:ext cx="495360" cy="27432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36960" y="1633680"/>
              <a:ext cx="495360" cy="60804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87560" y="4911840"/>
            <a:ext cx="576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depending on a) electrical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) atomic radii (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77120" y="2728800"/>
            <a:ext cx="8247600" cy="1596960"/>
            <a:chOff x="177120" y="2728800"/>
            <a:chExt cx="8247600" cy="1596960"/>
          </a:xfrm>
        </p:grpSpPr>
        <p:sp>
          <p:nvSpPr>
            <p:cNvPr id="271" name=""/>
            <p:cNvSpPr/>
            <p:nvPr/>
          </p:nvSpPr>
          <p:spPr>
            <a:xfrm>
              <a:off x="5587920" y="3454560"/>
              <a:ext cx="857160" cy="871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120" y="2779560"/>
              <a:ext cx="550728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onic – covalent bonding of at least 2 ato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.g. A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: 63% ionic, SiC: 12% ioni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2920" y="3054240"/>
              <a:ext cx="1261800" cy="12351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39040" y="3479760"/>
              <a:ext cx="80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431120" y="3297240"/>
              <a:ext cx="74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38720" y="3076560"/>
              <a:ext cx="1060560" cy="304920"/>
            </a:xfrm>
            <a:custGeom>
              <a:avLst/>
              <a:gdLst/>
              <a:ahLst/>
              <a:rect l="l" t="t" r="r" b="b"/>
              <a:pathLst>
                <a:path w="668" h="228">
                  <a:moveTo>
                    <a:pt x="0" y="228"/>
                  </a:moveTo>
                  <a:cubicBezTo>
                    <a:pt x="155" y="132"/>
                    <a:pt x="310" y="36"/>
                    <a:pt x="421" y="18"/>
                  </a:cubicBezTo>
                  <a:cubicBezTo>
                    <a:pt x="532" y="0"/>
                    <a:pt x="600" y="59"/>
                    <a:pt x="668" y="119"/>
                  </a:cubicBezTo>
                </a:path>
              </a:pathLst>
            </a:custGeom>
            <a:noFill/>
            <a:ln w="381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74920" y="2728800"/>
              <a:ext cx="109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80040" y="4905360"/>
            <a:ext cx="1849680" cy="1770120"/>
            <a:chOff x="6080040" y="4905360"/>
            <a:chExt cx="1849680" cy="1770120"/>
          </a:xfrm>
        </p:grpSpPr>
        <p:sp>
          <p:nvSpPr>
            <p:cNvPr id="279" name=""/>
            <p:cNvSpPr/>
            <p:nvPr/>
          </p:nvSpPr>
          <p:spPr>
            <a:xfrm>
              <a:off x="6110280" y="4911840"/>
              <a:ext cx="912960" cy="8776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16760" y="4905360"/>
              <a:ext cx="912960" cy="87804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0040" y="5797440"/>
              <a:ext cx="912960" cy="87804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16760" y="5789520"/>
              <a:ext cx="912960" cy="87804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43600" y="5638680"/>
              <a:ext cx="320760" cy="32076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41920" y="606096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– cations are in contact with surrounded a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891040" y="4842000"/>
            <a:ext cx="2481120" cy="2016000"/>
            <a:chOff x="5891040" y="4842000"/>
            <a:chExt cx="2481120" cy="2016000"/>
          </a:xfrm>
        </p:grpSpPr>
        <p:sp>
          <p:nvSpPr>
            <p:cNvPr id="286" name=""/>
            <p:cNvSpPr/>
            <p:nvPr/>
          </p:nvSpPr>
          <p:spPr>
            <a:xfrm>
              <a:off x="5891040" y="4842000"/>
              <a:ext cx="2481120" cy="20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129000" y="4871880"/>
              <a:ext cx="2139480" cy="1931400"/>
              <a:chOff x="6129000" y="4871880"/>
              <a:chExt cx="2139480" cy="1931400"/>
            </a:xfrm>
          </p:grpSpPr>
          <p:sp>
            <p:nvSpPr>
              <p:cNvPr id="288" name=""/>
              <p:cNvSpPr/>
              <p:nvPr/>
            </p:nvSpPr>
            <p:spPr>
              <a:xfrm>
                <a:off x="6130440" y="4881240"/>
                <a:ext cx="925200" cy="87732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43280" y="4871880"/>
                <a:ext cx="925200" cy="8776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29000" y="5925600"/>
                <a:ext cx="924840" cy="8776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98640" y="5920920"/>
                <a:ext cx="924840" cy="87768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85280" y="5465160"/>
                <a:ext cx="781560" cy="6840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ructure of Ceram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720" y="2448000"/>
            <a:ext cx="8771400" cy="2233440"/>
            <a:chOff x="18720" y="2448000"/>
            <a:chExt cx="8771400" cy="2233440"/>
          </a:xfrm>
        </p:grpSpPr>
        <p:sp>
          <p:nvSpPr>
            <p:cNvPr id="295" name=""/>
            <p:cNvSpPr/>
            <p:nvPr/>
          </p:nvSpPr>
          <p:spPr>
            <a:xfrm>
              <a:off x="18720" y="3295800"/>
              <a:ext cx="400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ordination number 6      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408560" y="2448000"/>
              <a:ext cx="4381560" cy="22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375680" y="3340080"/>
              <a:ext cx="331560" cy="33192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6760" y="909720"/>
            <a:ext cx="8703360" cy="1684080"/>
            <a:chOff x="86760" y="909720"/>
            <a:chExt cx="8703360" cy="1684080"/>
          </a:xfrm>
        </p:grpSpPr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4419720" y="909720"/>
              <a:ext cx="437040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6760" y="1459080"/>
              <a:ext cx="400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ordination number 4      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99520" y="1432080"/>
              <a:ext cx="288720" cy="31752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8720" y="4433760"/>
            <a:ext cx="8782560" cy="2424240"/>
            <a:chOff x="18720" y="4433760"/>
            <a:chExt cx="8782560" cy="2424240"/>
          </a:xfrm>
        </p:grpSpPr>
        <p:sp>
          <p:nvSpPr>
            <p:cNvPr id="303" name=""/>
            <p:cNvSpPr/>
            <p:nvPr/>
          </p:nvSpPr>
          <p:spPr>
            <a:xfrm>
              <a:off x="18720" y="5437080"/>
              <a:ext cx="400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ordination number 8      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r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4416480" y="4433760"/>
              <a:ext cx="4384800" cy="24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289640" y="5299200"/>
              <a:ext cx="736920" cy="70776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6280" y="3905280"/>
            <a:ext cx="3765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: A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0.053nm, 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0.140n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X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5520" y="189396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Na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857240" y="1919160"/>
            <a:ext cx="3235320" cy="382428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2016000" y="1996920"/>
            <a:ext cx="6722640" cy="2770200"/>
            <a:chOff x="2016000" y="1996920"/>
            <a:chExt cx="6722640" cy="2770200"/>
          </a:xfrm>
        </p:grpSpPr>
        <p:grpSp>
          <p:nvGrpSpPr>
            <p:cNvPr id="311" name=""/>
            <p:cNvGrpSpPr/>
            <p:nvPr/>
          </p:nvGrpSpPr>
          <p:grpSpPr>
            <a:xfrm>
              <a:off x="2016000" y="2381040"/>
              <a:ext cx="2330640" cy="2386080"/>
              <a:chOff x="2016000" y="2381040"/>
              <a:chExt cx="2330640" cy="2386080"/>
            </a:xfrm>
          </p:grpSpPr>
          <p:sp>
            <p:nvSpPr>
              <p:cNvPr id="312" name=""/>
              <p:cNvSpPr/>
              <p:nvPr/>
            </p:nvSpPr>
            <p:spPr>
              <a:xfrm>
                <a:off x="2192400" y="2568600"/>
                <a:ext cx="0" cy="19890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4173480" y="2604960"/>
                <a:ext cx="14400" cy="19890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2251080" y="4571640"/>
                <a:ext cx="1928880" cy="1404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228760" y="2560680"/>
                <a:ext cx="1943280" cy="1404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030400" y="2381040"/>
                <a:ext cx="349200" cy="33336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97440" y="2417760"/>
                <a:ext cx="349200" cy="33336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16000" y="4427280"/>
                <a:ext cx="349200" cy="33336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83040" y="4433760"/>
                <a:ext cx="349200" cy="33336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33720" y="3409920"/>
                <a:ext cx="349200" cy="33336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756760" y="1996920"/>
              <a:ext cx="29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cc anionic (Cl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latt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025800" y="2389320"/>
            <a:ext cx="5884560" cy="2385360"/>
            <a:chOff x="3025800" y="2389320"/>
            <a:chExt cx="5884560" cy="2385360"/>
          </a:xfrm>
        </p:grpSpPr>
        <p:grpSp>
          <p:nvGrpSpPr>
            <p:cNvPr id="323" name=""/>
            <p:cNvGrpSpPr/>
            <p:nvPr/>
          </p:nvGrpSpPr>
          <p:grpSpPr>
            <a:xfrm>
              <a:off x="3025800" y="2389320"/>
              <a:ext cx="2329920" cy="2385360"/>
              <a:chOff x="3025800" y="2389320"/>
              <a:chExt cx="2329920" cy="2385360"/>
            </a:xfrm>
          </p:grpSpPr>
          <p:sp>
            <p:nvSpPr>
              <p:cNvPr id="324" name=""/>
              <p:cNvSpPr/>
              <p:nvPr/>
            </p:nvSpPr>
            <p:spPr>
              <a:xfrm>
                <a:off x="3201840" y="2576160"/>
                <a:ext cx="0" cy="19890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182560" y="2612880"/>
                <a:ext cx="14040" cy="198864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260520" y="4593960"/>
                <a:ext cx="192852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38200" y="2568240"/>
                <a:ext cx="198576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039840" y="2389320"/>
                <a:ext cx="348840" cy="33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06880" y="2425680"/>
                <a:ext cx="348840" cy="33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5800" y="4435200"/>
                <a:ext cx="349200" cy="33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992480" y="4441680"/>
                <a:ext cx="348840" cy="33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043160" y="3417840"/>
                <a:ext cx="348840" cy="33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3160" y="2641680"/>
              <a:ext cx="31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cc cationic (N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 latt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024520" y="5465880"/>
            <a:ext cx="412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interpenetrating fcc latti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MgO, MnS, F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ordination number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8960" y="2212920"/>
            <a:ext cx="1293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Ca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0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rd.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952640" y="1876320"/>
            <a:ext cx="3670200" cy="3864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769000" y="2259000"/>
            <a:ext cx="317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nter cube po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half-fi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sCl completely-fill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87600" y="5896080"/>
            <a:ext cx="3948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Structur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48040" y="6016680"/>
            <a:ext cx="161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BaT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errous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43400" y="1974960"/>
            <a:ext cx="7256160" cy="861840"/>
            <a:chOff x="1643400" y="1974960"/>
            <a:chExt cx="7256160" cy="861840"/>
          </a:xfrm>
        </p:grpSpPr>
        <p:sp>
          <p:nvSpPr>
            <p:cNvPr id="115" name=""/>
            <p:cNvSpPr/>
            <p:nvPr/>
          </p:nvSpPr>
          <p:spPr>
            <a:xfrm>
              <a:off x="1643400" y="2011320"/>
              <a:ext cx="3231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te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&lt; 2%C – technically &lt;1%C)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1720" y="1974960"/>
              <a:ext cx="3417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st Ir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&gt; 2%C – technically 2.5-4%C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229760" y="31780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all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75400" y="324468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all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520" y="3992400"/>
            <a:ext cx="120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&lt;0.25%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9920" y="399240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um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1440" y="39639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1760" y="5038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" y="5189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800" y="5189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52920" y="51894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8680" y="5189400"/>
            <a:ext cx="10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a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9960" y="49118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5720" y="4911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57680" y="491184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in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36960" y="49118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-resi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70040" y="3569760"/>
            <a:ext cx="652320" cy="420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3160" y="3541680"/>
            <a:ext cx="436680" cy="4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79160" y="4618080"/>
            <a:ext cx="14436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5720" y="4618080"/>
            <a:ext cx="1602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147400" y="4675320"/>
            <a:ext cx="17460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4632480"/>
            <a:ext cx="246240" cy="556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71680" y="4397400"/>
            <a:ext cx="174600" cy="51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4354560"/>
            <a:ext cx="246240" cy="5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94000" y="3456000"/>
            <a:ext cx="1814400" cy="49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051520" y="3716280"/>
            <a:ext cx="1103040" cy="119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4560" y="3730680"/>
            <a:ext cx="0" cy="118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4560" y="3716280"/>
            <a:ext cx="1016280" cy="119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14400" y="2786040"/>
            <a:ext cx="217440" cy="39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03400" y="2786040"/>
            <a:ext cx="4281480" cy="479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800" y="1305000"/>
            <a:ext cx="9013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=&gt; economical production process (natural resources, extraction, alloying, fabr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=&gt; extremely versatile – wide range of physical/mechanical properties pos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76520" y="4317840"/>
            <a:ext cx="5079960" cy="25401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ow-Carbon Stee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06960" y="1284120"/>
            <a:ext cx="4665600" cy="3071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440" y="1330200"/>
            <a:ext cx="43243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atest quant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0.25% ferritic-pearlitic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75M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ngthening only by col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ctile=&gt; machinable, weld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6480" y="3346560"/>
            <a:ext cx="275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omobile 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uctural sha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construction be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960" y="4911840"/>
            <a:ext cx="340992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-strength low-allo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alloying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10%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80M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critical struct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olted, low temperatures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dium (High) Carbon Stee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59160" y="1852560"/>
            <a:ext cx="5553000" cy="4256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40680" y="1373040"/>
            <a:ext cx="77886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0.25...0.6% (, suitable for heat treatment hardening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0-2000M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ngthening 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austenitizing (normaliz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quenching (often surfa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temp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y addition of Cr, Ni, M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7200" y="3540240"/>
            <a:ext cx="3021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ilway wheels, gears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 steel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tting tools, springs, wire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6520" y="5095800"/>
            <a:ext cx="2911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 core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/wear resistant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30680" y="2511360"/>
            <a:ext cx="1712880" cy="85572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igh-Alloy Stee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56200" y="4035600"/>
            <a:ext cx="1865520" cy="2633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67360" y="1238400"/>
            <a:ext cx="2276640" cy="3322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1351080"/>
            <a:ext cx="619452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gt;11% =&gt; corrosion resi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artensi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tlery (surgery knifes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austeni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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cc at RT by adding N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ical, food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uctio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ferri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ery) high temperatures (Cr up to 25%), automotive exha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s catalytic converter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-3 strengthening only by col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precipitation harde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ast Ir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117440"/>
            <a:ext cx="37339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gt;2.14%, typical 3...4.5%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liquidus betw. 1150...1300°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&gt; fluidity at casting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Fe – C system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19320" y="1306440"/>
            <a:ext cx="30909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48760" y="2523960"/>
            <a:ext cx="6660000" cy="4334040"/>
            <a:chOff x="248760" y="2523960"/>
            <a:chExt cx="6660000" cy="4334040"/>
          </a:xfrm>
        </p:grpSpPr>
        <p:grpSp>
          <p:nvGrpSpPr>
            <p:cNvPr id="167" name=""/>
            <p:cNvGrpSpPr/>
            <p:nvPr/>
          </p:nvGrpSpPr>
          <p:grpSpPr>
            <a:xfrm>
              <a:off x="248760" y="2523960"/>
              <a:ext cx="3177000" cy="4334040"/>
              <a:chOff x="248760" y="2523960"/>
              <a:chExt cx="3177000" cy="4334040"/>
            </a:xfrm>
          </p:grpSpPr>
          <p:sp>
            <p:nvSpPr>
              <p:cNvPr id="168" name=""/>
              <p:cNvSpPr/>
              <p:nvPr/>
            </p:nvSpPr>
            <p:spPr>
              <a:xfrm>
                <a:off x="248760" y="2523960"/>
                <a:ext cx="2858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gray cast iron (slow cool)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rrite + graphite flak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3600" y="3271680"/>
                <a:ext cx="3062160" cy="3586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008760" y="2989440"/>
              <a:ext cx="900000" cy="900000"/>
            </a:xfrm>
            <a:prstGeom prst="ellipse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27680" y="3497400"/>
            <a:ext cx="2404080" cy="16185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eak/brit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damping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ear resi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low casting shrink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cheap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560" y="3470400"/>
            <a:ext cx="1081440" cy="10087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rong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duct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6880" y="2482920"/>
            <a:ext cx="8542440" cy="4375080"/>
            <a:chOff x="326880" y="2482920"/>
            <a:chExt cx="8542440" cy="4375080"/>
          </a:xfrm>
        </p:grpSpPr>
        <p:grpSp>
          <p:nvGrpSpPr>
            <p:cNvPr id="174" name=""/>
            <p:cNvGrpSpPr/>
            <p:nvPr/>
          </p:nvGrpSpPr>
          <p:grpSpPr>
            <a:xfrm>
              <a:off x="326880" y="2482920"/>
              <a:ext cx="3040200" cy="4375080"/>
              <a:chOff x="326880" y="2482920"/>
              <a:chExt cx="3040200" cy="4375080"/>
            </a:xfrm>
          </p:grpSpPr>
          <p:sp>
            <p:nvSpPr>
              <p:cNvPr id="175" name=""/>
              <p:cNvSpPr/>
              <p:nvPr/>
            </p:nvSpPr>
            <p:spPr>
              <a:xfrm>
                <a:off x="336600" y="2482920"/>
                <a:ext cx="2766960" cy="703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+ Mg, Ce (slow cool):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errite + graphite nodul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6880" y="3286080"/>
                <a:ext cx="3040200" cy="357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"/>
            <p:cNvSpPr/>
            <p:nvPr/>
          </p:nvSpPr>
          <p:spPr>
            <a:xfrm>
              <a:off x="8026560" y="3019320"/>
              <a:ext cx="842760" cy="81288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ast Ir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0364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10600" y="1409760"/>
            <a:ext cx="220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st coo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te cast i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mentite + pear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ttle/h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17440" y="2798640"/>
            <a:ext cx="4876920" cy="3789360"/>
            <a:chOff x="217440" y="2798640"/>
            <a:chExt cx="4876920" cy="378936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217440" y="2798640"/>
              <a:ext cx="322920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267440" y="3047760"/>
              <a:ext cx="826920" cy="827280"/>
            </a:xfrm>
            <a:prstGeom prst="ellipse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6120" y="2781360"/>
            <a:ext cx="5940000" cy="3830400"/>
            <a:chOff x="186120" y="2781360"/>
            <a:chExt cx="5940000" cy="3830400"/>
          </a:xfrm>
        </p:grpSpPr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203040" y="2797200"/>
              <a:ext cx="3322800" cy="38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86120" y="2781360"/>
              <a:ext cx="3164760" cy="105048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Times New Roman"/>
                </a:rPr>
                <a:t>heat treatment =&gt; malleable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Times New Roman"/>
                </a:rPr>
                <a:t>Fe</a:t>
              </a:r>
              <a:r>
                <a:rPr b="0" lang="en-US" sz="2000" spc="-1" strike="noStrike" baseline="-25000">
                  <a:solidFill>
                    <a:srgbClr val="006600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006600"/>
                  </a:solidFill>
                  <a:latin typeface="Times New Roman"/>
                </a:rPr>
                <a:t>C decomposition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00"/>
                  </a:solidFill>
                  <a:latin typeface="Times New Roman"/>
                </a:rPr>
                <a:t>graphite + ferrite (pearlit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3240" y="5415120"/>
              <a:ext cx="812880" cy="853920"/>
            </a:xfrm>
            <a:prstGeom prst="ellipse">
              <a:avLst/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on-Ferrous Alloy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3840" y="1306440"/>
            <a:ext cx="467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advantages ste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high density (7.85g/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low conductiv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poor corrosion resistance (low-alloy stee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lack of “ special“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520" y="3324240"/>
            <a:ext cx="1334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29320" y="313524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 alloys (1/3 density, corrosion resistant, conductiv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39040" y="3535200"/>
            <a:ext cx="29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g alloys (lowest dens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8240" y="3963960"/>
            <a:ext cx="61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 alloys (low density, high strength, corrosion resist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29320" y="4361040"/>
            <a:ext cx="59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 alloys (corrosion resistance also at high temperatu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33640" y="4832280"/>
            <a:ext cx="46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 alloys (conductive, corrosion resist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35080" y="5303880"/>
            <a:ext cx="657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ractory metals (Nb, Mo, W, Ta – very high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W: 3410°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31480" y="5718240"/>
            <a:ext cx="59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ble metals (Au, Pd, Pt..functional materials: catalys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6680" y="6159600"/>
            <a:ext cx="64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s (Pb, Zn, Sn, functional materials, corrosion prote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gk481</cp:lastModifiedBy>
  <dcterms:modified xsi:type="dcterms:W3CDTF">2007-01-11T12:28:00Z</dcterms:modified>
  <cp:revision>123</cp:revision>
  <dc:subject/>
  <dc:title>Rasterelektronenmikroskopie</dc:title>
</cp:coreProperties>
</file>