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850-08AD-403F-A9D5-E8BC2DBC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AD1-7563-4AD3-80E6-F839312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C03-CB90-4A6E-A4B9-1F44154E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707-8DB2-4CCD-95E3-F3E59455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E64B-585C-4A0E-9343-579135D4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BAB9-2451-482F-AA2F-CC19BD49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4435-5D2D-4050-B415-2C5676BE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EDE8-E7A9-4323-8A30-93CFBD8B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0B2C-88E3-4347-B95F-417D3B60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197B-DABD-4785-A1A4-33F99754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2B24-37D9-47C7-A4E3-239D05B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CAE-B349-4FB7-A200-30B15D32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8BF9-6FA9-44D4-B647-2A0ADDF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C500-5BDD-412F-A92E-47420C4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6CEC-F60B-4B24-BCC7-D540F497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FB65-6252-4C25-AD7C-07B03B5E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D653-8AFC-4339-8903-585CDB89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403-F0FB-4D5F-9588-DEA55B60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0C1-B450-470C-BE0A-88AB8986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152-C594-4090-9E00-36A71824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B99-1038-48DB-BE70-DC14BC5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5EC-1E41-418D-B10D-4C53F37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927F-9ED9-456E-BC81-8503EC99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2EE-FE61-430D-9D96-A9DFF75A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AB94-4EAB-4F07-B8A3-975E1EFD0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33D-4A35-4B9F-86C1-7AED4B61A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284040"/>
            <a:ext cx="11290320" cy="720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2945880"/>
            <a:ext cx="3403440" cy="1143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olym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14080" y="574848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 in PP matr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haracteristics: Shap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9640" y="15778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backbone =&gt; 109° ang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5229360" y="1114560"/>
            <a:ext cx="2838240" cy="2189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472360" y="2117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01240" y="2143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39320" y="1427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203800" y="3349800"/>
            <a:ext cx="2854440" cy="3246120"/>
            <a:chOff x="5203800" y="3349800"/>
            <a:chExt cx="2854440" cy="3246120"/>
          </a:xfrm>
        </p:grpSpPr>
        <p:pic>
          <p:nvPicPr>
            <p:cNvPr id="381" name="" descr=""/>
            <p:cNvPicPr/>
            <p:nvPr/>
          </p:nvPicPr>
          <p:blipFill>
            <a:blip r:embed="rId2"/>
            <a:stretch/>
          </p:blipFill>
          <p:spPr>
            <a:xfrm>
              <a:off x="5203800" y="3349800"/>
              <a:ext cx="2830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5226120" y="4788000"/>
              <a:ext cx="2832120" cy="18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1289520" y="2732040"/>
            <a:ext cx="3017520" cy="3801960"/>
            <a:chOff x="1289520" y="2732040"/>
            <a:chExt cx="3017520" cy="3801960"/>
          </a:xfrm>
        </p:grpSpPr>
        <p:pic>
          <p:nvPicPr>
            <p:cNvPr id="384" name="" descr=""/>
            <p:cNvPicPr/>
            <p:nvPr/>
          </p:nvPicPr>
          <p:blipFill>
            <a:blip r:embed="rId4"/>
            <a:stretch/>
          </p:blipFill>
          <p:spPr>
            <a:xfrm>
              <a:off x="1293840" y="3233880"/>
              <a:ext cx="3013200" cy="33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289520" y="273204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rtwining/coi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haracteristics: Structu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51160" y="1263600"/>
            <a:ext cx="7260840" cy="1473120"/>
            <a:chOff x="551160" y="1263600"/>
            <a:chExt cx="7260840" cy="1473120"/>
          </a:xfrm>
        </p:grpSpPr>
        <p:sp>
          <p:nvSpPr>
            <p:cNvPr id="389" name=""/>
            <p:cNvSpPr/>
            <p:nvPr/>
          </p:nvSpPr>
          <p:spPr>
            <a:xfrm>
              <a:off x="551160" y="1752480"/>
              <a:ext cx="35791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inear poly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like spaghettis, e.g. PE,PVC,P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4773600" y="1263600"/>
              <a:ext cx="3038400" cy="14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492480" y="2855880"/>
            <a:ext cx="7322760" cy="2236680"/>
            <a:chOff x="492480" y="2855880"/>
            <a:chExt cx="7322760" cy="2236680"/>
          </a:xfrm>
        </p:grpSpPr>
        <p:pic>
          <p:nvPicPr>
            <p:cNvPr id="392" name="" descr=""/>
            <p:cNvPicPr/>
            <p:nvPr/>
          </p:nvPicPr>
          <p:blipFill>
            <a:blip r:embed="rId2"/>
            <a:stretch/>
          </p:blipFill>
          <p:spPr>
            <a:xfrm>
              <a:off x="4762440" y="2855880"/>
              <a:ext cx="305280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92480" y="4051440"/>
              <a:ext cx="25124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ranched poly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side reaction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72320" y="5195880"/>
            <a:ext cx="7366680" cy="1379520"/>
            <a:chOff x="472320" y="5195880"/>
            <a:chExt cx="7366680" cy="1379520"/>
          </a:xfrm>
        </p:grpSpPr>
        <p:pic>
          <p:nvPicPr>
            <p:cNvPr id="395" name="" descr=""/>
            <p:cNvPicPr/>
            <p:nvPr/>
          </p:nvPicPr>
          <p:blipFill>
            <a:blip r:embed="rId3"/>
            <a:stretch/>
          </p:blipFill>
          <p:spPr>
            <a:xfrm>
              <a:off x="4759200" y="5195880"/>
              <a:ext cx="3079800" cy="13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72320" y="5689440"/>
              <a:ext cx="36799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osslinked poly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by addtl. molecules, e.g. epoxie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haracteristics: Structu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6840" y="1752480"/>
            <a:ext cx="3969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 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rifunctional mer units, e.g. epox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376360" y="2714760"/>
            <a:ext cx="5673960" cy="3816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olecular Configur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747720" y="1403280"/>
            <a:ext cx="8416440" cy="1431000"/>
            <a:chOff x="747720" y="1403280"/>
            <a:chExt cx="8416440" cy="1431000"/>
          </a:xfrm>
        </p:grpSpPr>
        <p:sp>
          <p:nvSpPr>
            <p:cNvPr id="403" name=""/>
            <p:cNvSpPr/>
            <p:nvPr/>
          </p:nvSpPr>
          <p:spPr>
            <a:xfrm>
              <a:off x="1490760" y="2413080"/>
              <a:ext cx="469800" cy="3934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6840" y="14032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68160" y="14032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96840" y="243540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68880" y="24354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47680" y="1724040"/>
              <a:ext cx="1296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731600" y="173664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97200" y="190188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68880" y="191448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903320" y="2098800"/>
              <a:ext cx="298440" cy="2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06440" y="210492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47720" y="2098800"/>
              <a:ext cx="298440" cy="2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935000" y="2057040"/>
              <a:ext cx="698760" cy="482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99320" y="1639800"/>
              <a:ext cx="686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ide groups (e.g. Cl, CH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) =&gt; regularity – symmetry=&gt; propert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05920" y="2376360"/>
            <a:ext cx="5852160" cy="1778400"/>
            <a:chOff x="205920" y="2376360"/>
            <a:chExt cx="5852160" cy="1778400"/>
          </a:xfrm>
        </p:grpSpPr>
        <p:sp>
          <p:nvSpPr>
            <p:cNvPr id="418" name=""/>
            <p:cNvSpPr/>
            <p:nvPr/>
          </p:nvSpPr>
          <p:spPr>
            <a:xfrm>
              <a:off x="205920" y="3087720"/>
              <a:ext cx="334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ereoisomeri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isotactic, syndiotactic, atacti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65560" y="3733920"/>
              <a:ext cx="469800" cy="3934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71640" y="27241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43320" y="27241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71640" y="37558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43680" y="3755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22840" y="304488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406760" y="3057480"/>
              <a:ext cx="1296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72360" y="32227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43680" y="32353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578480" y="3419640"/>
              <a:ext cx="298440" cy="2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81600" y="342576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422520" y="3419640"/>
              <a:ext cx="298440" cy="2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46720" y="3695760"/>
              <a:ext cx="469800" cy="3934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52800" y="26859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4480" y="26859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52800" y="37180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424840" y="3718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03640" y="3006720"/>
              <a:ext cx="1296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5587920" y="3019320"/>
              <a:ext cx="1296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53160" y="31845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24840" y="31971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62400" y="338760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759280" y="3406320"/>
              <a:ext cx="29880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82480" y="2376360"/>
              <a:ext cx="13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ead to tai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508800" y="2376360"/>
            <a:ext cx="2635200" cy="1753200"/>
            <a:chOff x="6508800" y="2376360"/>
            <a:chExt cx="2635200" cy="1753200"/>
          </a:xfrm>
        </p:grpSpPr>
        <p:sp>
          <p:nvSpPr>
            <p:cNvPr id="444" name=""/>
            <p:cNvSpPr/>
            <p:nvPr/>
          </p:nvSpPr>
          <p:spPr>
            <a:xfrm>
              <a:off x="7251840" y="3708360"/>
              <a:ext cx="469800" cy="39384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57920" y="26989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29240" y="26989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757920" y="37306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29960" y="3730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08760" y="301932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492680" y="3032280"/>
              <a:ext cx="12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58280" y="31971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29960" y="32097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664400" y="339372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67520" y="340056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508800" y="339372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61320" y="3708360"/>
              <a:ext cx="469800" cy="39384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39080" y="26607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10400" y="26607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97800" y="37180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39440" y="3730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089920" y="298116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673840" y="2994120"/>
              <a:ext cx="12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39440" y="315900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10760" y="31719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248680" y="336240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845560" y="338112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40600" y="2376360"/>
              <a:ext cx="14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ead to he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32200" y="4459320"/>
            <a:ext cx="5851080" cy="1759320"/>
            <a:chOff x="232200" y="4459320"/>
            <a:chExt cx="5851080" cy="1759320"/>
          </a:xfrm>
        </p:grpSpPr>
        <p:sp>
          <p:nvSpPr>
            <p:cNvPr id="469" name=""/>
            <p:cNvSpPr/>
            <p:nvPr/>
          </p:nvSpPr>
          <p:spPr>
            <a:xfrm>
              <a:off x="232200" y="4749840"/>
              <a:ext cx="2506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eometrical isomeri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.g. polyisopre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is: natural rubb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97200" y="478800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73200" y="4788000"/>
              <a:ext cx="608760" cy="440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97200" y="58197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48040" y="510840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44920" y="5121360"/>
              <a:ext cx="12960" cy="2030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97560" y="528624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9240" y="529920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603680" y="5482800"/>
              <a:ext cx="298440" cy="3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06800" y="548964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48080" y="548280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78360" y="474984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49680" y="474984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41800" y="5121360"/>
              <a:ext cx="0" cy="2156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5613120" y="508320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78720" y="524844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50400" y="526104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87960" y="545148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5784840" y="547020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4603680" y="5533560"/>
              <a:ext cx="298440" cy="3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49680" y="57913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1240" y="445932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305400" y="4459320"/>
            <a:ext cx="2635560" cy="1759320"/>
            <a:chOff x="6305400" y="4459320"/>
            <a:chExt cx="2635560" cy="1759320"/>
          </a:xfrm>
        </p:grpSpPr>
        <p:sp>
          <p:nvSpPr>
            <p:cNvPr id="492" name=""/>
            <p:cNvSpPr/>
            <p:nvPr/>
          </p:nvSpPr>
          <p:spPr>
            <a:xfrm>
              <a:off x="6554520" y="478800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30520" y="4788000"/>
              <a:ext cx="608760" cy="440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54520" y="58197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05720" y="510840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7289640" y="5121360"/>
              <a:ext cx="12960" cy="1904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55240" y="528624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126560" y="529920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461360" y="5482800"/>
              <a:ext cx="298440" cy="3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64480" y="548964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305400" y="548280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710480" y="57657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07360" y="474984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99480" y="5629320"/>
              <a:ext cx="0" cy="2030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470800" y="5083200"/>
              <a:ext cx="1296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36400" y="524844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07720" y="526104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45280" y="545148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8642520" y="547020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461360" y="5533560"/>
              <a:ext cx="298440" cy="32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307360" y="57913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75680" y="445932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ra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rmoplastic - Thermosett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5400" y="2876400"/>
            <a:ext cx="23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h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5849640" y="1717560"/>
            <a:ext cx="2785320" cy="1922760"/>
            <a:chOff x="5849640" y="1717560"/>
            <a:chExt cx="2785320" cy="1922760"/>
          </a:xfrm>
        </p:grpSpPr>
        <p:sp>
          <p:nvSpPr>
            <p:cNvPr id="516" name=""/>
            <p:cNvSpPr/>
            <p:nvPr/>
          </p:nvSpPr>
          <p:spPr>
            <a:xfrm>
              <a:off x="5849640" y="1717560"/>
              <a:ext cx="2785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rosslinked poly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grad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07160" y="2197080"/>
              <a:ext cx="0" cy="876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579400" y="1704960"/>
            <a:ext cx="3309480" cy="2166840"/>
            <a:chOff x="2579400" y="1704960"/>
            <a:chExt cx="3309480" cy="2166840"/>
          </a:xfrm>
        </p:grpSpPr>
        <p:sp>
          <p:nvSpPr>
            <p:cNvPr id="519" name=""/>
            <p:cNvSpPr/>
            <p:nvPr/>
          </p:nvSpPr>
          <p:spPr>
            <a:xfrm>
              <a:off x="2579400" y="1704960"/>
              <a:ext cx="3309480" cy="21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oft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iquef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diminishing seconda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onding forces =&gt; fabricatio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84680" y="1752480"/>
              <a:ext cx="0" cy="1105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701720" y="4179960"/>
            <a:ext cx="4840920" cy="2228400"/>
            <a:chOff x="1701720" y="4179960"/>
            <a:chExt cx="4840920" cy="2228400"/>
          </a:xfrm>
        </p:grpSpPr>
        <p:grpSp>
          <p:nvGrpSpPr>
            <p:cNvPr id="522" name=""/>
            <p:cNvGrpSpPr/>
            <p:nvPr/>
          </p:nvGrpSpPr>
          <p:grpSpPr>
            <a:xfrm>
              <a:off x="1905840" y="4179960"/>
              <a:ext cx="4636800" cy="2228400"/>
              <a:chOff x="1905840" y="4179960"/>
              <a:chExt cx="4636800" cy="222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905840" y="4179960"/>
                <a:ext cx="4636800" cy="22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TFE (e.g. teflon, chemically inert,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low friction, T&lt;260°C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A (e.g. nylon)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E/PP (bottles, toys, container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crylics (PMMA polymethyl methacrylate,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ransparent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Vinyls (floor covering, record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96040" y="43527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727280" y="4317840"/>
              <a:ext cx="177840" cy="165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01720" y="4902120"/>
              <a:ext cx="177840" cy="165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14680" y="5207040"/>
              <a:ext cx="177480" cy="165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14680" y="5524560"/>
              <a:ext cx="177480" cy="164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14680" y="6146640"/>
              <a:ext cx="177480" cy="1652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829480" y="4246560"/>
            <a:ext cx="3100680" cy="1008720"/>
            <a:chOff x="5829480" y="4246560"/>
            <a:chExt cx="3100680" cy="1008720"/>
          </a:xfrm>
        </p:grpSpPr>
        <p:sp>
          <p:nvSpPr>
            <p:cNvPr id="531" name=""/>
            <p:cNvSpPr/>
            <p:nvPr/>
          </p:nvSpPr>
          <p:spPr>
            <a:xfrm>
              <a:off x="6035040" y="4246560"/>
              <a:ext cx="2895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poxies (adhesive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lyester (fiberglas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elmets, auto body comp.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29480" y="4419720"/>
              <a:ext cx="177480" cy="164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54680" y="4699080"/>
              <a:ext cx="177840" cy="164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Improving Proper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2640" y="138744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opolymers =&gt; co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867200" y="1398600"/>
            <a:ext cx="3830760" cy="52815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3894840" y="1893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89920" y="279576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ern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86360" y="40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87880" y="5272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1120" y="1969920"/>
            <a:ext cx="23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 synthetic rub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omobile tires SB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soline hoses NBR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2320" y="3851280"/>
            <a:ext cx="27838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impu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vacan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ly at chain 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usion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&gt; interstitial mechan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 bottles, membra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ystalline Polym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205160" y="1370160"/>
            <a:ext cx="4592880" cy="49878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655560" y="1500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3240" y="1806480"/>
            <a:ext cx="3632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king of molecular ch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&gt; usually not comp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441440" y="4226040"/>
            <a:ext cx="3346560" cy="703800"/>
            <a:chOff x="1441440" y="4226040"/>
            <a:chExt cx="3346560" cy="703800"/>
          </a:xfrm>
        </p:grpSpPr>
        <p:sp>
          <p:nvSpPr>
            <p:cNvPr id="548" name=""/>
            <p:cNvSpPr/>
            <p:nvPr/>
          </p:nvSpPr>
          <p:spPr>
            <a:xfrm flipH="1">
              <a:off x="4152960" y="4559400"/>
              <a:ext cx="63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314880" y="4546440"/>
              <a:ext cx="838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41440" y="4226040"/>
              <a:ext cx="180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rthorombic 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unit ce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2623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52280" y="2781360"/>
            <a:ext cx="3962520" cy="825480"/>
            <a:chOff x="152280" y="2781360"/>
            <a:chExt cx="3962520" cy="825480"/>
          </a:xfrm>
        </p:grpSpPr>
        <p:sp>
          <p:nvSpPr>
            <p:cNvPr id="553" name=""/>
            <p:cNvSpPr/>
            <p:nvPr/>
          </p:nvSpPr>
          <p:spPr>
            <a:xfrm>
              <a:off x="152280" y="2781360"/>
              <a:ext cx="3962520" cy="825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189000" y="2897280"/>
                  <a:ext cx="3862440" cy="68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%</m:t>
                      </m:r>
                      <m:r>
                        <m:rPr>
                          <m:lit/>
                          <m:nor/>
                        </m:rPr>
                        <m:t xml:space="preserve">crystallinity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ryst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pec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morph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pec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ryst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ρ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morph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5" name=""/>
          <p:cNvSpPr/>
          <p:nvPr/>
        </p:nvSpPr>
        <p:spPr>
          <a:xfrm>
            <a:off x="356760" y="5094360"/>
            <a:ext cx="31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s 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cooling rate (s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chain configuration (simp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Mechanical Properties of Polym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47720" y="2178000"/>
            <a:ext cx="4757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558" name=""/>
          <p:cNvGrpSpPr/>
          <p:nvPr/>
        </p:nvGrpSpPr>
        <p:grpSpPr>
          <a:xfrm>
            <a:off x="4229280" y="1285920"/>
            <a:ext cx="4760640" cy="5278320"/>
            <a:chOff x="4229280" y="1285920"/>
            <a:chExt cx="4760640" cy="5278320"/>
          </a:xfrm>
        </p:grpSpPr>
        <p:pic>
          <p:nvPicPr>
            <p:cNvPr id="559" name="" descr=""/>
            <p:cNvPicPr/>
            <p:nvPr/>
          </p:nvPicPr>
          <p:blipFill>
            <a:blip r:embed="rId2"/>
            <a:stretch/>
          </p:blipFill>
          <p:spPr>
            <a:xfrm>
              <a:off x="6114960" y="5522760"/>
              <a:ext cx="2724120" cy="10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3"/>
            <a:stretch/>
          </p:blipFill>
          <p:spPr>
            <a:xfrm>
              <a:off x="6750000" y="3446640"/>
              <a:ext cx="1257480" cy="20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6213960" y="1285920"/>
              <a:ext cx="277596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elasto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partial uncoil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decreasing entrop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e.g. polyisopropene (N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acrylonitrile butadie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copolymer (NB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229280" y="4064040"/>
              <a:ext cx="2349360" cy="93960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523880" y="1379520"/>
            <a:ext cx="5095800" cy="3370320"/>
            <a:chOff x="1523880" y="1379520"/>
            <a:chExt cx="5095800" cy="3370320"/>
          </a:xfrm>
        </p:grpSpPr>
        <p:sp>
          <p:nvSpPr>
            <p:cNvPr id="564" name=""/>
            <p:cNvSpPr/>
            <p:nvPr/>
          </p:nvSpPr>
          <p:spPr>
            <a:xfrm flipV="1">
              <a:off x="1523880" y="1727280"/>
              <a:ext cx="2146320" cy="214632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5760" y="1379520"/>
              <a:ext cx="3193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de-DE" sz="2000" spc="-1" strike="noStrike" baseline="-25000">
                  <a:solidFill>
                    <a:srgbClr val="ffffff"/>
                  </a:solidFill>
                  <a:latin typeface="Times New Roman"/>
                </a:rPr>
                <a:t>Y </a:t>
              </a: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(necking – chain orde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6" name=""/>
            <p:cNvGraphicFramePr/>
            <p:nvPr/>
          </p:nvGraphicFramePr>
          <p:xfrm>
            <a:off x="3386160" y="2522520"/>
            <a:ext cx="1393920" cy="2227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86160" y="2522520"/>
                      <a:ext cx="1393920" cy="22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8" name=""/>
          <p:cNvGrpSpPr/>
          <p:nvPr/>
        </p:nvGrpSpPr>
        <p:grpSpPr>
          <a:xfrm>
            <a:off x="1625760" y="2541600"/>
            <a:ext cx="2963520" cy="1332000"/>
            <a:chOff x="1625760" y="2541600"/>
            <a:chExt cx="2963520" cy="1332000"/>
          </a:xfrm>
        </p:grpSpPr>
        <p:sp>
          <p:nvSpPr>
            <p:cNvPr id="569" name=""/>
            <p:cNvSpPr/>
            <p:nvPr/>
          </p:nvSpPr>
          <p:spPr>
            <a:xfrm>
              <a:off x="1625760" y="2908440"/>
              <a:ext cx="1104840" cy="965160"/>
            </a:xfrm>
            <a:custGeom>
              <a:avLst/>
              <a:gdLst/>
              <a:ahLst/>
              <a:rect l="l" t="t" r="r" b="b"/>
              <a:pathLst>
                <a:path w="696" h="496">
                  <a:moveTo>
                    <a:pt x="0" y="0"/>
                  </a:moveTo>
                  <a:cubicBezTo>
                    <a:pt x="206" y="94"/>
                    <a:pt x="412" y="189"/>
                    <a:pt x="528" y="272"/>
                  </a:cubicBezTo>
                  <a:cubicBezTo>
                    <a:pt x="644" y="355"/>
                    <a:pt x="668" y="459"/>
                    <a:pt x="696" y="496"/>
                  </a:cubicBezTo>
                </a:path>
              </a:pathLst>
            </a:custGeom>
            <a:noFill/>
            <a:ln w="381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11320" y="2541600"/>
              <a:ext cx="2577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creasing temperature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ecreasing strain r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371600" y="1424160"/>
            <a:ext cx="7620120" cy="3045960"/>
            <a:chOff x="1371600" y="1424160"/>
            <a:chExt cx="7620120" cy="3045960"/>
          </a:xfrm>
        </p:grpSpPr>
        <p:grpSp>
          <p:nvGrpSpPr>
            <p:cNvPr id="572" name=""/>
            <p:cNvGrpSpPr/>
            <p:nvPr/>
          </p:nvGrpSpPr>
          <p:grpSpPr>
            <a:xfrm>
              <a:off x="1371600" y="1424160"/>
              <a:ext cx="7620120" cy="3045960"/>
              <a:chOff x="1371600" y="1424160"/>
              <a:chExt cx="7620120" cy="304596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1371600" y="1424160"/>
                <a:ext cx="5263200" cy="3045960"/>
                <a:chOff x="1371600" y="1424160"/>
                <a:chExt cx="5263200" cy="3045960"/>
              </a:xfrm>
            </p:grpSpPr>
            <p:sp>
              <p:nvSpPr>
                <p:cNvPr id="574" name=""/>
                <p:cNvSpPr/>
                <p:nvPr/>
              </p:nvSpPr>
              <p:spPr>
                <a:xfrm flipV="1">
                  <a:off x="1371600" y="1816200"/>
                  <a:ext cx="1295280" cy="8380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flipV="1">
                  <a:off x="2679480" y="1803240"/>
                  <a:ext cx="546120" cy="215928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flipV="1">
                  <a:off x="2692080" y="1802880"/>
                  <a:ext cx="2158920" cy="266724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376000" y="1424160"/>
                  <a:ext cx="4258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ffffff"/>
                      </a:solidFill>
                      <a:latin typeface="Times New Roman"/>
                    </a:rPr>
                    <a:t>(U)TS – max. 100MPa, E=7...4000MPa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7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80000" y="1892160"/>
                <a:ext cx="3411720" cy="24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"/>
              <p:cNvSpPr/>
              <p:nvPr/>
            </p:nvSpPr>
            <p:spPr>
              <a:xfrm>
                <a:off x="5938920" y="3276720"/>
                <a:ext cx="276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Times New Roman"/>
                  </a:rPr>
                  <a:t>brittle (thermosetting)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Times New Roman"/>
                  </a:rPr>
                  <a:t>ductile(depends on T, d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Times New Roman"/>
                  </a:rPr>
                  <a:t>/dt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Times New Roman"/>
                  </a:rPr>
                  <a:t>=&gt; crazing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990400" y="213516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fra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430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chanical Properties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f Polym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747720" y="2500200"/>
            <a:ext cx="3078000" cy="209736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747720" y="1893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2680" y="186840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chanical load st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265720" y="298440"/>
            <a:ext cx="3373560" cy="2040120"/>
            <a:chOff x="5265720" y="298440"/>
            <a:chExt cx="3373560" cy="2040120"/>
          </a:xfrm>
        </p:grpSpPr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5265720" y="298440"/>
              <a:ext cx="3373560" cy="20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474600" y="90324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ast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273640" y="2297160"/>
            <a:ext cx="3357720" cy="2238480"/>
            <a:chOff x="5273640" y="2297160"/>
            <a:chExt cx="3357720" cy="2238480"/>
          </a:xfrm>
        </p:grpSpPr>
        <p:pic>
          <p:nvPicPr>
            <p:cNvPr id="589" name="" descr=""/>
            <p:cNvPicPr/>
            <p:nvPr/>
          </p:nvPicPr>
          <p:blipFill>
            <a:blip r:embed="rId3"/>
            <a:stretch/>
          </p:blipFill>
          <p:spPr>
            <a:xfrm>
              <a:off x="5273640" y="2297160"/>
              <a:ext cx="335772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562080" y="3367080"/>
              <a:ext cx="136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scoelast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254560" y="4519440"/>
            <a:ext cx="3371760" cy="2297160"/>
            <a:chOff x="5254560" y="4519440"/>
            <a:chExt cx="3371760" cy="2297160"/>
          </a:xfrm>
        </p:grpSpPr>
        <p:pic>
          <p:nvPicPr>
            <p:cNvPr id="592" name="" descr=""/>
            <p:cNvPicPr/>
            <p:nvPr/>
          </p:nvPicPr>
          <p:blipFill>
            <a:blip r:embed="rId4"/>
            <a:stretch/>
          </p:blipFill>
          <p:spPr>
            <a:xfrm>
              <a:off x="5254560" y="4519440"/>
              <a:ext cx="33717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6435360" y="517032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sc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53760" y="5170320"/>
            <a:ext cx="1482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ends 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strain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temper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chanical Properties of Polym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933120" y="1203480"/>
            <a:ext cx="3234960" cy="5229360"/>
            <a:chOff x="933120" y="1203480"/>
            <a:chExt cx="3234960" cy="5229360"/>
          </a:xfrm>
        </p:grpSpPr>
        <p:sp>
          <p:nvSpPr>
            <p:cNvPr id="597" name=""/>
            <p:cNvSpPr/>
            <p:nvPr/>
          </p:nvSpPr>
          <p:spPr>
            <a:xfrm>
              <a:off x="1041480" y="6134040"/>
              <a:ext cx="227340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1"/>
            <a:stretch/>
          </p:blipFill>
          <p:spPr>
            <a:xfrm>
              <a:off x="1047600" y="2647800"/>
              <a:ext cx="227340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933120" y="1203480"/>
              <a:ext cx="323496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 relaxation (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cons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laxation modul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t)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t)/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155240" y="2197080"/>
              <a:ext cx="36828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05880" y="6033960"/>
              <a:ext cx="1022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g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91360" y="5716440"/>
              <a:ext cx="3254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43280" y="2743200"/>
              <a:ext cx="0" cy="3048120"/>
            </a:xfrm>
            <a:prstGeom prst="line">
              <a:avLst/>
            </a:prstGeom>
            <a:ln w="2844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089240" y="1206360"/>
            <a:ext cx="4851720" cy="5080320"/>
            <a:chOff x="4089240" y="1206360"/>
            <a:chExt cx="4851720" cy="5080320"/>
          </a:xfrm>
        </p:grpSpPr>
        <p:grpSp>
          <p:nvGrpSpPr>
            <p:cNvPr id="605" name=""/>
            <p:cNvGrpSpPr/>
            <p:nvPr/>
          </p:nvGrpSpPr>
          <p:grpSpPr>
            <a:xfrm>
              <a:off x="4089240" y="1206360"/>
              <a:ext cx="4851720" cy="5080320"/>
              <a:chOff x="4089240" y="1206360"/>
              <a:chExt cx="4851720" cy="5080320"/>
            </a:xfrm>
          </p:grpSpPr>
          <p:sp>
            <p:nvSpPr>
              <p:cNvPr id="606" name=""/>
              <p:cNvSpPr/>
              <p:nvPr/>
            </p:nvSpPr>
            <p:spPr>
              <a:xfrm>
                <a:off x="4521240" y="1206360"/>
                <a:ext cx="4419720" cy="508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75040" y="1535040"/>
                <a:ext cx="3810240" cy="459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6156360" y="5676840"/>
                <a:ext cx="17683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temperature (°C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95320" y="4551480"/>
                <a:ext cx="1366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iscoelasti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53480" y="3192480"/>
                <a:ext cx="957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lass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brittle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716360" y="1309680"/>
                <a:ext cx="70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(t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4089240" y="1485720"/>
                <a:ext cx="482760" cy="114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 flipH="1">
              <a:off x="6108480" y="3327480"/>
              <a:ext cx="12600" cy="227340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251080" y="5790960"/>
            <a:ext cx="3743280" cy="1069200"/>
            <a:chOff x="2251080" y="5790960"/>
            <a:chExt cx="3743280" cy="1069200"/>
          </a:xfrm>
        </p:grpSpPr>
        <p:sp>
          <p:nvSpPr>
            <p:cNvPr id="615" name=""/>
            <p:cNvSpPr/>
            <p:nvPr/>
          </p:nvSpPr>
          <p:spPr>
            <a:xfrm>
              <a:off x="2251080" y="6461280"/>
              <a:ext cx="299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lass transition tempera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368960" y="5790960"/>
              <a:ext cx="1625400" cy="7873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rom Natural to Synthetic Polym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60840" y="16351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ural: wood, rubber, cotton, wool, leather, silk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673000" y="3108240"/>
            <a:ext cx="4015080" cy="2904120"/>
            <a:chOff x="2673000" y="3108240"/>
            <a:chExt cx="4015080" cy="2904120"/>
          </a:xfrm>
        </p:grpSpPr>
        <p:sp>
          <p:nvSpPr>
            <p:cNvPr id="90" name=""/>
            <p:cNvSpPr/>
            <p:nvPr/>
          </p:nvSpPr>
          <p:spPr>
            <a:xfrm>
              <a:off x="2673000" y="3578400"/>
              <a:ext cx="2082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(methane)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54600" y="310824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54600" y="41403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05440" y="342900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75320" y="3797280"/>
              <a:ext cx="7621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54960" y="360684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43400" y="3621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17640" y="4987800"/>
              <a:ext cx="2171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(ethylene)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9040" y="45813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00720" y="45813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29040" y="56134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00720" y="56134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490212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464160" y="4915080"/>
              <a:ext cx="1296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29760" y="50799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01080" y="50925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3040" y="3621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5120" y="5327640"/>
              <a:ext cx="27936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58080" y="5254560"/>
              <a:ext cx="26964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27760" y="3641760"/>
            <a:ext cx="2386080" cy="2040840"/>
            <a:chOff x="6827760" y="3641760"/>
            <a:chExt cx="2386080" cy="2040840"/>
          </a:xfrm>
        </p:grpSpPr>
        <p:sp>
          <p:nvSpPr>
            <p:cNvPr id="110" name=""/>
            <p:cNvSpPr/>
            <p:nvPr/>
          </p:nvSpPr>
          <p:spPr>
            <a:xfrm>
              <a:off x="6927120" y="3641760"/>
              <a:ext cx="12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atu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27760" y="4917960"/>
              <a:ext cx="2386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satu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double, triple bond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938520" y="2095560"/>
            <a:ext cx="7084440" cy="891360"/>
            <a:chOff x="938520" y="2095560"/>
            <a:chExt cx="7084440" cy="891360"/>
          </a:xfrm>
        </p:grpSpPr>
        <p:sp>
          <p:nvSpPr>
            <p:cNvPr id="113" name=""/>
            <p:cNvSpPr/>
            <p:nvPr/>
          </p:nvSpPr>
          <p:spPr>
            <a:xfrm>
              <a:off x="938520" y="2527200"/>
              <a:ext cx="708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ynthesis of small organic molecules, e.g. hydrocarbon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30520" y="2095560"/>
              <a:ext cx="0" cy="495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araffin Family - Isomeris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8480" y="1463760"/>
            <a:ext cx="105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n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85600" y="1752480"/>
            <a:ext cx="255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butan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03560" y="134316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5240" y="134316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03560" y="237492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75240" y="237492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54760" y="1663560"/>
            <a:ext cx="12600" cy="76212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638680" y="1676520"/>
            <a:ext cx="12960" cy="76176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04280" y="1841400"/>
            <a:ext cx="3499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75600" y="1854360"/>
            <a:ext cx="3499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22880" y="2054160"/>
            <a:ext cx="28908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2044800"/>
            <a:ext cx="27000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3160" y="133344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84840" y="133344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3160" y="236520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84840" y="236520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64360" y="1654200"/>
            <a:ext cx="12600" cy="76212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848280" y="1666800"/>
            <a:ext cx="12600" cy="76212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3880" y="1832040"/>
            <a:ext cx="3499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85200" y="1844640"/>
            <a:ext cx="3499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1560" y="2050920"/>
            <a:ext cx="27000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004160" y="2031480"/>
            <a:ext cx="355320" cy="324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2480" y="2044800"/>
            <a:ext cx="2635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04040" y="181296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89320" y="181296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04320" y="4273560"/>
            <a:ext cx="23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isobutan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89240" y="383868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89240" y="487044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0920" y="487044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40440" y="4159080"/>
            <a:ext cx="12600" cy="76212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24360" y="3867120"/>
            <a:ext cx="12960" cy="106668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89960" y="4336920"/>
            <a:ext cx="3499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1280" y="4349880"/>
            <a:ext cx="3499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8560" y="4549680"/>
            <a:ext cx="2635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80240" y="4540320"/>
            <a:ext cx="2761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9480" y="382896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9200" y="486108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50040" y="4149720"/>
            <a:ext cx="12600" cy="76212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99560" y="4327560"/>
            <a:ext cx="3499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8160" y="4540320"/>
            <a:ext cx="2635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18160" y="4540320"/>
            <a:ext cx="2761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79760" y="432756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6200" y="434664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300996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99440" y="3556080"/>
            <a:ext cx="34992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08560" y="351144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18040" y="3768840"/>
            <a:ext cx="2635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27640" y="3759120"/>
            <a:ext cx="2635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89240" y="3527280"/>
            <a:ext cx="36504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59280" y="3378240"/>
            <a:ext cx="3240" cy="21600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olymer Macromolecules - Chai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2040" y="1622520"/>
            <a:ext cx="7910640" cy="796680"/>
            <a:chOff x="392040" y="1622520"/>
            <a:chExt cx="7910640" cy="796680"/>
          </a:xfrm>
        </p:grpSpPr>
        <p:sp>
          <p:nvSpPr>
            <p:cNvPr id="168" name=""/>
            <p:cNvSpPr/>
            <p:nvPr/>
          </p:nvSpPr>
          <p:spPr>
            <a:xfrm>
              <a:off x="392040" y="1752480"/>
              <a:ext cx="332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 atoms chain  backbon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3280" y="163188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667200" y="164448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32800" y="18097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04480" y="18223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51400" y="2022480"/>
              <a:ext cx="26388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23080" y="201312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92880" y="1622520"/>
              <a:ext cx="1296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876800" y="163512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42400" y="18003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714080" y="18129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1360" y="2013120"/>
              <a:ext cx="25056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8032680" y="1996920"/>
              <a:ext cx="270000" cy="64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61000" y="2013120"/>
              <a:ext cx="27000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9280" y="164448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813200" y="1657440"/>
              <a:ext cx="1296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8800" y="18223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50120" y="183528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97400" y="203508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68720" y="202572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8880" y="163512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88400" y="18129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13120" y="2031840"/>
              <a:ext cx="25740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4680" y="2898720"/>
            <a:ext cx="31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: repeated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o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 =&gt; po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79880" y="3908520"/>
            <a:ext cx="8661960" cy="2951640"/>
            <a:chOff x="479880" y="3908520"/>
            <a:chExt cx="8661960" cy="2951640"/>
          </a:xfrm>
        </p:grpSpPr>
        <p:sp>
          <p:nvSpPr>
            <p:cNvPr id="193" name=""/>
            <p:cNvSpPr/>
            <p:nvPr/>
          </p:nvSpPr>
          <p:spPr>
            <a:xfrm>
              <a:off x="3062160" y="39085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33840" y="39085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79880" y="3971880"/>
              <a:ext cx="8661960" cy="2888280"/>
              <a:chOff x="479880" y="3971880"/>
              <a:chExt cx="8661960" cy="2888280"/>
            </a:xfrm>
          </p:grpSpPr>
          <p:sp>
            <p:nvSpPr>
              <p:cNvPr id="196" name=""/>
              <p:cNvSpPr/>
              <p:nvPr/>
            </p:nvSpPr>
            <p:spPr>
              <a:xfrm>
                <a:off x="487440" y="3976560"/>
                <a:ext cx="2042640" cy="74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.g. ethylene C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nom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62160" y="4940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33840" y="4940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13000" y="4229280"/>
                <a:ext cx="12960" cy="76176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3796920" y="4241880"/>
                <a:ext cx="12600" cy="76176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062520" y="44067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34200" y="441972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378240" y="4650840"/>
                <a:ext cx="291960" cy="324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90840" y="4581360"/>
                <a:ext cx="263520" cy="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17240" y="4395960"/>
                <a:ext cx="330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+R (initiator / catalyst specie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32640" y="39718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103960" y="39718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532640" y="500364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103960" y="500364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83480" y="4292640"/>
                <a:ext cx="1260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8267400" y="4305240"/>
                <a:ext cx="1260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533000" y="447048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04680" y="448308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445600" y="4667400"/>
                <a:ext cx="298440" cy="288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48720" y="4670280"/>
                <a:ext cx="276120" cy="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791920" y="44467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29680" y="4610160"/>
                <a:ext cx="101520" cy="88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05640" y="542916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76960" y="542916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605640" y="6461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176960" y="6461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56480" y="5749920"/>
                <a:ext cx="1260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7340400" y="5762520"/>
                <a:ext cx="1260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06000" y="59277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77320" y="59403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7518240" y="6121080"/>
                <a:ext cx="298440" cy="324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921360" y="6127920"/>
                <a:ext cx="263520" cy="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64920" y="59040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449680" y="542916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21360" y="542916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449680" y="6461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21360" y="6461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00880" y="5749920"/>
                <a:ext cx="1260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184800" y="5762520"/>
                <a:ext cx="1296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50400" y="59277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21720" y="59403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6362640" y="6121080"/>
                <a:ext cx="298440" cy="324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65760" y="6127920"/>
                <a:ext cx="276120" cy="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94080" y="542916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865400" y="542916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94080" y="6461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65400" y="6461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44920" y="5749920"/>
                <a:ext cx="1296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028840" y="5762520"/>
                <a:ext cx="1260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294440" y="59277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866120" y="59403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207040" y="6121080"/>
                <a:ext cx="298440" cy="324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10160" y="6127920"/>
                <a:ext cx="276120" cy="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38480" y="542916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09800" y="542916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138480" y="6461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09800" y="6461280"/>
                <a:ext cx="36504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89320" y="5749920"/>
                <a:ext cx="1260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873240" y="5762520"/>
                <a:ext cx="12600" cy="76212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38840" y="59277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710160" y="5940360"/>
                <a:ext cx="349920" cy="3988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044960" y="6121080"/>
                <a:ext cx="304920" cy="324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54560" y="6127920"/>
                <a:ext cx="269640" cy="0"/>
              </a:xfrm>
              <a:prstGeom prst="line">
                <a:avLst/>
              </a:prstGeom>
              <a:ln w="2844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09960" y="6058080"/>
                <a:ext cx="101520" cy="8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9880" y="5843520"/>
                <a:ext cx="103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polym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01800" y="4686480"/>
                <a:ext cx="0" cy="1015920"/>
              </a:xfrm>
              <a:prstGeom prst="line">
                <a:avLst/>
              </a:prstGeom>
              <a:ln w="3816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7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olymerization and Process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41960" y="3821040"/>
            <a:ext cx="3509280" cy="2257560"/>
            <a:chOff x="741960" y="3821040"/>
            <a:chExt cx="3509280" cy="2257560"/>
          </a:xfrm>
        </p:grpSpPr>
        <p:sp>
          <p:nvSpPr>
            <p:cNvPr id="264" name=""/>
            <p:cNvSpPr/>
            <p:nvPr/>
          </p:nvSpPr>
          <p:spPr>
            <a:xfrm>
              <a:off x="741960" y="3821040"/>
              <a:ext cx="3509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no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tive initi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dditives (filler,colorants..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5200" y="5167440"/>
              <a:ext cx="29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in grow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rmination (R-C-C-R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06560" y="5951520"/>
              <a:ext cx="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24080" y="5951520"/>
              <a:ext cx="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06560" y="5443560"/>
              <a:ext cx="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4080" y="5443560"/>
              <a:ext cx="0" cy="127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205160" y="2843280"/>
            <a:ext cx="4938840" cy="3608280"/>
            <a:chOff x="4205160" y="2843280"/>
            <a:chExt cx="4938840" cy="3608280"/>
          </a:xfrm>
        </p:grpSpPr>
        <p:sp>
          <p:nvSpPr>
            <p:cNvPr id="271" name=""/>
            <p:cNvSpPr/>
            <p:nvPr/>
          </p:nvSpPr>
          <p:spPr>
            <a:xfrm>
              <a:off x="5250960" y="2843280"/>
              <a:ext cx="36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tru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jection molding (very fas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4205160" y="3790800"/>
              <a:ext cx="4938840" cy="266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745560" y="1141560"/>
            <a:ext cx="8046000" cy="2577960"/>
            <a:chOff x="745560" y="1141560"/>
            <a:chExt cx="8046000" cy="2577960"/>
          </a:xfrm>
        </p:grpSpPr>
        <p:sp>
          <p:nvSpPr>
            <p:cNvPr id="274" name=""/>
            <p:cNvSpPr/>
            <p:nvPr/>
          </p:nvSpPr>
          <p:spPr>
            <a:xfrm>
              <a:off x="745560" y="2894040"/>
              <a:ext cx="164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ss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mpera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2284560" y="1141560"/>
              <a:ext cx="650700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45920" y="1157400"/>
              <a:ext cx="144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D stru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307880" y="2209680"/>
              <a:ext cx="116820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08240" y="2209680"/>
              <a:ext cx="0" cy="711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onomers =&gt; Polym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969120" y="1390680"/>
            <a:ext cx="5495040" cy="3504600"/>
            <a:chOff x="969120" y="1390680"/>
            <a:chExt cx="5495040" cy="3504600"/>
          </a:xfrm>
        </p:grpSpPr>
        <p:sp>
          <p:nvSpPr>
            <p:cNvPr id="281" name=""/>
            <p:cNvSpPr/>
            <p:nvPr/>
          </p:nvSpPr>
          <p:spPr>
            <a:xfrm>
              <a:off x="5195880" y="1390680"/>
              <a:ext cx="32256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67200" y="1390680"/>
              <a:ext cx="32256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95880" y="2422440"/>
              <a:ext cx="32256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67200" y="2422440"/>
              <a:ext cx="32256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46720" y="1711440"/>
              <a:ext cx="12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930640" y="172404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96240" y="188928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7560" y="190188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108840" y="2082960"/>
              <a:ext cx="288720" cy="2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11960" y="208908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33800" y="2082960"/>
              <a:ext cx="317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69120" y="1792440"/>
              <a:ext cx="253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lytretrafluorethyle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TF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08720" y="2846520"/>
              <a:ext cx="199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lyvinylchlori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V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62440" y="24447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33760" y="244476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62440" y="34765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120" y="3476520"/>
              <a:ext cx="4201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13280" y="2765520"/>
              <a:ext cx="12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597200" y="277812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62800" y="29433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34120" y="29559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775040" y="3137040"/>
              <a:ext cx="298440" cy="2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78160" y="314316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619440" y="3137040"/>
              <a:ext cx="298440" cy="28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9240" y="34225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30920" y="342252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59240" y="445464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35240" y="4454640"/>
              <a:ext cx="608760" cy="440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10080" y="3743280"/>
              <a:ext cx="1296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5994000" y="375588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59600" y="39211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31280" y="39337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84240" y="4014720"/>
              <a:ext cx="165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lypropyle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165720" y="411768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68840" y="412416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010120" y="411768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951480" y="4935600"/>
            <a:ext cx="7141680" cy="1702800"/>
            <a:chOff x="951480" y="4935600"/>
            <a:chExt cx="7141680" cy="1702800"/>
          </a:xfrm>
        </p:grpSpPr>
        <p:sp>
          <p:nvSpPr>
            <p:cNvPr id="318" name=""/>
            <p:cNvSpPr/>
            <p:nvPr/>
          </p:nvSpPr>
          <p:spPr>
            <a:xfrm>
              <a:off x="3925800" y="51562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54160" y="5089680"/>
              <a:ext cx="608760" cy="440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5800" y="618804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7560" y="6197760"/>
              <a:ext cx="608760" cy="440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76640" y="5477040"/>
              <a:ext cx="12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5860800" y="5479920"/>
              <a:ext cx="12600" cy="7621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26160" y="56545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97720" y="565776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52960" y="5483160"/>
              <a:ext cx="3240" cy="165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022800" y="5851080"/>
              <a:ext cx="29880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26040" y="586728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666960" y="586080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70480" y="5511960"/>
              <a:ext cx="914400" cy="723600"/>
            </a:xfrm>
            <a:prstGeom prst="hexagon">
              <a:avLst>
                <a:gd name="adj" fmla="val 31592"/>
                <a:gd name="vf" fmla="val 115470"/>
              </a:avLst>
            </a:prstGeom>
            <a:noFill/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0280" y="5626080"/>
              <a:ext cx="505080" cy="466920"/>
            </a:xfrm>
            <a:prstGeom prst="ellipse">
              <a:avLst/>
            </a:prstGeom>
            <a:noFill/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394240" y="587016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87880" y="51562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59560" y="515628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87880" y="618804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9560" y="6188040"/>
              <a:ext cx="36504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39080" y="5477040"/>
              <a:ext cx="1260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623000" y="5489640"/>
              <a:ext cx="12960" cy="761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88600" y="565452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59920" y="5667480"/>
              <a:ext cx="349920" cy="3988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794720" y="585108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97840" y="5857920"/>
              <a:ext cx="26352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638760" y="5851080"/>
              <a:ext cx="298440" cy="32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94240" y="56595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1480" y="5484960"/>
              <a:ext cx="274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olyethylene terephtal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4520" y="4935600"/>
              <a:ext cx="93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romatic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haracteristics: Molecular Weigh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9520" y="1870200"/>
            <a:ext cx="46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in length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cular weigh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4120" y="2657520"/>
            <a:ext cx="48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g/mole – short chains: liquid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0g/mole – waxy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10000g/mole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igh polym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6200" y="4984920"/>
            <a:ext cx="7798320" cy="1684080"/>
            <a:chOff x="736200" y="4984920"/>
            <a:chExt cx="7798320" cy="1684080"/>
          </a:xfrm>
        </p:grpSpPr>
        <p:sp>
          <p:nvSpPr>
            <p:cNvPr id="351" name=""/>
            <p:cNvSpPr/>
            <p:nvPr/>
          </p:nvSpPr>
          <p:spPr>
            <a:xfrm>
              <a:off x="5181480" y="4991040"/>
              <a:ext cx="3353040" cy="1231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6200" y="5045040"/>
              <a:ext cx="423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gree of polymerization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average number of mer units in chain)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"/>
                <p:cNvSpPr txBox="1"/>
                <p:nvPr/>
              </p:nvSpPr>
              <p:spPr>
                <a:xfrm>
                  <a:off x="5559480" y="4984920"/>
                  <a:ext cx="2520720" cy="130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"/>
            <p:cNvSpPr/>
            <p:nvPr/>
          </p:nvSpPr>
          <p:spPr>
            <a:xfrm>
              <a:off x="750600" y="6300720"/>
              <a:ext cx="48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er molecule weight (homopolymer</a:t>
              </a: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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polymer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829480" y="6146640"/>
              <a:ext cx="1244520" cy="368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321160" y="2629080"/>
            <a:ext cx="35816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haracteristics: Molecular Weigh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1360" y="1577880"/>
            <a:ext cx="67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ymeriz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ymer chains of different length – molecular we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0120" y="298764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average molecular weigh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648400" y="2813040"/>
                <a:ext cx="29289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5321160" y="4343400"/>
            <a:ext cx="35816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648400" y="4527720"/>
                <a:ext cx="292896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7581960" y="3517920"/>
            <a:ext cx="1440" cy="6285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924360" y="4140360"/>
            <a:ext cx="3657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37640" y="3886200"/>
            <a:ext cx="273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umber frac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how many polymers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7583040" y="5283360"/>
            <a:ext cx="11160" cy="6411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936960" y="5905440"/>
            <a:ext cx="3657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49880" y="5651640"/>
            <a:ext cx="264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ight frac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weight of polymers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2320" y="474012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ght average molecular weigh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verage Molecular Weigh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844640" y="1300320"/>
            <a:ext cx="5224320" cy="5032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40:19Z</dcterms:created>
  <dc:creator>Student</dc:creator>
  <dc:description/>
  <dc:language>en-US</dc:language>
  <cp:lastModifiedBy>TS</cp:lastModifiedBy>
  <dcterms:modified xsi:type="dcterms:W3CDTF">2007-01-14T20:40:29Z</dcterms:modified>
  <cp:revision>108</cp:revision>
  <dc:subject/>
  <dc:title>Rasterelektronenmikroskopie</dc:title>
</cp:coreProperties>
</file>